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472-A630-41E7-AC82-A9F9C398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24E-DF75-4596-8C44-CB36BFA0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AA2-D122-48F8-BA0B-A3C3E452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9DF-C0EF-4848-BAC4-B32C28DC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F67-EF6B-4C33-979F-D686C6C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D94-A773-41C4-9F54-455D80D6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B84-3CAA-4C96-8191-B8FA3588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2B8-D7DF-48F2-82AB-730219E8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39F-75E3-4EF3-90F3-BCDEBA1A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FCC-3863-4019-A472-7097436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13D-5D7E-4AA8-A310-9140A658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FFE-C53B-4B82-AC63-117616A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2476-A8A5-421D-A071-3FA2131E2C8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8 </a:t>
            </a:r>
            <a:br>
              <a:rPr sz="9600"/>
            </a:b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Presen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38088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8.  O presente  da disposicão de ser gra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A forma mais fácil de fazer as pessoas se sentirem bem é dizer coisas que não são difíceis de dizer, como: “Olá" e "Muito obrigado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3757680"/>
            <a:ext cx="2057400" cy="31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s amigos são jóias raras  que podem fazer você ficar bravo e sorrir, que pouco a pouco aprendem a escutar, e a animá-lo. E eles sempre abrirão seus corações. Demonstre a seus amigos </a:t>
            </a:r>
            <a:br>
              <a:rPr sz="3200"/>
            </a:b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 quanto  os consi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43200" y="3114720"/>
          <a:ext cx="4952880" cy="37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114720"/>
                    <a:ext cx="4952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split dir="out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228600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99"/>
                </a:solidFill>
                <a:latin typeface="Comic Sans MS"/>
              </a:rPr>
              <a:t>OITO PRESENTES QUE NÃO CUSTAM UM CENTAV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87020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403280" cy="109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457200"/>
            <a:ext cx="180000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685800"/>
            <a:ext cx="147492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" y="3048120"/>
            <a:ext cx="1330200" cy="166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53341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666880" y="5029200"/>
            <a:ext cx="125100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648320" y="5029200"/>
            <a:ext cx="1008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14400"/>
            <a:ext cx="65530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ff33"/>
                </a:solidFill>
                <a:latin typeface="Comic Sans MS"/>
                <a:ea typeface="Arial Unicode MS"/>
              </a:rPr>
              <a:t>1. O presente de escut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Comic Sans MS"/>
              </a:rPr>
              <a:t>Mas realmente escutar, sem interromper, bocejar, ou criticar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050920" cy="29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39625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</a:rPr>
              <a:t>Só escu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094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cc"/>
                </a:solidFill>
                <a:latin typeface="Comic Sans MS"/>
              </a:rPr>
              <a:t>2. O presente do Carinh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Seja generoso com beijos, abraços,  apertos de mão… Estas pequenas ações demonstram  carinho por sua família e amig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2730600" cy="242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62520" y="53352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3.- O presente do  sorris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Encha a  vida deles  com “smiles”, imagens e  desenhos que fazem sorrir e seu presente dirá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362320"/>
          <a:ext cx="289548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2895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609480" y="1600200"/>
            <a:ext cx="2876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SORRIA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562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Gosto de rir com você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4.  O presente dos bilhe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to pode ser um simples “obrigado por ajudar-me“. Um detalhe como este pode ser recordado por toda uma vida e até transform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77496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6095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5. O presente de um cumprim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Um simples e sincero “genial ", “você fez um grande trabalho" ou “a  comida estava deliciosa" pode tornar um dia  especial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6449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762120"/>
            <a:ext cx="6019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Bookman Old Style"/>
                <a:ea typeface="Arial Unicode MS"/>
              </a:rPr>
              <a:t>6. O  presente do fav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Todos os días procure fazer um favor a alguém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não importa que não receba recompen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1827360" cy="3481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38088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7.  O presente da solidã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  <a:ea typeface="Arial Unicode MS"/>
              </a:rPr>
              <a:t>Há dias que não há nada melhor que estar só. Seja sensível, e dê este presente ou peça-o aos dema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7:35:21Z</dcterms:created>
  <dc:creator>Horacio Fernandez</dc:creator>
  <dc:description/>
  <dc:language>en-US</dc:language>
  <cp:lastModifiedBy>WinXP_Pro</cp:lastModifiedBy>
  <dcterms:modified xsi:type="dcterms:W3CDTF">2004-09-18T12:26:46Z</dcterms:modified>
  <cp:revision>35</cp:revision>
  <dc:subject/>
  <dc:title>8  Regalos</dc:title>
</cp:coreProperties>
</file>