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Amazing%20grace%20solo%20feminino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9902-D642-4BF3-813C-96A78582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320B-8D31-465C-9794-B91EADE7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F206-ACAE-49C4-B9FF-D90EAC908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6386-CCBA-47B8-9ED5-C8157BF0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1CDC-DCC0-4127-8DF2-E50DAC37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AE0D-AB76-4B8F-A6FF-15A5BB82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69A3-2EC5-4A87-9F47-C0F6B30F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38C8-AA84-4B7E-A538-A8A9907C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9627-F694-445F-A622-EC785768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C6A1-D274-4744-A722-BF5EC226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7759-7553-4B87-A299-EDB023C0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9E21-304D-409D-AA70-7441D07A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7A4E-A704-4CFF-A9E7-FEFE4D1E3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000000"/>
            </a:solidFill>
            <a:miter/>
          </a:ln>
          <a:effectLst>
            <a:outerShdw dist="17819" dir="2700000" blurRad="0" rotWithShape="0">
              <a:srgbClr val="1733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283600" y="6381720"/>
            <a:ext cx="86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pt-BR" sz="900" spc="-1" strike="noStrike">
                <a:solidFill>
                  <a:srgbClr val="ffffff"/>
                </a:solidFill>
                <a:latin typeface="Times New Roman"/>
              </a:rPr>
              <a:t>Colacio.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audio" Target="../media/Amazing%20grace%20solo%20feminino.wav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71640" y="1989000"/>
            <a:ext cx="727236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LACIO. J  SLI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PRESEN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333360"/>
            <a:ext cx="8424720" cy="6191280"/>
          </a:xfrm>
          <a:prstGeom prst="plus">
            <a:avLst>
              <a:gd name="adj" fmla="val 8519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00000" y="2060640"/>
            <a:ext cx="600120" cy="600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740720" y="213372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8360" y="1484280"/>
            <a:ext cx="8172360" cy="216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5229360"/>
            <a:ext cx="8172360" cy="2156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18920" y="5950080"/>
            <a:ext cx="61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guarde a rolagem  automática do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l"/>
    <p:sndAc>
      <p:stSnd>
        <p:snd r:embed="rId4" name="Amazing%20grace%20solo%20feminino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333360"/>
            <a:ext cx="8424720" cy="6191280"/>
          </a:xfrm>
          <a:prstGeom prst="plus">
            <a:avLst>
              <a:gd name="adj" fmla="val 8519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24000" y="314172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Verdana"/>
              </a:rPr>
              <a:t>SENHOR! 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91920" y="5877000"/>
            <a:ext cx="39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utora Texto: Ilze So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484280"/>
            <a:ext cx="8172360" cy="216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5229360"/>
            <a:ext cx="8172360" cy="2156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908000" y="3213000"/>
            <a:ext cx="600120" cy="600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300720" y="3213000"/>
            <a:ext cx="600120" cy="600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284720" y="1014480"/>
            <a:ext cx="4606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alme seus filhos nas horas de desespero e dor, mostrando-lhes o Seu amo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ando estivermos cegos, sem enxergarmos o caminho, ampare-nos com Seu carinho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stre-nos a Sua Luz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e a todos conduz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284720" y="1014480"/>
            <a:ext cx="4606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ando estivermos descrentes deste mundo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stre a todos que,         no fundo, só o Senhor pode nos aliviar o sofriment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i, derrame as bênçãos da resignação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obre os que sofrem as dores do coração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284720" y="975960"/>
            <a:ext cx="4606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rrame seus bálsamos de paz, sobre quem que ainda não é capaz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 reconhecer que o Senhor é a Esperança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 caridade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 mais pura bondade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 força da crenç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 amor que conduz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is o Senhor é Jesus!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211640" y="490680"/>
            <a:ext cx="4606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esta noite, Senhor, rogo-Lhe que permit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os anjos protetores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elarem o sono dos habitantes deste planeta tão distante da paz que almejamos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e um dia possamo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iver em perfeita harmonia, como verdadeiros filhos de Maria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ssim seja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5280" y="333360"/>
            <a:ext cx="8424720" cy="6191280"/>
          </a:xfrm>
          <a:prstGeom prst="plus">
            <a:avLst>
              <a:gd name="adj" fmla="val 8519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1989000"/>
            <a:ext cx="799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Créd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utora Texto: Ilze Soa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Imagem da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Música: Amazing G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resentação: Colacio.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tato: colacio.j@superig.com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05/11/2009 - 20:00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484280"/>
            <a:ext cx="8172360" cy="216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5229360"/>
            <a:ext cx="8172360" cy="2156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42920" y="587700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http://www.ilzesoares.recantodasletras.com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21:42:28Z</dcterms:created>
  <dc:creator>Colacio.j Slides</dc:creator>
  <dc:description>Autora Texto: Ilze Soares 
Imagem da internet
Música: Amazing Grace
Apresentação: Colacio.j
Contato: colacio.j@superig.com.br
Visite o site:
Criado em: 05/11/2009 - 20:00hs
</dc:description>
  <dc:language>en-US</dc:language>
  <cp:lastModifiedBy>terminal</cp:lastModifiedBy>
  <dcterms:modified xsi:type="dcterms:W3CDTF">2009-11-05T22:04:47Z</dcterms:modified>
  <cp:revision>3</cp:revision>
  <dc:subject>Apresentação slides</dc:subject>
  <dc:title>Senhor! - Ilze Soares</dc:title>
</cp:coreProperties>
</file>