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Amazing%20grace%20solo%20feminin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C65-8D62-4635-91F4-8A76C544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5D8-7341-422E-8B8A-1DF82CD1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08D-285D-47E3-8F1E-9E801ED5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26A-B13F-448D-A5C9-4499EF92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9CA-B1F7-497A-B7D7-CE12CE65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1C8-7CA4-4BF6-BCCC-092060BF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3F6-3042-4C19-8CEF-68A61FE9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949-1EBD-49E6-9144-37AAFF2E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CCB-C644-4C21-A742-D04A3B77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277-E5BA-4DCD-A14F-57EFAB0B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07D-FC63-42EA-B13D-A502315C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BE2-965A-4F09-BEF4-9C39D986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B848-828F-476C-B0D4-B3906DE3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00000"/>
            </a:solidFill>
            <a:miter/>
          </a:ln>
          <a:effectLst>
            <a:outerShdw dist="17819" dir="2700000" blurRad="0" rotWithShape="0">
              <a:srgbClr val="1733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283600" y="638172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pt-BR" sz="900" spc="-1" strike="noStrike">
                <a:solidFill>
                  <a:srgbClr val="ffffff"/>
                </a:solidFill>
                <a:latin typeface="Times New Roman"/>
              </a:rPr>
              <a:t>Colacio.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Amazing%20grace%20solo%20feminino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1989000"/>
            <a:ext cx="7272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LACIO. J  SL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PRESEN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33360"/>
            <a:ext cx="8424720" cy="6191280"/>
          </a:xfrm>
          <a:prstGeom prst="plus">
            <a:avLst>
              <a:gd name="adj" fmla="val 851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0000" y="206064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740720" y="213372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1484280"/>
            <a:ext cx="817236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229360"/>
            <a:ext cx="8172360" cy="215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8920" y="59500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uarde a rolagem  automática do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l"/>
    <p:sndAc>
      <p:stSnd>
        <p:snd r:embed="rId4" name="Amazing%20grace%20solo%20feminin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333360"/>
            <a:ext cx="8424720" cy="6191280"/>
          </a:xfrm>
          <a:prstGeom prst="plus">
            <a:avLst>
              <a:gd name="adj" fmla="val 851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314172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SENHOR! 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91920" y="5877000"/>
            <a:ext cx="39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ora Texto: Ilze So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484280"/>
            <a:ext cx="817236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229360"/>
            <a:ext cx="8172360" cy="215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08000" y="321300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300720" y="3213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284720" y="1014480"/>
            <a:ext cx="460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alme seus filhos nas horas de desespero e dor, mostrando-lhes o Seu am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ndo estivermos cegos, sem enxergarmos o caminho, ampare-nos com Seu carinho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stre-nos a Sua Luz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e a todos conduz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84720" y="1014480"/>
            <a:ext cx="460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ndo estivermos descrentes deste mundo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stre a todos que,         no fundo, só o Senhor pode nos aliviar o sofriment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i, derrame as bênçãos da resignação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bre os que sofrem as dores do coraçã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84720" y="975960"/>
            <a:ext cx="4606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rrame seus bálsamos de paz, sobre quem que ainda não é capaz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 reconhecer que o Senhor é a Esperança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 caridade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 mais pura bondade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 força da crenç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 amor que conduz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is o Senhor é Jesus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211640" y="490680"/>
            <a:ext cx="4606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sta noite, Senhor, rogo-Lhe que permit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os anjos protetores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elarem o sono dos habitantes deste planeta tão distante da paz que almejamos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e um dia possamo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iver em perfeita harmonia, como verdadeiros filhos de Maria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sim seja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333360"/>
            <a:ext cx="8424720" cy="6191280"/>
          </a:xfrm>
          <a:prstGeom prst="plus">
            <a:avLst>
              <a:gd name="adj" fmla="val 8519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98900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utora Texto: Ilze So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magem d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úsica: Amazing 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resentação: Colacio.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tato: colacio.j@superig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05/11/2009 - 20:00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84280"/>
            <a:ext cx="817236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229360"/>
            <a:ext cx="8172360" cy="215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87700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http://www.ilzesoares.recantodasletras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1:42:28Z</dcterms:created>
  <dc:creator>Colacio.j Slides</dc:creator>
  <dc:description>Autora Texto: Ilze Soares 
Imagem da internet
Música: Amazing Grace
Apresentação: Colacio.j
Contato: colacio.j@superig.com.br
Visite o site:
Criado em: 05/11/2009 - 20:00hs
</dc:description>
  <dc:language>en-US</dc:language>
  <cp:lastModifiedBy>terminal</cp:lastModifiedBy>
  <dcterms:modified xsi:type="dcterms:W3CDTF">2009-11-05T22:04:47Z</dcterms:modified>
  <cp:revision>3</cp:revision>
  <dc:subject>Apresentação slides</dc:subject>
  <dc:title>Senhor! - Ilze Soares</dc:title>
</cp:coreProperties>
</file>