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printemps%20au%20Japon_001.wav" ContentType="audio/x-wav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976-E7C4-4ED0-BE2B-CD9AE845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B32-45C8-4475-ACCB-41920CEA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619-04D5-44E2-963C-D3E27E90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3DA-E5CB-4D91-8F0E-09B6A1C3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4E5-FCDD-4119-8C17-CDE6E82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3F0-7D94-4D93-9163-678351CB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EEB-20AE-4086-A5E6-3F71AFC9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605-D16C-4F4D-955C-1C50D5B3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6BA-31D2-42D3-A27F-FF83E83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90E-C0A8-4A43-BCA2-16D600E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86C-4964-435A-B049-0EDEACA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29F-9725-429F-AC5A-8D500B2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FDA-F5DB-42DC-8C7C-65F4C12E47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printemps%20au%20Japon_001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BOM DE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  </a:t>
            </a: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PARA NÃO S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COMPARTILH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Quelques-psaumes-I_005"/>
          <p:cNvPicPr/>
          <p:nvPr/>
        </p:nvPicPr>
        <p:blipFill>
          <a:blip r:embed="rId1"/>
          <a:stretch/>
        </p:blipFill>
        <p:spPr>
          <a:xfrm>
            <a:off x="8028000" y="260280"/>
            <a:ext cx="90648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Quelques-psaumes-I_010"/>
          <p:cNvPicPr/>
          <p:nvPr/>
        </p:nvPicPr>
        <p:blipFill>
          <a:blip r:embed="rId2"/>
          <a:stretch/>
        </p:blipFill>
        <p:spPr>
          <a:xfrm>
            <a:off x="179280" y="260280"/>
            <a:ext cx="100656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ne et 10 canetons"/>
          <p:cNvPicPr/>
          <p:nvPr/>
        </p:nvPicPr>
        <p:blipFill>
          <a:blip r:embed="rId3"/>
          <a:stretch/>
        </p:blipFill>
        <p:spPr>
          <a:xfrm>
            <a:off x="250920" y="5661000"/>
            <a:ext cx="12366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hats"/>
          <p:cNvPicPr/>
          <p:nvPr/>
        </p:nvPicPr>
        <p:blipFill>
          <a:blip r:embed="rId4"/>
          <a:stretch/>
        </p:blipFill>
        <p:spPr>
          <a:xfrm>
            <a:off x="7740720" y="5734080"/>
            <a:ext cx="122400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aton de Christelle été 2012ret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042920" y="-28440"/>
            <a:ext cx="7058160" cy="69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ièce jointe sans titre 0002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mage00333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Bambi,lapin 6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ygne et petits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x39ak1md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9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186080" y="27147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973160" y="0"/>
            <a:ext cx="5197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ièce jointe sans titre 00007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ièce jointe sans titre 0002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51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966dbcb03333334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56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21:17:44Z</dcterms:created>
  <dc:creator>Kieber Monique</dc:creator>
  <dc:description/>
  <dc:language>en-US</dc:language>
  <cp:lastModifiedBy>Suze Mara</cp:lastModifiedBy>
  <dcterms:modified xsi:type="dcterms:W3CDTF">2013-03-01T15:03:52Z</dcterms:modified>
  <cp:revision>4</cp:revision>
  <dc:subject/>
  <dc:title>Diapositive 1</dc:title>
</cp:coreProperties>
</file>