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printemps%20au%20Japon_001.wav" ContentType="audio/x-wav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C99-A6C8-4EA5-BB63-0782E031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562-ACFF-44FB-A141-C2D8A273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B68-9F3F-4E79-B29D-6540F4C5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171-6A7B-4ABD-916C-3C5D5FAC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D7C-4C7B-48CC-9461-C4FCDC2D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029-0302-4401-8CAE-B4F7EAE7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502-4E00-4C57-A997-BEC1AB9F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CB1-1A64-44CE-8856-C109B501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5EB-DB46-4F5F-831B-DA750680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47F-BA8D-4A3A-B75C-2AECAB1E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DD0-BBE8-40ED-A258-E65DA149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CF0-DF41-4B66-887F-8694820E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6D49-63DB-4819-9788-E94B2E0277D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printemps%20au%20Japon_001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stellar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333399"/>
                </a:solidFill>
                <a:latin typeface="Castellar"/>
              </a:rPr>
              <a:t>BOM DE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333399"/>
                </a:solidFill>
                <a:latin typeface="Castellar"/>
              </a:rPr>
              <a:t>  </a:t>
            </a:r>
            <a:r>
              <a:rPr b="1" lang="fr-FR" sz="6000" spc="-1" strike="noStrike">
                <a:solidFill>
                  <a:srgbClr val="333399"/>
                </a:solidFill>
                <a:latin typeface="Castellar"/>
              </a:rPr>
              <a:t>PARA NÃO S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333399"/>
                </a:solidFill>
                <a:latin typeface="Castellar"/>
              </a:rPr>
              <a:t>COMPARTILH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Quelques-psaumes-I_005"/>
          <p:cNvPicPr/>
          <p:nvPr/>
        </p:nvPicPr>
        <p:blipFill>
          <a:blip r:embed="rId1"/>
          <a:stretch/>
        </p:blipFill>
        <p:spPr>
          <a:xfrm>
            <a:off x="8028000" y="260280"/>
            <a:ext cx="90648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Quelques-psaumes-I_010"/>
          <p:cNvPicPr/>
          <p:nvPr/>
        </p:nvPicPr>
        <p:blipFill>
          <a:blip r:embed="rId2"/>
          <a:stretch/>
        </p:blipFill>
        <p:spPr>
          <a:xfrm>
            <a:off x="179280" y="260280"/>
            <a:ext cx="100656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ne et 10 canetons"/>
          <p:cNvPicPr/>
          <p:nvPr/>
        </p:nvPicPr>
        <p:blipFill>
          <a:blip r:embed="rId3"/>
          <a:stretch/>
        </p:blipFill>
        <p:spPr>
          <a:xfrm>
            <a:off x="250920" y="5661000"/>
            <a:ext cx="12366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hats"/>
          <p:cNvPicPr/>
          <p:nvPr/>
        </p:nvPicPr>
        <p:blipFill>
          <a:blip r:embed="rId4"/>
          <a:stretch/>
        </p:blipFill>
        <p:spPr>
          <a:xfrm>
            <a:off x="7740720" y="5734080"/>
            <a:ext cx="122400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haton de Christelle été 2012retd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042920" y="-28440"/>
            <a:ext cx="7058160" cy="69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ièce jointe sans titre 0002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image003333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Bambi,lapin 6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ygne et petits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x39ak1md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9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186080" y="27147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1973160" y="0"/>
            <a:ext cx="5197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ièce jointe sans titre 00007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ièce jointe sans titre 0002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578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835200"/>
            <a:ext cx="9144000" cy="51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966dbcb03333334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258920" y="0"/>
            <a:ext cx="656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8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a7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4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21:17:44Z</dcterms:created>
  <dc:creator>Kieber Monique</dc:creator>
  <dc:description/>
  <dc:language>en-US</dc:language>
  <cp:lastModifiedBy>Suze Mara</cp:lastModifiedBy>
  <dcterms:modified xsi:type="dcterms:W3CDTF">2013-03-01T15:03:52Z</dcterms:modified>
  <cp:revision>4</cp:revision>
  <dc:subject/>
  <dc:title>Diapositive 1</dc:title>
</cp:coreProperties>
</file>