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Stephen%20Schlaks%20-%20What%20are%20you%20doing%20tonight.wav" ContentType="audio/x-wav"/>
  <Override PartName="/ppt/media/image3.gif" ContentType="image/gif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23C9-8B0A-4F1A-90D5-31633280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6537-3361-40C0-A177-9A6CBCAB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8D1-6A96-4336-A97A-7A0ED18D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05E4-B3F5-45D0-839B-5AA9F0DA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388A-AB13-45A3-851F-2D871F65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2F0-10BF-44A8-85F7-8811D2DE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C32E-5FA4-4F67-BBB3-1CCEBEF6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0B39-BF51-430C-9C05-6CE5910F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686D-699C-4797-9346-8F20D360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502A-B8CD-4B63-A6F0-D034C166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BBE-EB40-4AD8-8995-D0FBA6AD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6BF9-6B5F-4C0E-AFA7-60078E05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BCFC-0953-47E8-8683-BC437DE19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audio" Target="../media/Stephen%20Schlaks%20-%20What%20are%20you%20doing%20tonight.wav"/><Relationship Id="rId1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6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7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8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9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10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gif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hyperlink" Target="http://www.leticiathompson.net/" TargetMode="External"/><Relationship Id="rId13" Type="http://schemas.openxmlformats.org/officeDocument/2006/relationships/hyperlink" Target="mailto:bethnorling@globo.com" TargetMode="External"/><Relationship Id="rId1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e8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250920" y="260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466560" y="476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 rot="10669800">
            <a:off x="7451280" y="515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 rot="10669800">
            <a:off x="7236000" y="501264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476360" y="1268280"/>
            <a:ext cx="62643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0">
                  <a:noFill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 CAMINHO DO APRENDIZADO</a:t>
            </a:r>
            <a:endParaRPr b="0" i="1" lang="en-US" sz="4000" spc="1" strike="noStrike">
              <a:ln w="0">
                <a:noFill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132000" y="5373720"/>
            <a:ext cx="29624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400" spc="1" strike="noStrike">
              <a:ln w="0">
                <a:noFill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e8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250920" y="260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466560" y="476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 rot="10669800">
            <a:off x="7451280" y="515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 rot="10669800">
            <a:off x="7236000" y="501264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23840" y="3573360"/>
            <a:ext cx="7148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Tenho aprendido a cada dia da v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Nem sempre como eu quero e isso é o mais doloroso, mesmo se não menos gratific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Quando nos prendemos a nossas verdades, sem deixar uma fresta para a possibilidade de estarmos errados e com isso repararmos nosso erro, aprendemos de forma mais doloro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randomBa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e8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250920" y="260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466560" y="476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 rot="10669800">
            <a:off x="7451280" y="515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 rot="10669800">
            <a:off x="7236000" y="501264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50760" y="3860640"/>
            <a:ext cx="7221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Para que possamos aprender alguma coisa, precisamos primeiro reconhecer que não sabemos ai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Uma opinião alta e exagerada do que somos nos cega e fecha as portas para as oportunidades que a vida nos ofere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e8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250920" y="260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466560" y="476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 rot="10669800">
            <a:off x="7451280" y="515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1"/>
          <a:stretch/>
        </p:blipFill>
        <p:spPr>
          <a:xfrm rot="10669800">
            <a:off x="7236000" y="501264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50760" y="4365720"/>
            <a:ext cx="722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A soberba nunca nos eleva, muito pelo contrário, ela nos isola de todas as possibilidades de crescimento como ser humano e, principalmente espirit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randomBa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e8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250920" y="260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>
            <a:off x="466560" y="476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0"/>
          <a:stretch/>
        </p:blipFill>
        <p:spPr>
          <a:xfrm rot="10669800">
            <a:off x="7451280" y="515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1"/>
          <a:stretch/>
        </p:blipFill>
        <p:spPr>
          <a:xfrm rot="10669800">
            <a:off x="7236000" y="501264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50760" y="4221000"/>
            <a:ext cx="7293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Podemos mostrar às pessoas como gostaríamos de ser tratados, tratando-as da mesma manei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Indo na frente, distribuindo os passos de amor pelos quais deverão seguir. Ensinamos às pessoas como amar e nos am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randomBar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250920" y="260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466560" y="476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 rot="10669800">
            <a:off x="7451280" y="515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 rot="10669800">
            <a:off x="7236000" y="501264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50760" y="3645000"/>
            <a:ext cx="7293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Se não damos um beijo e um abraço porque não recebemos e que a outra pessoa reage da mesma maneira, então podemos colocar um ponto final nos beijos e abraços na nossa vida, até que alguém ce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Por que não nós a abrir o caminh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randomBar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250920" y="260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"/>
          <a:stretch/>
        </p:blipFill>
        <p:spPr>
          <a:xfrm>
            <a:off x="466560" y="476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 rot="10669800">
            <a:off x="7451280" y="515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 rot="10669800">
            <a:off x="7236000" y="501264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87280" y="1690560"/>
            <a:ext cx="676944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Texto: Letícia Thomp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O caminho do aprend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cc"/>
                </a:solidFill>
                <a:uFillTx/>
                <a:latin typeface="Verdana"/>
                <a:hlinkClick r:id="rId12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Música: </a:t>
            </a: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Stephen Schlaks – What are you doing ton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ffcc"/>
                </a:solidFill>
                <a:uFillTx/>
                <a:latin typeface="Verdana"/>
                <a:hlinkClick r:id="rId13"/>
              </a:rPr>
              <a:t>bethnorling@globo.com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0:14:15Z</dcterms:created>
  <dc:creator>Beth Norling</dc:creator>
  <dc:description/>
  <dc:language>en-US</dc:language>
  <cp:lastModifiedBy>Beth Norling</cp:lastModifiedBy>
  <dcterms:modified xsi:type="dcterms:W3CDTF">2007-06-07T21:19:57Z</dcterms:modified>
  <cp:revision>5</cp:revision>
  <dc:subject/>
  <dc:title>O_caminho_do_aprendizado</dc:title>
</cp:coreProperties>
</file>