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Rolf%20Lovland%20-%20Serenade%20to%20Springs2.14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7DD-B080-40EC-8599-29E3593D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EF2-05D2-462F-BE82-D18EAF57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F55-67C4-408F-A24E-7C967A0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CD7-9973-4E1A-9A80-D86FEF9A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F94-5D5E-4452-A856-DF51A429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586-0581-4803-8A7B-F512EFB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3CA-366A-40EE-B15A-F87372A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38F-0629-4E90-8D9B-D8317DA1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657-ECC1-4031-BF97-EACE6F06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F84-F468-41C5-94BF-1C04823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B54-021A-4AC2-A44D-926A1E0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743-97F4-407E-BEFC-F1B4394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DC62-B73D-4A2D-A8EC-98365A73B1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Rolf%20Lovland%20-%20Serenade%20to%20Springs2.14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leticiathompson.net/" TargetMode="External"/><Relationship Id="rId3" Type="http://schemas.openxmlformats.org/officeDocument/2006/relationships/hyperlink" Target="mailto:eliost@terra.com.br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390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390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3141720"/>
            <a:ext cx="67723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33ff"/>
                  </a:outerShdw>
                </a:effectLst>
                <a:latin typeface="Matura MT Script Capitals"/>
              </a:rPr>
              <a:t>A Primavera da Vida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33ff"/>
                </a:outerShdw>
              </a:effectLst>
              <a:latin typeface="Matura MT Script Capitals"/>
              <a:ea typeface="Matura MT Script Capitals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5229360"/>
            <a:ext cx="424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ivaldi"/>
              </a:rPr>
              <a:t>Letícia Thomps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over dir="ru"/>
    <p:sndAc>
      <p:stSnd>
        <p:snd r:embed="rId8" name="Rolf%20Lovland%20-%20Serenade%20to%20Springs2.1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500280"/>
            <a:ext cx="520524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ão é quando temos 18 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não sabemos nada de 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ensamos que sabemos tud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pens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nossas dores de am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rão etern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over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1197000"/>
            <a:ext cx="4700520" cy="40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ga quando nos senti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ntos para nasc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a as coisas boas e be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a vida nos oferec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nos sentimos bem conosco mes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odemos nos olhar no espelho e diz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Agora sei o que quer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i do que prec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sei o que vou busca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ão tenho medo de err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692280"/>
            <a:ext cx="7489800" cy="527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primavera d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ga quando olhamos para trá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m ressentiment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m arrependim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para o futuro com o brilho nos olh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 quem já descobr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dores não são et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alegrias também nã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que a gente v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sobrevive apesar de tu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É quando a gente descob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e nunca é tarde dema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a recomeça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200">
                  <a:alpha val="50196"/>
                </a:srgbClr>
              </a:gs>
              <a:gs pos="100000">
                <a:srgbClr val="4d0808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549360"/>
            <a:ext cx="8064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3500280"/>
            <a:ext cx="4916520" cy="26182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Autoria: Letícia Tho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leticiathompson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Música: Rolf Lov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renade to Sp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Imagens: da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*Formatação: Elio Strue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eliost@terra.com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783640" y="112536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12536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4472640" y="-1989720"/>
            <a:ext cx="19512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4472640" y="4273920"/>
            <a:ext cx="195480" cy="4537080"/>
          </a:xfrm>
          <a:prstGeom prst="flowChartTerminator">
            <a:avLst/>
          </a:prstGeom>
          <a:gradFill rotWithShape="0">
            <a:gsLst>
              <a:gs pos="0">
                <a:srgbClr val="9900ff"/>
              </a:gs>
              <a:gs pos="100000">
                <a:srgbClr val="6f00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0" y="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>
            <a:lum bright="-24000"/>
          </a:blip>
          <a:stretch/>
        </p:blipFill>
        <p:spPr>
          <a:xfrm>
            <a:off x="0" y="5195880"/>
            <a:ext cx="170028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7481880" y="5157720"/>
            <a:ext cx="1662120" cy="1700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>
            <a:lum bright="-24000"/>
          </a:blip>
          <a:stretch/>
        </p:blipFill>
        <p:spPr>
          <a:xfrm>
            <a:off x="7443720" y="0"/>
            <a:ext cx="1700280" cy="16621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cover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23:27:03Z</dcterms:created>
  <dc:creator>eliost@terra.com.br</dc:creator>
  <dc:description>PPS c/som e avanço automático, formatado por Elio Struecker</dc:description>
  <dc:language>en-US</dc:language>
  <cp:lastModifiedBy>ELIO_PC</cp:lastModifiedBy>
  <dcterms:modified xsi:type="dcterms:W3CDTF">2007-03-05T11:04:35Z</dcterms:modified>
  <cp:revision>9</cp:revision>
  <dc:subject/>
  <dc:title>A Primavera da Vida - Letícia Thompson</dc:title>
</cp:coreProperties>
</file>