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dana%20winner%20-%20ich%20liebe%20dich(2)166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53A4-315D-4E5A-BF4A-D13AC4C48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8094-9E37-4B69-8674-EE700D51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1198-8BC8-44B3-996F-349112924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B0C0-EC13-4993-B9F3-4DFB265BF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1AE7-7594-4ADA-881A-A6941DF3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0F00-918D-46B6-98D3-B2B3CC44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9C66-E29A-4868-BAD0-B350D970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AC9E-A2AE-4DA3-A7C5-C0EE42A4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68C5-6594-4FB5-89D6-6F111542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D1BE-E006-4119-8805-8DB9B00A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5DCB-E5E7-4A9C-BA34-81AE1E97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98A2-5535-4C86-8BA8-6AE624D1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C863-617F-46DC-AD55-BF52A533483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dana%20winner%20-%20ich%20liebe%20dich(2)166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tângulo 2"/>
          <p:cNvSpPr/>
          <p:nvPr/>
        </p:nvSpPr>
        <p:spPr>
          <a:xfrm>
            <a:off x="1643040" y="357120"/>
            <a:ext cx="6286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"Em ger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as mã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mais que amar os filh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amam-se nos filhos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(Friedrich Nietzsch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3"/>
          <p:cNvSpPr/>
          <p:nvPr/>
        </p:nvSpPr>
        <p:spPr>
          <a:xfrm>
            <a:off x="2000160" y="2857680"/>
            <a:ext cx="585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mic Sans MS"/>
              </a:rPr>
              <a:t>MÃES SÓ MORR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mic Sans MS"/>
              </a:rPr>
              <a:t>QUANDO QUEREM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entágono 4"/>
          <p:cNvSpPr/>
          <p:nvPr/>
        </p:nvSpPr>
        <p:spPr>
          <a:xfrm flipV="1">
            <a:off x="8286840" y="6571440"/>
            <a:ext cx="642960" cy="117720"/>
          </a:xfrm>
          <a:custGeom>
            <a:avLst/>
            <a:gdLst>
              <a:gd name="textAreaLeft" fmla="*/ 0 w 642960"/>
              <a:gd name="textAreaRight" fmla="*/ 642960 w 642960"/>
              <a:gd name="textAreaTop" fmla="*/ -360 h 117720"/>
              <a:gd name="textAreaBottom" fmla="*/ 117720 h 11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27" y="0"/>
                </a:lnTo>
                <a:lnTo>
                  <a:pt x="21600" y="10800"/>
                </a:lnTo>
                <a:lnTo>
                  <a:pt x="196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gifs enter neon"/>
          <p:cNvPicPr/>
          <p:nvPr/>
        </p:nvPicPr>
        <p:blipFill>
          <a:blip r:embed="rId2"/>
          <a:stretch/>
        </p:blipFill>
        <p:spPr>
          <a:xfrm>
            <a:off x="8048520" y="6381720"/>
            <a:ext cx="1095480" cy="333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  <p:sndAc>
      <p:stSnd>
        <p:snd r:embed="rId3" name="dana%20winner%20-%20ich%20liebe%20dich(2)166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tângulo 2"/>
          <p:cNvSpPr/>
          <p:nvPr/>
        </p:nvSpPr>
        <p:spPr>
          <a:xfrm>
            <a:off x="1714680" y="214200"/>
            <a:ext cx="72151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Apesar de tudo,                                      continuei acreditando na tese de que a mor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seria bem demorada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e aos poucos fui me sentindo mais distante e autônomo, mesmo que a intervalos regular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ela reaparecesse em minha vi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desempenhando papéis importantes e únicos.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Papéis que somente e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poderia protagonizar..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tângulo 2"/>
          <p:cNvSpPr/>
          <p:nvPr/>
        </p:nvSpPr>
        <p:spPr>
          <a:xfrm>
            <a:off x="2714760" y="428760"/>
            <a:ext cx="5643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Mas o final dessa história,                        ao contrário do que eu sempre imaginei,  foi ela quem defini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tângulo 3"/>
          <p:cNvSpPr/>
          <p:nvPr/>
        </p:nvSpPr>
        <p:spPr>
          <a:xfrm>
            <a:off x="2857680" y="2786040"/>
            <a:ext cx="585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Quando menos esperava, ela decidiu morre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tângulo 2"/>
          <p:cNvSpPr/>
          <p:nvPr/>
        </p:nvSpPr>
        <p:spPr>
          <a:xfrm>
            <a:off x="2428920" y="285840"/>
            <a:ext cx="635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Assim, sem mais, nem menos,                      sem pedir licença ou permissão,                      sem data marcada ou ocasião para despedid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minha tese da morte bem demorada ruiu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tângulo 3"/>
          <p:cNvSpPr/>
          <p:nvPr/>
        </p:nvSpPr>
        <p:spPr>
          <a:xfrm>
            <a:off x="2928960" y="1928880"/>
            <a:ext cx="621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Ela simplesmente se foi,                            deixando a lição que mães não são para sempr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ângulo 4"/>
          <p:cNvSpPr/>
          <p:nvPr/>
        </p:nvSpPr>
        <p:spPr>
          <a:xfrm>
            <a:off x="2714760" y="2857680"/>
            <a:ext cx="5786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Ao contrário do que sempre imaginei,        são elas que decidem o quanto esta eternidade pode durar em vida,                e o quanto fica relegado                      para o etéreo terreno da saudade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aixaDeTexto 5"/>
          <p:cNvSpPr/>
          <p:nvPr/>
        </p:nvSpPr>
        <p:spPr>
          <a:xfrm>
            <a:off x="5572080" y="6286680"/>
            <a:ext cx="35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Desconheço o 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tângulo 3"/>
          <p:cNvSpPr/>
          <p:nvPr/>
        </p:nvSpPr>
        <p:spPr>
          <a:xfrm>
            <a:off x="2571840" y="285840"/>
            <a:ext cx="657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Não sei... Se a vida é curta </a:t>
            </a:r>
            <a:br>
              <a:rPr sz="2000"/>
            </a:b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Ou longa demais pra nós,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tângulo 4"/>
          <p:cNvSpPr/>
          <p:nvPr/>
        </p:nvSpPr>
        <p:spPr>
          <a:xfrm>
            <a:off x="2714760" y="1285920"/>
            <a:ext cx="61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Mas descobri que devemos amar as pessoas, enquanto elas estão por aqui..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tângulo 2"/>
          <p:cNvSpPr/>
          <p:nvPr/>
        </p:nvSpPr>
        <p:spPr>
          <a:xfrm>
            <a:off x="2786040" y="28584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É por isso que temos que amá-la sempre!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tângulo 5"/>
          <p:cNvSpPr/>
          <p:nvPr/>
        </p:nvSpPr>
        <p:spPr>
          <a:xfrm>
            <a:off x="2928960" y="20718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Nunca saberemos quando ela vai querer partir..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tângulo 8"/>
          <p:cNvSpPr/>
          <p:nvPr/>
        </p:nvSpPr>
        <p:spPr>
          <a:xfrm>
            <a:off x="2928960" y="278604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O vazio que fica, nunca conseguiremos preencher..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tângulo 9"/>
          <p:cNvSpPr/>
          <p:nvPr/>
        </p:nvSpPr>
        <p:spPr>
          <a:xfrm>
            <a:off x="2571840" y="414324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Para quem ainda a tem ao seu lado, ame-a..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tângulo 2"/>
          <p:cNvSpPr/>
          <p:nvPr/>
        </p:nvSpPr>
        <p:spPr>
          <a:xfrm>
            <a:off x="2500200" y="357120"/>
            <a:ext cx="607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Não espere ela partir para lhe dar AM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tângulo 2"/>
          <p:cNvSpPr/>
          <p:nvPr/>
        </p:nvSpPr>
        <p:spPr>
          <a:xfrm>
            <a:off x="2571840" y="2500200"/>
            <a:ext cx="61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Um dia você vai descobrir que talvez a pessoa que mais lhe amou na vid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foi ela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tângulo 2"/>
          <p:cNvSpPr/>
          <p:nvPr/>
        </p:nvSpPr>
        <p:spPr>
          <a:xfrm>
            <a:off x="2786040" y="571680"/>
            <a:ext cx="55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E para quem já não a tem mais do seu lado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CaixaDeTexto 5"/>
          <p:cNvSpPr/>
          <p:nvPr/>
        </p:nvSpPr>
        <p:spPr>
          <a:xfrm>
            <a:off x="2786040" y="571680"/>
            <a:ext cx="3929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Feche os olh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e faça uma pre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Agradeça a Deus pela 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Que teve ao lado de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CaixaDeTexto 5"/>
          <p:cNvSpPr/>
          <p:nvPr/>
        </p:nvSpPr>
        <p:spPr>
          <a:xfrm>
            <a:off x="2786040" y="571680"/>
            <a:ext cx="3929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Ficou algo pende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Alguma culp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Conte tud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tudo a Deu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e peça a Ele que te perdo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tângulo 3"/>
          <p:cNvSpPr/>
          <p:nvPr/>
        </p:nvSpPr>
        <p:spPr>
          <a:xfrm>
            <a:off x="2714760" y="45007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Ele é o que perd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todas as tuas iniqüidad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que s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todas as tuas enfermidades”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almo 103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ângulo 2"/>
          <p:cNvSpPr/>
          <p:nvPr/>
        </p:nvSpPr>
        <p:spPr>
          <a:xfrm>
            <a:off x="2428920" y="214200"/>
            <a:ext cx="600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"Eu tinha 7 anos                                 quando matei minha mãe pela primeira vez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tângulo 3"/>
          <p:cNvSpPr/>
          <p:nvPr/>
        </p:nvSpPr>
        <p:spPr>
          <a:xfrm>
            <a:off x="2357280" y="135720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Eu não a queria junto a mim                       quando chegasse à escola em meu 1º dia de aul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tângulo 4"/>
          <p:cNvSpPr/>
          <p:nvPr/>
        </p:nvSpPr>
        <p:spPr>
          <a:xfrm>
            <a:off x="2714760" y="2357280"/>
            <a:ext cx="59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Eu me achava forte o suficiente            para enfrentar os desafios                     que a nova vida iria me traze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tângulo 2"/>
          <p:cNvSpPr/>
          <p:nvPr/>
        </p:nvSpPr>
        <p:spPr>
          <a:xfrm>
            <a:off x="2571840" y="2500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Guarde suas lembranças no mais precioso dos baú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tângulo 2"/>
          <p:cNvSpPr/>
          <p:nvPr/>
        </p:nvSpPr>
        <p:spPr>
          <a:xfrm>
            <a:off x="2500200" y="1571760"/>
            <a:ext cx="528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Onde ela estiv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Deus lhe dará o recado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tângulo 6"/>
          <p:cNvSpPr/>
          <p:nvPr/>
        </p:nvSpPr>
        <p:spPr>
          <a:xfrm>
            <a:off x="4430160" y="6215040"/>
            <a:ext cx="42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omic Sans MS"/>
              </a:rPr>
              <a:t>Música: Ich Liebe Dich. Danna Wi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tângulo 2"/>
          <p:cNvSpPr/>
          <p:nvPr/>
        </p:nvSpPr>
        <p:spPr>
          <a:xfrm>
            <a:off x="2500200" y="428760"/>
            <a:ext cx="635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Poucas semanas depois                           descobri aliviado que ela ainda estava lá,     pronta para me defender não somente daqueles garotos brutamontes que me ameaçavam,      como das dificuldades intransponíveis da tabu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tângulo 2"/>
          <p:cNvSpPr/>
          <p:nvPr/>
        </p:nvSpPr>
        <p:spPr>
          <a:xfrm>
            <a:off x="2214720" y="28584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Quando fiz 14 anos eu a matei novament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tângulo 3"/>
          <p:cNvSpPr/>
          <p:nvPr/>
        </p:nvSpPr>
        <p:spPr>
          <a:xfrm>
            <a:off x="3000240" y="1000080"/>
            <a:ext cx="6143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Não a queria me impondo regras ou limites,  nem que me impedisse                            de viver a plenitude dos vôos juveni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tângulo 2"/>
          <p:cNvSpPr/>
          <p:nvPr/>
        </p:nvSpPr>
        <p:spPr>
          <a:xfrm>
            <a:off x="2500200" y="571680"/>
            <a:ext cx="63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Mas logo no primeiro porre                             eu felizmente a redescobri viv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tângulo 3"/>
          <p:cNvSpPr/>
          <p:nvPr/>
        </p:nvSpPr>
        <p:spPr>
          <a:xfrm>
            <a:off x="3000240" y="1714680"/>
            <a:ext cx="564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Foi quando ela não só me curou da ressaca, como impediu                                  que eu levasse uma vergonhosa surra      de meu pai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tângulo 2"/>
          <p:cNvSpPr/>
          <p:nvPr/>
        </p:nvSpPr>
        <p:spPr>
          <a:xfrm>
            <a:off x="2428920" y="428760"/>
            <a:ext cx="6143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Aos 18 anos                                          achei que mataria minha mãe definitivament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tângulo 3"/>
          <p:cNvSpPr/>
          <p:nvPr/>
        </p:nvSpPr>
        <p:spPr>
          <a:xfrm>
            <a:off x="2786040" y="1785960"/>
            <a:ext cx="592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Entrara na faculdade,iria morar em república, faria política estudantil,                        atividades em que a presença materna      não cabia em nenhuma hipótes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tângulo 2"/>
          <p:cNvSpPr/>
          <p:nvPr/>
        </p:nvSpPr>
        <p:spPr>
          <a:xfrm>
            <a:off x="2857680" y="500040"/>
            <a:ext cx="285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Ledo enga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tângulo 3"/>
          <p:cNvSpPr/>
          <p:nvPr/>
        </p:nvSpPr>
        <p:spPr>
          <a:xfrm>
            <a:off x="2357280" y="1071720"/>
            <a:ext cx="6215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Quando me descobri confu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sobre qual rumo seguir, voltei à casa mate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Único espaço possív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de guarida e compreensã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tângulo 2"/>
          <p:cNvSpPr/>
          <p:nvPr/>
        </p:nvSpPr>
        <p:spPr>
          <a:xfrm>
            <a:off x="2214720" y="285840"/>
            <a:ext cx="671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Aos 23 anos                                           me dei conta de que a morte materna era possível, porém requereria muita lentidão..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tângulo 3"/>
          <p:cNvSpPr/>
          <p:nvPr/>
        </p:nvSpPr>
        <p:spPr>
          <a:xfrm>
            <a:off x="2428920" y="1500120"/>
            <a:ext cx="6286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Foi quando me casei,                            finquei bandeira de independência                 e segui viagem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tângulo 2"/>
          <p:cNvSpPr/>
          <p:nvPr/>
        </p:nvSpPr>
        <p:spPr>
          <a:xfrm>
            <a:off x="2786040" y="214200"/>
            <a:ext cx="6072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Mas bastou nascer a primeira filha para descobrir que o bicho mãe                      se transformara num espécime              ainda mais vigoro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chamado avó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9T23:15:37Z</dcterms:created>
  <dc:creator>Gilmar Schardosim</dc:creator>
  <dc:description/>
  <dc:language>en-US</dc:language>
  <cp:lastModifiedBy>master</cp:lastModifiedBy>
  <dcterms:modified xsi:type="dcterms:W3CDTF">2010-08-22T21:00:56Z</dcterms:modified>
  <cp:revision>41</cp:revision>
  <dc:subject/>
  <dc:title>Slide 1</dc:title>
</cp:coreProperties>
</file>