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gif" ContentType="image/gif"/>
  <Override PartName="/ppt/media/dana%20winner%20-%20ich%20liebe%20dich(2)166.wav" ContentType="audio/x-wav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E8002-2E83-4C74-882E-BCFBC19C5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FD08F-1D79-41B9-BFDD-0CBAE018B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C7BF5-0C22-4D5D-8CB9-1A17FD147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3B515-581E-466E-9620-7A045F2CF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65287-94B1-42E9-8A69-7A0F6C2D3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EFAC0-2D10-4158-89F9-D7F5597A3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38598-7C89-4A87-80D4-3534474A9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13A6E-A36D-41F4-9C19-031A61B63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AD010-4413-4ACE-BB1A-CD3A15540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BC416-EEC9-41F3-A6D3-3D45CD37E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A1D22-D682-4405-9489-C3BC8FE0D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2F328-9D8C-4CE4-B158-FEBC6D42C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68133-DC32-45BA-8583-EFA703FBADF6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audio" Target="../media/dana%20winner%20-%20ich%20liebe%20dich(2)166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tângulo 2"/>
          <p:cNvSpPr/>
          <p:nvPr/>
        </p:nvSpPr>
        <p:spPr>
          <a:xfrm>
            <a:off x="1643040" y="357120"/>
            <a:ext cx="62866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mic Sans MS"/>
              </a:rPr>
              <a:t>"Em geral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mic Sans MS"/>
              </a:rPr>
              <a:t>as mães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mic Sans MS"/>
              </a:rPr>
              <a:t>mais que amar os filhos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mic Sans MS"/>
              </a:rPr>
              <a:t>amam-se nos filhos."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i="1" lang="pt-BR" sz="2000" spc="-1" strike="noStrike">
                <a:solidFill>
                  <a:srgbClr val="ffffff"/>
                </a:solidFill>
                <a:latin typeface="Comic Sans MS"/>
              </a:rPr>
              <a:t>(Friedrich Nietzsch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tângulo 3"/>
          <p:cNvSpPr/>
          <p:nvPr/>
        </p:nvSpPr>
        <p:spPr>
          <a:xfrm>
            <a:off x="2000160" y="2857680"/>
            <a:ext cx="5857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ffff"/>
                </a:solidFill>
                <a:latin typeface="Comic Sans MS"/>
              </a:rPr>
              <a:t>MÃES SÓ MORR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ffff"/>
                </a:solidFill>
                <a:latin typeface="Comic Sans MS"/>
              </a:rPr>
              <a:t>QUANDO QUEREM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entágono 4"/>
          <p:cNvSpPr/>
          <p:nvPr/>
        </p:nvSpPr>
        <p:spPr>
          <a:xfrm flipV="1">
            <a:off x="8286840" y="6571440"/>
            <a:ext cx="642960" cy="117720"/>
          </a:xfrm>
          <a:custGeom>
            <a:avLst/>
            <a:gdLst>
              <a:gd name="textAreaLeft" fmla="*/ 0 w 642960"/>
              <a:gd name="textAreaRight" fmla="*/ 642960 w 642960"/>
              <a:gd name="textAreaTop" fmla="*/ -360 h 117720"/>
              <a:gd name="textAreaBottom" fmla="*/ 117720 h 117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27" y="0"/>
                </a:lnTo>
                <a:lnTo>
                  <a:pt x="21600" y="10800"/>
                </a:lnTo>
                <a:lnTo>
                  <a:pt x="1962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8" descr="gifs enter neon"/>
          <p:cNvPicPr/>
          <p:nvPr/>
        </p:nvPicPr>
        <p:blipFill>
          <a:blip r:embed="rId2"/>
          <a:stretch/>
        </p:blipFill>
        <p:spPr>
          <a:xfrm>
            <a:off x="8048520" y="6381720"/>
            <a:ext cx="1095480" cy="33336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horz"/>
    <p:sndAc>
      <p:stSnd>
        <p:snd r:embed="rId3" name="dana%20winner%20-%20ich%20liebe%20dich(2)166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3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tângulo 2"/>
          <p:cNvSpPr/>
          <p:nvPr/>
        </p:nvSpPr>
        <p:spPr>
          <a:xfrm>
            <a:off x="1714680" y="214200"/>
            <a:ext cx="721512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mic Sans MS"/>
              </a:rPr>
              <a:t>Apesar de tudo,                                      continuei acreditando na tese de que a mor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mic Sans MS"/>
              </a:rPr>
              <a:t>seria bem demorada,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mic Sans MS"/>
              </a:rPr>
              <a:t>e aos poucos fui me sentindo mais distante e autônomo, mesmo que a intervalos regulares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1" i="1" lang="pt-BR" sz="2000" spc="-1" strike="noStrike">
                <a:solidFill>
                  <a:srgbClr val="ffffff"/>
                </a:solidFill>
                <a:latin typeface="Comic Sans MS"/>
              </a:rPr>
              <a:t>ela reaparecesse em minha vid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mic Sans MS"/>
              </a:rPr>
              <a:t>desempenhando papéis importantes e únicos.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mic Sans MS"/>
              </a:rPr>
              <a:t>Papéis que somente el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mic Sans MS"/>
              </a:rPr>
              <a:t>poderia protagonizar..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tângulo 2"/>
          <p:cNvSpPr/>
          <p:nvPr/>
        </p:nvSpPr>
        <p:spPr>
          <a:xfrm>
            <a:off x="2714760" y="428760"/>
            <a:ext cx="5643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mic Sans MS"/>
              </a:rPr>
              <a:t>Mas o final dessa história,                        ao contrário do que eu sempre imaginei,  foi ela quem definiu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tângulo 3"/>
          <p:cNvSpPr/>
          <p:nvPr/>
        </p:nvSpPr>
        <p:spPr>
          <a:xfrm>
            <a:off x="2857680" y="2786040"/>
            <a:ext cx="5857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mic Sans MS"/>
              </a:rPr>
              <a:t>Quando menos esperava, ela decidiu morrer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horz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3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tângulo 2"/>
          <p:cNvSpPr/>
          <p:nvPr/>
        </p:nvSpPr>
        <p:spPr>
          <a:xfrm>
            <a:off x="2428920" y="285840"/>
            <a:ext cx="63579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mic Sans MS"/>
              </a:rPr>
              <a:t>Assim, sem mais, nem menos,                      sem pedir licença ou permissão,                      sem data marcada ou ocasião para despedida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mic Sans MS"/>
              </a:rPr>
              <a:t>minha tese da morte bem demorada ruiu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tângulo 3"/>
          <p:cNvSpPr/>
          <p:nvPr/>
        </p:nvSpPr>
        <p:spPr>
          <a:xfrm>
            <a:off x="2928960" y="1928880"/>
            <a:ext cx="6215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mic Sans MS"/>
              </a:rPr>
              <a:t>Ela simplesmente se foi,                            deixando a lição que mães não são para sempre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tângulo 4"/>
          <p:cNvSpPr/>
          <p:nvPr/>
        </p:nvSpPr>
        <p:spPr>
          <a:xfrm>
            <a:off x="2714760" y="2857680"/>
            <a:ext cx="57862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mic Sans MS"/>
              </a:rPr>
              <a:t>Ao contrário do que sempre imaginei,        são elas que decidem o quanto esta eternidade pode durar em vida,                e o quanto fica relegado                      para o etéreo terreno da saudade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CaixaDeTexto 5"/>
          <p:cNvSpPr/>
          <p:nvPr/>
        </p:nvSpPr>
        <p:spPr>
          <a:xfrm>
            <a:off x="5572080" y="6286680"/>
            <a:ext cx="357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mic Sans MS"/>
              </a:rPr>
              <a:t>Desconheço o au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tângulo 3"/>
          <p:cNvSpPr/>
          <p:nvPr/>
        </p:nvSpPr>
        <p:spPr>
          <a:xfrm>
            <a:off x="2571840" y="285840"/>
            <a:ext cx="6572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mic Sans MS"/>
              </a:rPr>
              <a:t>Não sei... Se a vida é curta </a:t>
            </a:r>
            <a:br>
              <a:rPr sz="2000"/>
            </a:br>
            <a:r>
              <a:rPr b="1" i="1" lang="pt-BR" sz="2000" spc="-1" strike="noStrike">
                <a:solidFill>
                  <a:srgbClr val="ffffff"/>
                </a:solidFill>
                <a:latin typeface="Comic Sans MS"/>
              </a:rPr>
              <a:t>Ou longa demais pra nós,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tângulo 4"/>
          <p:cNvSpPr/>
          <p:nvPr/>
        </p:nvSpPr>
        <p:spPr>
          <a:xfrm>
            <a:off x="2714760" y="1285920"/>
            <a:ext cx="6143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mic Sans MS"/>
              </a:rPr>
              <a:t>Mas descobri que devemos amar as pessoas, enquanto elas estão por aqui...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tângulo 2"/>
          <p:cNvSpPr/>
          <p:nvPr/>
        </p:nvSpPr>
        <p:spPr>
          <a:xfrm>
            <a:off x="2786040" y="285840"/>
            <a:ext cx="4572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mic Sans MS"/>
              </a:rPr>
              <a:t>É por isso que temos que amá-la sempre!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tângulo 5"/>
          <p:cNvSpPr/>
          <p:nvPr/>
        </p:nvSpPr>
        <p:spPr>
          <a:xfrm>
            <a:off x="2928960" y="2071800"/>
            <a:ext cx="4572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mic Sans MS"/>
              </a:rPr>
              <a:t>Nunca saberemos quando ela vai querer partir...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tângulo 8"/>
          <p:cNvSpPr/>
          <p:nvPr/>
        </p:nvSpPr>
        <p:spPr>
          <a:xfrm>
            <a:off x="2928960" y="2786040"/>
            <a:ext cx="4572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mic Sans MS"/>
              </a:rPr>
              <a:t>O vazio que fica, nunca conseguiremos preencher...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tângulo 9"/>
          <p:cNvSpPr/>
          <p:nvPr/>
        </p:nvSpPr>
        <p:spPr>
          <a:xfrm>
            <a:off x="2571840" y="4143240"/>
            <a:ext cx="4572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mic Sans MS"/>
              </a:rPr>
              <a:t>Para quem ainda a tem ao seu lado, ame-a...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tângulo 2"/>
          <p:cNvSpPr/>
          <p:nvPr/>
        </p:nvSpPr>
        <p:spPr>
          <a:xfrm>
            <a:off x="2500200" y="357120"/>
            <a:ext cx="607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mic Sans MS"/>
              </a:rPr>
              <a:t>Não espere ela partir para lhe dar AM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tângulo 2"/>
          <p:cNvSpPr/>
          <p:nvPr/>
        </p:nvSpPr>
        <p:spPr>
          <a:xfrm>
            <a:off x="2571840" y="2500200"/>
            <a:ext cx="6143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mic Sans MS"/>
              </a:rPr>
              <a:t>Um dia você vai descobrir que talvez a pessoa que mais lhe amou na vida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mic Sans MS"/>
              </a:rPr>
              <a:t>foi ela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tângulo 2"/>
          <p:cNvSpPr/>
          <p:nvPr/>
        </p:nvSpPr>
        <p:spPr>
          <a:xfrm>
            <a:off x="2786040" y="571680"/>
            <a:ext cx="5572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mic Sans MS"/>
              </a:rPr>
              <a:t>E para quem já não a tem mais do seu lado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CaixaDeTexto 5"/>
          <p:cNvSpPr/>
          <p:nvPr/>
        </p:nvSpPr>
        <p:spPr>
          <a:xfrm>
            <a:off x="2786040" y="571680"/>
            <a:ext cx="39290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mic Sans MS"/>
              </a:rPr>
              <a:t>Feche os olh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mic Sans MS"/>
              </a:rPr>
              <a:t>e faça uma pre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mic Sans MS"/>
              </a:rPr>
              <a:t>Agradeça a Deus pela vi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mic Sans MS"/>
              </a:rPr>
              <a:t>Que teve ao lado del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CaixaDeTexto 5"/>
          <p:cNvSpPr/>
          <p:nvPr/>
        </p:nvSpPr>
        <p:spPr>
          <a:xfrm>
            <a:off x="2786040" y="571680"/>
            <a:ext cx="39290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mic Sans MS"/>
              </a:rPr>
              <a:t>Ficou algo pendent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mic Sans MS"/>
              </a:rPr>
              <a:t>Alguma culp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mic Sans MS"/>
              </a:rPr>
              <a:t>Conte tudo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mic Sans MS"/>
              </a:rPr>
              <a:t>tudo a Deu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mic Sans MS"/>
              </a:rPr>
              <a:t>e peça a Ele que te perdo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tângulo 3"/>
          <p:cNvSpPr/>
          <p:nvPr/>
        </p:nvSpPr>
        <p:spPr>
          <a:xfrm>
            <a:off x="2714760" y="450072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i="1" lang="pt-BR" sz="1800" spc="-1" strike="noStrike">
                <a:solidFill>
                  <a:srgbClr val="ffffff"/>
                </a:solidFill>
                <a:latin typeface="Arial"/>
              </a:rPr>
              <a:t>Ele é o que perdo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ffffff"/>
                </a:solidFill>
                <a:latin typeface="Arial"/>
              </a:rPr>
              <a:t>todas as tuas iniqüidade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ffffff"/>
                </a:solidFill>
                <a:latin typeface="Arial"/>
              </a:rPr>
              <a:t>que sar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ffffff"/>
                </a:solidFill>
                <a:latin typeface="Arial"/>
              </a:rPr>
              <a:t>todas as tuas enfermidades”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Salmo 103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tângulo 2"/>
          <p:cNvSpPr/>
          <p:nvPr/>
        </p:nvSpPr>
        <p:spPr>
          <a:xfrm>
            <a:off x="2428920" y="214200"/>
            <a:ext cx="6000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mic Sans MS"/>
              </a:rPr>
              <a:t>"Eu tinha 7 anos                                 quando matei minha mãe pela primeira vez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tângulo 3"/>
          <p:cNvSpPr/>
          <p:nvPr/>
        </p:nvSpPr>
        <p:spPr>
          <a:xfrm>
            <a:off x="2357280" y="1357200"/>
            <a:ext cx="6429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mic Sans MS"/>
              </a:rPr>
              <a:t>Eu não a queria junto a mim                       quando chegasse à escola em meu 1º dia de aula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tângulo 4"/>
          <p:cNvSpPr/>
          <p:nvPr/>
        </p:nvSpPr>
        <p:spPr>
          <a:xfrm>
            <a:off x="2714760" y="2357280"/>
            <a:ext cx="5929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mic Sans MS"/>
              </a:rPr>
              <a:t>Eu me achava forte o suficiente            para enfrentar os desafios                     que a nova vida iria me trazer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tângulo 2"/>
          <p:cNvSpPr/>
          <p:nvPr/>
        </p:nvSpPr>
        <p:spPr>
          <a:xfrm>
            <a:off x="2571840" y="25002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mic Sans MS"/>
              </a:rPr>
              <a:t>Guarde suas lembranças no mais precioso dos baús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tângulo 2"/>
          <p:cNvSpPr/>
          <p:nvPr/>
        </p:nvSpPr>
        <p:spPr>
          <a:xfrm>
            <a:off x="2500200" y="1571760"/>
            <a:ext cx="5286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mic Sans MS"/>
              </a:rPr>
              <a:t>Onde ela estiver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mic Sans MS"/>
              </a:rPr>
              <a:t>Deus lhe dará o recado..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tângulo 6"/>
          <p:cNvSpPr/>
          <p:nvPr/>
        </p:nvSpPr>
        <p:spPr>
          <a:xfrm>
            <a:off x="4430160" y="6215040"/>
            <a:ext cx="423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ffffff"/>
                </a:solidFill>
                <a:latin typeface="Comic Sans MS"/>
              </a:rPr>
              <a:t>Música: Ich Liebe Dich. Danna Win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tângulo 2"/>
          <p:cNvSpPr/>
          <p:nvPr/>
        </p:nvSpPr>
        <p:spPr>
          <a:xfrm>
            <a:off x="2500200" y="428760"/>
            <a:ext cx="63579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mic Sans MS"/>
              </a:rPr>
              <a:t>Poucas semanas depois                           descobri aliviado que ela ainda estava lá,     pronta para me defender não somente daqueles garotos brutamontes que me ameaçavam,      como das dificuldades intransponíveis da tabuad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horz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" dur="3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tângulo 2"/>
          <p:cNvSpPr/>
          <p:nvPr/>
        </p:nvSpPr>
        <p:spPr>
          <a:xfrm>
            <a:off x="2214720" y="285840"/>
            <a:ext cx="6143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mic Sans MS"/>
              </a:rPr>
              <a:t>Quando fiz 14 anos eu a matei novamente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tângulo 3"/>
          <p:cNvSpPr/>
          <p:nvPr/>
        </p:nvSpPr>
        <p:spPr>
          <a:xfrm>
            <a:off x="3000240" y="1000080"/>
            <a:ext cx="61437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mic Sans MS"/>
              </a:rPr>
              <a:t>Não a queria me impondo regras ou limites,  nem que me impedisse                            de viver a plenitude dos vôos juvenis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tângulo 2"/>
          <p:cNvSpPr/>
          <p:nvPr/>
        </p:nvSpPr>
        <p:spPr>
          <a:xfrm>
            <a:off x="2500200" y="571680"/>
            <a:ext cx="6357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mic Sans MS"/>
              </a:rPr>
              <a:t>Mas logo no primeiro porre                             eu felizmente a redescobri viv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tângulo 3"/>
          <p:cNvSpPr/>
          <p:nvPr/>
        </p:nvSpPr>
        <p:spPr>
          <a:xfrm>
            <a:off x="3000240" y="1714680"/>
            <a:ext cx="5643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mic Sans MS"/>
              </a:rPr>
              <a:t>Foi quando ela não só me curou da ressaca, como impediu                                  que eu levasse uma vergonhosa surra      de meu pai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tângulo 2"/>
          <p:cNvSpPr/>
          <p:nvPr/>
        </p:nvSpPr>
        <p:spPr>
          <a:xfrm>
            <a:off x="2428920" y="428760"/>
            <a:ext cx="6143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mic Sans MS"/>
              </a:rPr>
              <a:t>Aos 18 anos                                          achei que mataria minha mãe definitivamente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tângulo 3"/>
          <p:cNvSpPr/>
          <p:nvPr/>
        </p:nvSpPr>
        <p:spPr>
          <a:xfrm>
            <a:off x="2786040" y="1785960"/>
            <a:ext cx="59292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mic Sans MS"/>
              </a:rPr>
              <a:t>Entrara na faculdade,iria morar em república, faria política estudantil,                        atividades em que a presença materna      não cabia em nenhuma hipótese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tângulo 2"/>
          <p:cNvSpPr/>
          <p:nvPr/>
        </p:nvSpPr>
        <p:spPr>
          <a:xfrm>
            <a:off x="2857680" y="500040"/>
            <a:ext cx="285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mic Sans MS"/>
              </a:rPr>
              <a:t>Ledo engan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tângulo 3"/>
          <p:cNvSpPr/>
          <p:nvPr/>
        </p:nvSpPr>
        <p:spPr>
          <a:xfrm>
            <a:off x="2357280" y="1071720"/>
            <a:ext cx="62154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mic Sans MS"/>
              </a:rPr>
              <a:t>Quando me descobri confus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mic Sans MS"/>
              </a:rPr>
              <a:t>sobre qual rumo seguir, voltei à casa mater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mic Sans MS"/>
              </a:rPr>
              <a:t>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mic Sans MS"/>
              </a:rPr>
              <a:t>Único espaço possíve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mic Sans MS"/>
              </a:rPr>
              <a:t>de guarida e compreensã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tângulo 2"/>
          <p:cNvSpPr/>
          <p:nvPr/>
        </p:nvSpPr>
        <p:spPr>
          <a:xfrm>
            <a:off x="2214720" y="285840"/>
            <a:ext cx="6715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mic Sans MS"/>
              </a:rPr>
              <a:t>Aos 23 anos                                           me dei conta de que a morte materna era possível, porém requereria muita lentidão..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tângulo 3"/>
          <p:cNvSpPr/>
          <p:nvPr/>
        </p:nvSpPr>
        <p:spPr>
          <a:xfrm>
            <a:off x="2428920" y="1500120"/>
            <a:ext cx="62863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mic Sans MS"/>
              </a:rPr>
              <a:t>Foi quando me casei,                            finquei bandeira de independência                 e segui viagem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tângulo 2"/>
          <p:cNvSpPr/>
          <p:nvPr/>
        </p:nvSpPr>
        <p:spPr>
          <a:xfrm>
            <a:off x="2786040" y="214200"/>
            <a:ext cx="60721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mic Sans MS"/>
              </a:rPr>
              <a:t>Mas bastou nascer a primeira filha para descobrir que o bicho mãe                      se transformara num espécime              ainda mais vigoros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mic Sans MS"/>
              </a:rPr>
              <a:t>chamado avó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9T23:15:37Z</dcterms:created>
  <dc:creator>Gilmar Schardosim</dc:creator>
  <dc:description/>
  <dc:language>en-US</dc:language>
  <cp:lastModifiedBy>master</cp:lastModifiedBy>
  <dcterms:modified xsi:type="dcterms:W3CDTF">2010-08-22T21:00:56Z</dcterms:modified>
  <cp:revision>41</cp:revision>
  <dc:subject/>
  <dc:title>Slide 1</dc:title>
</cp:coreProperties>
</file>