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rouching%20Tiger%20-%20Theme%20(Instrumental).CUT8.wav" ContentType="audio/x-wav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D19-F27A-40EC-BED0-FAA2CDAC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488-F098-41B9-B0AB-BCFEB667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46E-BC72-47ED-893F-BB9C4DE4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386-4DD1-4235-AF88-3F5596E2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1E8-4EDA-40DC-A16C-C6B0F3C1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31C-BBC4-4616-A0F9-765A1304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32E-51C8-4AA9-AEE4-AFB1DBF9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204-783C-40F7-9058-1B3581AA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7C4-3CEF-402E-BAE6-9469EEE9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F9E-DF73-420E-B9B8-CEECE1E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6E3-12DF-4EE7-B062-307B357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505-CBF9-497D-8F9C-34049FE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6C1B-59AB-40DD-B80A-463B2E818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rouching%20Tiger%20-%20Theme%20(Instrumental).CUT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A0225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38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76520" y="990720"/>
            <a:ext cx="54007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solidFill>
                  <a:srgbClr val="f4fd3f">
                    <a:alpha val="50000"/>
                  </a:srgbClr>
                </a:solidFill>
                <a:effectLst>
                  <a:outerShdw dist="17819" dir="2700000" blurRad="0" rotWithShape="0">
                    <a:srgbClr val="919725"/>
                  </a:outerShdw>
                </a:effectLst>
                <a:latin typeface="Book Antiqua"/>
              </a:rPr>
              <a:t>A Sementeira</a:t>
            </a:r>
            <a:endParaRPr b="1" i="1" lang="en-US" sz="7200" spc="1" strike="noStrike">
              <a:ln w="0">
                <a:noFill/>
              </a:ln>
              <a:solidFill>
                <a:srgbClr val="f4fd3f">
                  <a:alpha val="50000"/>
                </a:srgbClr>
              </a:solidFill>
              <a:effectLst>
                <a:outerShdw dist="17819" dir="2700000" blurRad="0" rotWithShape="0">
                  <a:srgbClr val="919725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724280"/>
            <a:ext cx="38192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4fd3f">
                    <a:alpha val="50000"/>
                  </a:srgbClr>
                </a:solidFill>
                <a:effectLst>
                  <a:outerShdw dist="17819" dir="2700000" blurRad="0" rotWithShape="0">
                    <a:srgbClr val="919725"/>
                  </a:outerShdw>
                </a:effectLst>
                <a:latin typeface="Book Antiqua"/>
              </a:rPr>
              <a:t>J. Nivaldo Alvarez</a:t>
            </a:r>
            <a:endParaRPr b="1" i="1" lang="en-US" sz="2400" spc="1" strike="noStrike">
              <a:ln w="0">
                <a:noFill/>
              </a:ln>
              <a:solidFill>
                <a:srgbClr val="f4fd3f">
                  <a:alpha val="50000"/>
                </a:srgbClr>
              </a:solidFill>
              <a:effectLst>
                <a:outerShdw dist="17819" dir="2700000" blurRad="0" rotWithShape="0">
                  <a:srgbClr val="919725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4f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  <p:sndAc>
      <p:stSnd>
        <p:snd r:embed="rId2" name="Crouching%20Tiger%20-%20Theme%20(Instrumental).CUT8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c1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a655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282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762120"/>
            <a:ext cx="7543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c1a2"/>
                </a:solidFill>
                <a:latin typeface="Copperplate Gothic Light"/>
              </a:rPr>
              <a:t>Uma estória curta, um simbolismo grandioso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c1a2"/>
                </a:solidFill>
                <a:latin typeface="Copperplate Gothic Light"/>
              </a:rPr>
              <a:t>“</a:t>
            </a:r>
            <a:r>
              <a:rPr b="1" lang="en-US" sz="2400" spc="-1" strike="noStrike">
                <a:solidFill>
                  <a:srgbClr val="c8c1a2"/>
                </a:solidFill>
                <a:latin typeface="Copperplate Gothic Light"/>
              </a:rPr>
              <a:t>Um dia, um semeador plantou uma semente no solo. Semente trazida de outras regiões, onde os frutos eram abundantes, magníficos, viçosos, e que ali estavam à disposição daqueles que estivessem à procura do alimento capaz de garantir-lhes a vida eterna. E, mercê do solo fértil existente, da água cristalina, do ar puro e dos benfazejos raios de sol, a semente germinou com toda a sua força, em toda a sua plen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9e6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5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b2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013167-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560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914400"/>
            <a:ext cx="70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b2a6"/>
                </a:solidFill>
                <a:latin typeface="Copperplate Gothic Light"/>
              </a:rPr>
              <a:t>Surgiu então enorme árvore, frondosa, copada, que logo deu frutos. Esses frutos trouxeram novas sementes, que plantadas deram novas árvores. Novas árvores, novos frutos. Novos frutos, novas sementes. E assim, de semente em semente, de árvore em árvore, o local se transformou num imenso  pomar, sempre distribuindo seus  frutos aos que deles necessitavam. As sementes, pouco a pouco, foram transportadas para serem plantadas em outras para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ae6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1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bc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934445-048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861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5720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2bcba"/>
                </a:solidFill>
                <a:latin typeface="Copperplate Gothic Light"/>
              </a:rPr>
              <a:t>Ultrapassaram os limites da cidade, do estado, do país, do continente. Atravessaram rios, lagos e mares. Atravessaram o hemisfério. Essas sementes são as sementes da VERDADE. O solo fértil para fazê-las germinar é o nosso sentimento intuitivo, a água cristalina é  representada pelas nossas ações, o ar puro é  fornecido pelas nossas palavras, e os raios benfazejos de  sol são os nossos pensamentos”. </a:t>
            </a:r>
            <a:r>
              <a:rPr b="1" lang="pt-BR" sz="2800" spc="-1" strike="noStrike">
                <a:solidFill>
                  <a:srgbClr val="a2bcba"/>
                </a:solidFill>
                <a:latin typeface="Copperplate Gothic Light"/>
                <a:ea typeface="Times New Roman"/>
              </a:rPr>
              <a:t>Gostaram da estória? Vamos semear a VERD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dde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4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6b8b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5116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049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6b8b2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6b8b2"/>
                </a:solidFill>
                <a:latin typeface="Times New Roman"/>
              </a:rPr>
              <a:t>Crouching Tiger - Theme (Instrume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6002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b8b2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b8b2"/>
                </a:solidFill>
                <a:latin typeface="Times New Roman"/>
              </a:rPr>
              <a:t>Sérgio S. O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8954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c6b8b2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914400" y="4876920"/>
            <a:ext cx="1905120" cy="761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6b8b2"/>
                </a:solidFill>
                <a:uFillTx/>
                <a:latin typeface="Times New Roman"/>
              </a:rPr>
              <a:t>Re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3581280" y="4724280"/>
            <a:ext cx="2057400" cy="10670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6b8b2"/>
                </a:solidFill>
                <a:uFillTx/>
                <a:latin typeface="Times New Roman"/>
              </a:rPr>
              <a:t>Ver Ou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6b8b2"/>
                </a:solidFill>
                <a:uFillTx/>
                <a:latin typeface="Times New Roman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6324480" y="4876920"/>
            <a:ext cx="1905120" cy="761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6b8b2"/>
                </a:solidFill>
                <a:uFillTx/>
                <a:latin typeface="Times New Roman"/>
              </a:rPr>
              <a:t>S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eae5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3:30:06Z</dcterms:created>
  <dc:creator>ssoliver@terra.com.br </dc:creator>
  <dc:description/>
  <dc:language>en-US</dc:language>
  <cp:lastModifiedBy>Sérgio S. Oliver</cp:lastModifiedBy>
  <dcterms:modified xsi:type="dcterms:W3CDTF">2004-11-18T17:21:33Z</dcterms:modified>
  <cp:revision>5</cp:revision>
  <dc:subject>PPS</dc:subject>
  <dc:title>A Sementeira</dc:title>
</cp:coreProperties>
</file>