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rouching%20Tiger%20-%20Theme%20(Instrumental).CUT8.wav" ContentType="audio/x-wav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371-F919-46FF-B240-9E3F821D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C5C-62FD-4464-8086-4AF2B036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A86-F8D5-43E2-ADF6-33BA7FE6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92F-CFBB-4175-91CA-2133C1E2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E42-C392-47C3-AF48-E19B6735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6CF-0641-44B4-BAF4-E5C12414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BFE-26D2-4980-B7D4-304AA181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429-C8B7-4AA9-893E-93686B98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536-C182-49E3-A9B4-959E0791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B43-ABF2-4A2D-8ED5-9E8947A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D65-A752-4AA0-97D3-1D84CCCB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77A-D9D7-4A0C-A8D6-B09810D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C681-C0B2-4910-8B27-F8F0C6900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rouching%20Tiger%20-%20Theme%20(Instrumental).CUT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A0225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990720"/>
            <a:ext cx="54007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f4fd3f">
                    <a:alpha val="50000"/>
                  </a:srgbClr>
                </a:solidFill>
                <a:effectLst>
                  <a:outerShdw dist="17819" dir="2700000" blurRad="0" rotWithShape="0">
                    <a:srgbClr val="919725"/>
                  </a:outerShdw>
                </a:effectLst>
                <a:latin typeface="Book Antiqua"/>
              </a:rPr>
              <a:t>A Sementeira</a:t>
            </a:r>
            <a:endParaRPr b="1" i="1" lang="en-US" sz="7200" spc="1" strike="noStrike">
              <a:ln w="0">
                <a:noFill/>
              </a:ln>
              <a:solidFill>
                <a:srgbClr val="f4fd3f">
                  <a:alpha val="50000"/>
                </a:srgbClr>
              </a:solidFill>
              <a:effectLst>
                <a:outerShdw dist="17819" dir="2700000" blurRad="0" rotWithShape="0">
                  <a:srgbClr val="919725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724280"/>
            <a:ext cx="38192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4fd3f">
                    <a:alpha val="50000"/>
                  </a:srgbClr>
                </a:solidFill>
                <a:effectLst>
                  <a:outerShdw dist="17819" dir="2700000" blurRad="0" rotWithShape="0">
                    <a:srgbClr val="919725"/>
                  </a:outerShdw>
                </a:effectLst>
                <a:latin typeface="Book Antiqua"/>
              </a:rPr>
              <a:t>J. Nivaldo Alvarez</a:t>
            </a:r>
            <a:endParaRPr b="1" i="1" lang="en-US" sz="2400" spc="1" strike="noStrike">
              <a:ln w="0">
                <a:noFill/>
              </a:ln>
              <a:solidFill>
                <a:srgbClr val="f4fd3f">
                  <a:alpha val="50000"/>
                </a:srgbClr>
              </a:solidFill>
              <a:effectLst>
                <a:outerShdw dist="17819" dir="2700000" blurRad="0" rotWithShape="0">
                  <a:srgbClr val="919725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4f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  <p:sndAc>
      <p:stSnd>
        <p:snd r:embed="rId2" name="Crouching%20Tiger%20-%20Theme%20(Instrumental).CUT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c1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a655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282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762120"/>
            <a:ext cx="7543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c1a2"/>
                </a:solidFill>
                <a:latin typeface="Copperplate Gothic Light"/>
              </a:rPr>
              <a:t>Uma estória curta, um simbolismo grandioso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c1a2"/>
                </a:solidFill>
                <a:latin typeface="Copperplate Gothic Light"/>
              </a:rPr>
              <a:t>“</a:t>
            </a:r>
            <a:r>
              <a:rPr b="1" lang="en-US" sz="2400" spc="-1" strike="noStrike">
                <a:solidFill>
                  <a:srgbClr val="c8c1a2"/>
                </a:solidFill>
                <a:latin typeface="Copperplate Gothic Light"/>
              </a:rPr>
              <a:t>Um dia, um semeador plantou uma semente no solo. Semente trazida de outras regiões, onde os frutos eram abundantes, magníficos, viçosos, e que ali estavam à disposição daqueles que estivessem à procura do alimento capaz de garantir-lhes a vida eterna. E, mercê do solo fértil existente, da água cristalina, do ar puro e dos benfazejos raios de sol, a semente germinou com toda a sua força, em toda a sua plen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9e6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b2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013167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56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1440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b2a6"/>
                </a:solidFill>
                <a:latin typeface="Copperplate Gothic Light"/>
              </a:rPr>
              <a:t>Surgiu então enorme árvore, frondosa, copada, que logo deu frutos. Esses frutos trouxeram novas sementes, que plantadas deram novas árvores. Novas árvores, novos frutos. Novos frutos, novas sementes. E assim, de semente em semente, de árvore em árvore, o local se transformou num imenso  pomar, sempre distribuindo seus  frutos aos que deles necessitavam. As sementes, pouco a pouco, foram transportadas para serem plantadas em outras para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ae6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bc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934445-048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5720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2bcba"/>
                </a:solidFill>
                <a:latin typeface="Copperplate Gothic Light"/>
              </a:rPr>
              <a:t>Ultrapassaram os limites da cidade, do estado, do país, do continente. Atravessaram rios, lagos e mares. Atravessaram o hemisfério. Essas sementes são as sementes da VERDADE. O solo fértil para fazê-las germinar é o nosso sentimento intuitivo, a água cristalina é  representada pelas nossas ações, o ar puro é  fornecido pelas nossas palavras, e os raios benfazejos de  sol são os nossos pensamentos”. </a:t>
            </a:r>
            <a:r>
              <a:rPr b="1" lang="pt-BR" sz="2800" spc="-1" strike="noStrike">
                <a:solidFill>
                  <a:srgbClr val="a2bcba"/>
                </a:solidFill>
                <a:latin typeface="Copperplate Gothic Light"/>
                <a:ea typeface="Times New Roman"/>
              </a:rPr>
              <a:t>Gostaram da estória? Vamos semear a VERD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de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6b8b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9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6b8b2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6b8b2"/>
                </a:solidFill>
                <a:latin typeface="Times New Roman"/>
              </a:rPr>
              <a:t>Crouching Tiger - Theme (Instrum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6002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b8b2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b8b2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8954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6b8b2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914400" y="4876920"/>
            <a:ext cx="1905120" cy="761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6b8b2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3581280" y="4724280"/>
            <a:ext cx="2057400" cy="10670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6b8b2"/>
                </a:solidFill>
                <a:uFillTx/>
                <a:latin typeface="Times New Roman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6b8b2"/>
                </a:solidFill>
                <a:uFillTx/>
                <a:latin typeface="Times New Roman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761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6b8b2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ae5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3:30:06Z</dcterms:created>
  <dc:creator>ssoliver@terra.com.br </dc:creator>
  <dc:description/>
  <dc:language>en-US</dc:language>
  <cp:lastModifiedBy>Sérgio S. Oliver</cp:lastModifiedBy>
  <dcterms:modified xsi:type="dcterms:W3CDTF">2004-11-18T17:21:33Z</dcterms:modified>
  <cp:revision>5</cp:revision>
  <dc:subject>PPS</dc:subject>
  <dc:title>A Sementeira</dc:title>
</cp:coreProperties>
</file>