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ichrd%20Clayderman-La%20Vie%20En%20Ros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DCEF-1D21-43F6-B318-32AB68DE8F3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2F48-4FB3-4591-81F1-68172783B9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70B4-0800-453B-B7EE-42DCE6AC09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BB06-19DA-4ADC-BC81-B0EBC012D5E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A10-2103-4035-8C3C-4ABB24A8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39C-C9BE-4D5B-93D0-39D03D4F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735-EEB0-4448-9723-1AA1B5D5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647-D466-4DC5-80D4-A31CCE66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647-D907-48E5-ACC8-EDBC311C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285-D96E-4AB2-BDC7-7ABF3E38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1C9-58CE-4EF4-9F97-49327FFA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6FE-AFC4-4DB5-962B-725130F9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847-1815-4F87-9E4F-878FAF79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830-C553-4D5A-AAA5-AC3FBFD3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0F2-68B4-4E7D-85F0-D4A2EBB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1B6-6077-4A5A-9D19-8ED47DBE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6CFE-BAA7-48D7-822B-FE1F68A5A46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hrd%20Clayderman-La%20Vie%20En%20Ro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powerpointsemanal-subscribe@yahoogrupos.com.br" TargetMode="External"/><Relationship Id="rId2" Type="http://schemas.openxmlformats.org/officeDocument/2006/relationships/hyperlink" Target="http://www.planetapowerpoint.com.br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ixaDeTexto 1"/>
          <p:cNvSpPr/>
          <p:nvPr/>
        </p:nvSpPr>
        <p:spPr>
          <a:xfrm>
            <a:off x="2340000" y="2708280"/>
            <a:ext cx="54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Verdana"/>
                <a:ea typeface="Verdana"/>
              </a:rPr>
              <a:t>VENÇA SUA MEN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Th054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50" name="Retângulo 9"/>
          <p:cNvSpPr/>
          <p:nvPr/>
        </p:nvSpPr>
        <p:spPr>
          <a:xfrm>
            <a:off x="-541440" y="4653000"/>
            <a:ext cx="1065852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26920" y="4869000"/>
            <a:ext cx="785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Sentindo-se triste? Dance ou vá tomar uma ducha e veja a tristeza desaparecer de seu corpo. Sinta como a água que bate em você leva junto a tristeza, da mesma forma que leva embora o suor e a poeira de seu corp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h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66996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tângulo 6"/>
          <p:cNvSpPr/>
          <p:nvPr/>
        </p:nvSpPr>
        <p:spPr>
          <a:xfrm>
            <a:off x="-541440" y="4653000"/>
            <a:ext cx="1065852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01480" y="4896000"/>
            <a:ext cx="814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Por exemplo, se você estiver se sentindo irritado, inspire e expire profundamente durante apenas dois minutos e veja o que acontece com a sua ra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Th031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216000" y="115920"/>
            <a:ext cx="87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o respirar profundamente, você terá confundido sua mente, pois ela não é capaz de correlacionar as duas coisas. "Desde quando", a mente começa a se perguntar, "alguém respira profundamente quando está com raiva? O que está acontecendo?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Th0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324000" y="3933720"/>
            <a:ext cx="398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dica é nunca se repetir. Caso contrário, se toda vez que se sentir triste você for para o chuveiro, a mente transformará isso num háb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Th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tângulo 5"/>
          <p:cNvSpPr/>
          <p:nvPr/>
        </p:nvSpPr>
        <p:spPr>
          <a:xfrm>
            <a:off x="-757080" y="4797360"/>
            <a:ext cx="11161440" cy="2193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4797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pós a terceira ou quarta vez, ela aprenderá: "Isso é algo permitido. Você está triste, então é por isso que está tomando uma ducha." Nesse caso, a ducha irá apenas transformar-se em parte de sua tristeza. Seja inovador, seja criativo. Continue confundindo a 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Th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65" name="Retângulo 6"/>
          <p:cNvSpPr/>
          <p:nvPr/>
        </p:nvSpPr>
        <p:spPr>
          <a:xfrm>
            <a:off x="-757080" y="4406760"/>
            <a:ext cx="11161440" cy="26193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4406760"/>
            <a:ext cx="91440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O Ego diz algo e você se sente irritado. Em vez de bater nele ou jogar alguma coisa em sua direção, mude o padrão do pensamento: dê-lhe um abraço e um beijo. Confunda-o também! De repente, você perceberá que a mente é um mecanismo e que ela se sente perdida com o que é novo.</a:t>
            </a: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h017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395280" y="44280"/>
            <a:ext cx="8424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Abra a janela e deixe novos ventos entrarem.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Osh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CaixaDeTexto 2"/>
          <p:cNvSpPr/>
          <p:nvPr/>
        </p:nvSpPr>
        <p:spPr>
          <a:xfrm>
            <a:off x="7236000" y="5732640"/>
            <a:ext cx="413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Verdana"/>
                <a:ea typeface="Verdana"/>
              </a:rPr>
              <a:t>Mús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Verdana"/>
                <a:ea typeface="Verdana"/>
              </a:rPr>
              <a:t>La Vie En 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Verdana"/>
                <a:ea typeface="Verdana"/>
              </a:rPr>
              <a:t>Richard Clayd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4"/>
          <p:cNvSpPr/>
          <p:nvPr/>
        </p:nvSpPr>
        <p:spPr>
          <a:xfrm>
            <a:off x="974880" y="2349360"/>
            <a:ext cx="683712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tângulo 3"/>
          <p:cNvSpPr/>
          <p:nvPr/>
        </p:nvSpPr>
        <p:spPr>
          <a:xfrm>
            <a:off x="2050920" y="5022720"/>
            <a:ext cx="5113440" cy="460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917640" y="620640"/>
            <a:ext cx="763272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Receba duas mensagens semanais gratuitas, uma na segunda-feira e outra na sexta.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Basta enviar um e-mail para: 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1"/>
              </a:rPr>
              <a:t>powerpointsemanal-subscribe@yahoogrupos.com.br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Acesse:  </a:t>
            </a:r>
            <a:r>
              <a:rPr b="0" lang="pt-BR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/>
              </a:rPr>
              <a:t>WWW.PLANETAPOWERPOINT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31:12Z</dcterms:created>
  <dc:creator>Nemo Maxime</dc:creator>
  <dc:description/>
  <dc:language>en-US</dc:language>
  <cp:lastModifiedBy>Sergio Camargos</cp:lastModifiedBy>
  <dcterms:modified xsi:type="dcterms:W3CDTF">2013-09-30T20:11:55Z</dcterms:modified>
  <cp:revision>14</cp:revision>
  <dc:subject/>
  <dc:title>Apresentação do PowerPoint</dc:title>
</cp:coreProperties>
</file>