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Richrd%20Clayderman-La%20Vie%20En%20Rose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A9035-FCFA-4BB2-9410-11DAA561FC1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Espaço Reservado para Número de Slid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754D5-9026-47CF-B064-F8B10B18BE4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Espaço Reservado para Número de Slid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13891-711C-40DE-B64E-1934415F774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Espaço Reservado para Número de Slid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4CAE0-EE1C-4B32-9A5C-8FE6E0E1D21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D5D0-6E7D-47DA-8EB4-FC526785D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BCB1-4E66-487A-B6B2-AA0E42C08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381B-94FB-48E4-9BDE-F87362808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21D6-2F4A-4168-BCB7-80BB2E94D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39E1-9C82-4ADE-A37D-9D5903A91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CCA0-BA55-4927-AF2C-D4230DE4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9FA8-4E5E-4F90-AE92-C8DDB84C6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944D-61BF-475C-BCB2-A2CF1E04B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3662-AAA8-4292-B741-ABAAAE7A4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D08B-002F-4651-B752-6BF096A8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16B7-6781-47E6-8D19-17FBAEA6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FA48-CF47-4BCA-88BA-55250188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17946-C6E2-4599-846C-5EDD8B4DB0C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Richrd%20Clayderman-La%20Vie%20En%20Ro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powerpointsemanal-subscribe@yahoogrupos.com.br" TargetMode="External"/><Relationship Id="rId2" Type="http://schemas.openxmlformats.org/officeDocument/2006/relationships/hyperlink" Target="http://www.planetapowerpoint.com.br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CaixaDeTexto 1"/>
          <p:cNvSpPr/>
          <p:nvPr/>
        </p:nvSpPr>
        <p:spPr>
          <a:xfrm>
            <a:off x="2340000" y="2708280"/>
            <a:ext cx="5472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ffffff"/>
                </a:solidFill>
                <a:latin typeface="Verdana"/>
                <a:ea typeface="Verdana"/>
              </a:rPr>
              <a:t>VENÇA SUA MENTE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Th054"/>
          <p:cNvPicPr/>
          <p:nvPr/>
        </p:nvPicPr>
        <p:blipFill>
          <a:blip r:embed="rId1"/>
          <a:stretch/>
        </p:blipFill>
        <p:spPr>
          <a:xfrm>
            <a:off x="0" y="-5724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50" name="Retângulo 9"/>
          <p:cNvSpPr/>
          <p:nvPr/>
        </p:nvSpPr>
        <p:spPr>
          <a:xfrm>
            <a:off x="-541440" y="4653000"/>
            <a:ext cx="10658520" cy="244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826920" y="4869000"/>
            <a:ext cx="7851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  <a:ea typeface="Verdana"/>
              </a:rPr>
              <a:t>Sentindo-se triste? Dance ou vá tomar uma ducha e veja a tristeza desaparecer de seu corpo. Sinta como a água que bate em você leva junto a tristeza, da mesma forma que leva embora o suor e a poeira de seu corpo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Th0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669960" y="574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tângulo 6"/>
          <p:cNvSpPr/>
          <p:nvPr/>
        </p:nvSpPr>
        <p:spPr>
          <a:xfrm>
            <a:off x="-541440" y="4653000"/>
            <a:ext cx="10658520" cy="244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501480" y="4896000"/>
            <a:ext cx="814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  <a:ea typeface="Verdana"/>
              </a:rPr>
              <a:t>Por exemplo, se você estiver se sentindo irritado, inspire e expire profundamente durante apenas dois minutos e veja o que acontece com a sua ra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Th031"/>
          <p:cNvPicPr/>
          <p:nvPr/>
        </p:nvPicPr>
        <p:blipFill>
          <a:blip r:embed="rId1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4"/>
          <p:cNvSpPr/>
          <p:nvPr/>
        </p:nvSpPr>
        <p:spPr>
          <a:xfrm>
            <a:off x="216000" y="115920"/>
            <a:ext cx="871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  <a:ea typeface="Verdana"/>
              </a:rPr>
              <a:t>Ao respirar profundamente, você terá confundido sua mente, pois ela não é capaz de correlacionar as duas coisas. "Desde quando", a mente começa a se perguntar, "alguém respira profundamente quando está com raiva? O que está acontecendo?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0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Th05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8"/>
          <p:cNvSpPr/>
          <p:nvPr/>
        </p:nvSpPr>
        <p:spPr>
          <a:xfrm>
            <a:off x="324000" y="3933720"/>
            <a:ext cx="3987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 dica é nunca se repetir. Caso contrário, se toda vez que se sentir triste você for para o chuveiro, a mente transformará isso num hábi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75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75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8" descr="Th0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tângulo 5"/>
          <p:cNvSpPr/>
          <p:nvPr/>
        </p:nvSpPr>
        <p:spPr>
          <a:xfrm>
            <a:off x="-757080" y="4797360"/>
            <a:ext cx="11161440" cy="21938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0" y="479736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  <a:ea typeface="Verdana"/>
              </a:rPr>
              <a:t>Após a terceira ou quarta vez, ela aprenderá: "Isso é algo permitido. Você está triste, então é por isso que está tomando uma ducha." Nesse caso, a ducha irá apenas transformar-se em parte de sua tristeza. Seja inovador, seja criativo. Continue confundindo a 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3" descr="Th056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65" name="Retângulo 6"/>
          <p:cNvSpPr/>
          <p:nvPr/>
        </p:nvSpPr>
        <p:spPr>
          <a:xfrm>
            <a:off x="-757080" y="4406760"/>
            <a:ext cx="11161440" cy="26193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0" y="4406760"/>
            <a:ext cx="9144000" cy="26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  <a:ea typeface="Verdana"/>
              </a:rPr>
              <a:t>O Ego diz algo e você se sente irritado. Em vez de bater nele ou jogar alguma coisa em sua direção, mude o padrão do pensamento: dê-lhe um abraço e um beijo. Confunda-o também! De repente, você perceberá que a mente é um mecanismo e que ela se sente perdida com o que é novo.</a:t>
            </a:r>
            <a:br>
              <a:rPr sz="1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Th017"/>
          <p:cNvPicPr/>
          <p:nvPr/>
        </p:nvPicPr>
        <p:blipFill>
          <a:blip r:embed="rId1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4"/>
          <p:cNvSpPr/>
          <p:nvPr/>
        </p:nvSpPr>
        <p:spPr>
          <a:xfrm>
            <a:off x="395280" y="44280"/>
            <a:ext cx="842472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Verdana"/>
              </a:rPr>
              <a:t>Abra a janela e deixe novos ventos entrarem. 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1" lang="pt-BR" sz="34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1" lang="pt-BR" sz="34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1" lang="pt-BR" sz="34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1" lang="pt-BR" sz="34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1" lang="pt-BR" sz="34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1" lang="pt-BR" sz="34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1" lang="pt-BR" sz="3400" spc="-1" strike="noStrike">
                <a:solidFill>
                  <a:srgbClr val="000000"/>
                </a:solidFill>
                <a:latin typeface="Verdana"/>
                <a:ea typeface="Verdana"/>
              </a:rPr>
              <a:t>Osho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CaixaDeTexto 2"/>
          <p:cNvSpPr/>
          <p:nvPr/>
        </p:nvSpPr>
        <p:spPr>
          <a:xfrm>
            <a:off x="7236000" y="5732640"/>
            <a:ext cx="4133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Verdana"/>
                <a:ea typeface="Verdana"/>
              </a:rPr>
              <a:t>Mús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Verdana"/>
                <a:ea typeface="Verdana"/>
              </a:rPr>
              <a:t>La Vie En 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Verdana"/>
                <a:ea typeface="Verdana"/>
              </a:rPr>
              <a:t>Richard Clayde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tângulo 4"/>
          <p:cNvSpPr/>
          <p:nvPr/>
        </p:nvSpPr>
        <p:spPr>
          <a:xfrm>
            <a:off x="974880" y="2349360"/>
            <a:ext cx="6837120" cy="460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tângulo 3"/>
          <p:cNvSpPr/>
          <p:nvPr/>
        </p:nvSpPr>
        <p:spPr>
          <a:xfrm>
            <a:off x="2050920" y="5022720"/>
            <a:ext cx="5113440" cy="4604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"/>
          <p:cNvSpPr/>
          <p:nvPr/>
        </p:nvSpPr>
        <p:spPr>
          <a:xfrm>
            <a:off x="917640" y="620640"/>
            <a:ext cx="7632720" cy="52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ahoma"/>
                <a:ea typeface="Tahoma"/>
              </a:rPr>
              <a:t>Belas apresentações (slides) em PowerPoint, mensagens motivadoras, lindas imagens e textos para criar um ambiente de alegria e bem-est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ahoma"/>
                <a:ea typeface="Tahoma"/>
              </a:rPr>
              <a:t>Receba duas mensagens semanais gratuitas, uma na segunda-feira e outra na sexta. 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  <a:ea typeface="Tahoma"/>
              </a:rPr>
              <a:t>Basta enviar um e-mail para: </a:t>
            </a:r>
            <a:br>
              <a:rPr sz="2000"/>
            </a:br>
            <a:r>
              <a:rPr b="0" lang="pt-BR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1"/>
              </a:rPr>
              <a:t>powerpointsemanal-subscribe@yahoogrupos.com.br</a:t>
            </a:r>
            <a:r>
              <a:rPr b="1" lang="pt-BR" sz="2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pt-BR" sz="2000" spc="-1" strike="noStrike">
                <a:solidFill>
                  <a:srgbClr val="ffffff"/>
                </a:solidFill>
                <a:latin typeface="Tahoma"/>
                <a:ea typeface="Tahoma"/>
              </a:rPr>
              <a:t>não precisa escrever nada no e-mail, nem no campo assunto é só enviar o e-mail e daí a pouco você recebe uma mensagem de confirmação, clique em responder sem escrever nada no e-mail, clique em Enviar e já estará inscrito(a) para receber as mensagens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ahoma"/>
                <a:ea typeface="Tahoma"/>
              </a:rPr>
              <a:t>Acesse:  </a:t>
            </a:r>
            <a:r>
              <a:rPr b="0" lang="pt-BR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/>
              </a:rPr>
              <a:t>WWW.PLANETAPOWERPOINT.COM.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4T02:31:12Z</dcterms:created>
  <dc:creator>Nemo Maxime</dc:creator>
  <dc:description/>
  <dc:language>en-US</dc:language>
  <cp:lastModifiedBy>Sergio Camargos</cp:lastModifiedBy>
  <dcterms:modified xsi:type="dcterms:W3CDTF">2013-09-30T20:11:55Z</dcterms:modified>
  <cp:revision>14</cp:revision>
  <dc:subject/>
  <dc:title>Apresentação do PowerPoint</dc:title>
</cp:coreProperties>
</file>