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VANGELIS%20-%20El%20%C3%BAltimo%20Mohicano.cut1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767-775A-4E9A-9D7C-B6DE69BC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4EA-9CB1-4262-83F3-F6E21943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A2F-A8F2-4F2C-B299-50EDC21C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7E5-6B89-4A22-B540-BA534DC8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5F3-8F63-4AA1-A4CB-8EAF75C0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6AC-9AC7-47B5-9DC0-1A00C28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A36-A1BD-4646-B20F-D22CCAA2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47C-93B2-4512-BB4B-18E2D04C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7A2-1710-4072-898A-3D09C18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E6C-D399-48C5-B642-2CFF493C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91B-C390-43A1-98DF-0CD4BC7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F6E-86BE-4682-B052-4B941B3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6747-106C-433F-93F9-3B8E3691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VANGELIS%20-%20El%20&#250;ltimo%20Mohicano.cut1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leticiathompson.net/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orizonte%20ensolara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710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7772400" cy="5410080"/>
          </a:xfrm>
          <a:custGeom>
            <a:avLst/>
            <a:gdLst>
              <a:gd name="textAreaLeft" fmla="*/ 265680 w 7772400"/>
              <a:gd name="textAreaRight" fmla="*/ 7506720 w 7772400"/>
              <a:gd name="textAreaTop" fmla="*/ 265680 h 5410080"/>
              <a:gd name="textAreaBottom" fmla="*/ 5144400 h 5410080"/>
            </a:gdLst>
            <a:ahLst/>
            <a:rect l="textAreaLeft" t="textAreaTop" r="textAreaRight" b="textAreaBottom"/>
            <a:pathLst>
              <a:path w="31031" h="21600">
                <a:moveTo>
                  <a:pt x="1502" y="0"/>
                </a:moveTo>
                <a:arcTo wR="1502" hR="1502" stAng="0" swAng="5400000"/>
                <a:lnTo>
                  <a:pt x="0" y="20098"/>
                </a:lnTo>
                <a:arcTo wR="1502" hR="1502" stAng="16200000" swAng="5400000"/>
                <a:lnTo>
                  <a:pt x="29529" y="21600"/>
                </a:lnTo>
                <a:arcTo wR="1502" hR="1502" stAng="10800000" swAng="5400000"/>
                <a:lnTo>
                  <a:pt x="31031" y="1502"/>
                </a:lnTo>
                <a:arcTo wR="1502" hR="1502" stAng="5400000" swAng="5400000"/>
                <a:close/>
              </a:path>
            </a:pathLst>
          </a:custGeom>
          <a:solidFill>
            <a:srgbClr val="ffca7d">
              <a:alpha val="50000"/>
            </a:srgbClr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914400"/>
            <a:ext cx="7343640" cy="30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Copperplate Gothic Bold"/>
              </a:rPr>
              <a:t>A Consciência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Copperplate Gothic Bold"/>
              </a:rPr>
              <a:t>de sua Missão</a:t>
            </a:r>
            <a:endParaRPr b="1" lang="en-US" sz="7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3720" y="5334120"/>
            <a:ext cx="467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Copperplate Gothic Bold"/>
              </a:rPr>
              <a:t>Roberto Shinyashiki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Copperplate Gothic Bold"/>
              <a:ea typeface="Copperplate Gothic Bold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horz"/>
    <p:sndAc>
      <p:stSnd>
        <p:snd r:embed="rId8" name="VANGELIS%20-%20El%20%C3%BAltimo%20Mohicano.cut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ulher%20pensant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41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00"/>
                </a:solidFill>
                <a:latin typeface="Copperplate Gothic Light"/>
                <a:ea typeface="Times New Roman"/>
              </a:rPr>
              <a:t>Freqüentemente, eu me pergunto: " O que cada um de nós está fazendo neste planeta?</a:t>
            </a:r>
            <a:br>
              <a:rPr sz="2400"/>
            </a:br>
            <a:r>
              <a:rPr b="1" lang="pt-BR" sz="2400" spc="-1" strike="noStrike">
                <a:solidFill>
                  <a:srgbClr val="990000"/>
                </a:solidFill>
                <a:latin typeface="Copperplate Gothic Light"/>
                <a:ea typeface="Times New Roman"/>
              </a:rPr>
              <a:t>Se a vida for somente tentar aproveitar o máximo possível as horas e minutos, esse filme é bobo. Tenho certeza de que existe     um sentido melhor em tudo o que vivemos.      Para mim, nossa vinda ao planeta Terra        tem basicamente dois motivos: evoluir espiritualmente e aprender a amar melhor. </a:t>
            </a:r>
            <a:br>
              <a:rPr sz="2400"/>
            </a:br>
            <a:r>
              <a:rPr b="1" lang="pt-BR" sz="2400" spc="-1" strike="noStrike">
                <a:solidFill>
                  <a:srgbClr val="990000"/>
                </a:solidFill>
                <a:latin typeface="Copperplate Gothic Light"/>
                <a:ea typeface="Times New Roman"/>
              </a:rPr>
              <a:t>Todos os nossos bens na verdade não são nossos. Somos apenas as nossas almas.           E devemos aproveitar todas as opor- tunidades que a vida nos dá para nos aprimorarmos como pesso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omem%20dinheiro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8580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Copperplate Gothic Light"/>
                <a:ea typeface="Times New Roman"/>
              </a:rPr>
              <a:t>Portanto, lembre sempre que os seus fracassos são sempre os melhores professores e é nos momentos difíceis que as pessoas precisam encontrar uma razão maior para continuar em frente. As nossas ações, especialmente quando temos de nos superar, fazem de nós pessoas melhores. A nossa capacidade de resistir às tentações, aos desânimos para continuar o caminho é que nos torna pessoas especiais. Ninguém veio a essa vida com a missão de juntar dinheiro e comer do bom e do melhor. Ganhar dinheiro e alimentar-se faz parte da vida, mas, não pode ser a razão da v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elson%20mandela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6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0948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33"/>
                </a:solidFill>
                <a:latin typeface="Copperplate Gothic Light"/>
                <a:ea typeface="Times New Roman"/>
              </a:rPr>
              <a:t>Tenho certeza de que pessoas como Martin Luther King, Mahatma Ghandhi, Nelson Mandela, Madre Tereza de Calcutá, Irmã Dulce, Betinho e tantas outras anônimas,   que lutaram e lutam para melhorar a vida   dos mais fracos e dos mais pobres, não estavam motivadas pela idéia de ganhar dinheiro. O que move essas pessoas generosas a trabalhar diariamente, a não desistir nunca? A resposta é uma só: a consciência de sua missão nesta vida. Quando você tem a consciência de que através do seu trabalho você está  realizando sua missão você desenvolve uma força extra, capaz de levá-lo ao cume da montanha mais alta do plane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aixã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380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Copperplate Gothic Light"/>
                <a:ea typeface="Times New Roman"/>
              </a:rPr>
              <a:t>Infelizmente, muita gente se perde nesta viagem e distorce o sentido de sua existência pensando que acumular bens materiais é o objetivo da vida. E quando chega no final do caminho percebe que o caixão não tem gavetas e que  ela só vai poder levar daqui o bem que fez às pessoas. Se você tem estado angustiado sem motivo aparente está aí, um aviso para parar e refletir sobre o seu estilo de vida. Escute a sua alma: ela tem a orientação sobre qual caminho seguir. Tudo na vida é um convite para o avanço e a conquista de valores, na harmonia e na glória do b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6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undo%20pre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738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256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6600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6600"/>
                </a:solidFill>
                <a:latin typeface="Times New Roman"/>
              </a:rPr>
              <a:t>Vangelis - O Último Mohi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9880" y="1905120"/>
            <a:ext cx="1305000" cy="10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Sérgio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 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latin typeface="Copperplate Gothic Bold"/>
              <a:ea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/>
                </a:solidFill>
                <a:latin typeface="Copperplate Gothic Bold"/>
              </a:rPr>
              <a:t>Oliver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/>
              </a:solidFill>
              <a:latin typeface="Copperplate Gothic Bold"/>
              <a:ea typeface="Copperplate Gothic Bold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2004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6600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38080" y="5181480"/>
            <a:ext cx="1828800" cy="76212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/>
          </p:cNvPr>
          <p:cNvSpPr/>
          <p:nvPr/>
        </p:nvSpPr>
        <p:spPr>
          <a:xfrm>
            <a:off x="3505320" y="5105520"/>
            <a:ext cx="2133360" cy="1066680"/>
          </a:xfrm>
          <a:prstGeom prst="flowChartAlternateProcess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3300"/>
                </a:solidFill>
                <a:uFillTx/>
                <a:latin typeface="Times New Roman"/>
              </a:rPr>
              <a:t>Visite o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3300"/>
                </a:solidFill>
                <a:uFillTx/>
                <a:latin typeface="Times New Roman"/>
              </a:rPr>
              <a:t>Letícia Thomp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endshow"/>
          </p:cNvPr>
          <p:cNvSpPr/>
          <p:nvPr/>
        </p:nvSpPr>
        <p:spPr>
          <a:xfrm>
            <a:off x="6400800" y="5181480"/>
            <a:ext cx="1905120" cy="76212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6:25:15Z</dcterms:created>
  <dc:creator>ssoliver@terra.com.br </dc:creator>
  <dc:description>ssoliver@terra.com.br</dc:description>
  <dc:language>en-US</dc:language>
  <cp:lastModifiedBy>Sérgio S. Oliver</cp:lastModifiedBy>
  <dcterms:modified xsi:type="dcterms:W3CDTF">2004-11-17T01:13:32Z</dcterms:modified>
  <cp:revision>7</cp:revision>
  <dc:subject>PPS</dc:subject>
  <dc:title>A Consciência de sua Missão</dc:title>
</cp:coreProperties>
</file>