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bodyguard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AFC-03F4-473F-B76B-5ABCE24E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3BD-32DB-4A7F-A801-368DF7E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73A-D0AC-4E68-9F3D-2A873B8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B93-7189-48C0-B92F-4D99A969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010-C7EB-4E9B-86D5-0952E6B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B64-E174-4480-B425-92BA438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52D-E1D6-416C-85E2-0DB5B40A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227-CD47-4514-96EF-ED5880C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8E6-A333-4DB7-AA75-1DD719A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1E6-C84C-4053-A93D-C6DDB93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7A1-B7B1-4D4B-BDF8-D0F955D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D51-12B6-4765-8F28-69B886C1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7CF-7DE0-487F-B01D-E5D8EBBFC2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audio" Target="../media/bodyguard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hyperlink" Target="http://www.leticiathompson.net/minhas_mensagens_em_pps.htm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db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520"/>
            <a:ext cx="7239240" cy="510516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cap="rnd" w="152280">
            <a:solidFill>
              <a:srgbClr val="d0dbb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1371600"/>
            <a:ext cx="616284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Copperplate Gothic Bold"/>
              </a:rPr>
              <a:t>Se um dia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Copperplate Gothic Bold"/>
              </a:rPr>
              <a:t>puderes...</a:t>
            </a:r>
            <a:endParaRPr b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4800600"/>
            <a:ext cx="27432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opperplate Gothic Bold"/>
              </a:rPr>
              <a:t>Iracema Zanetti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1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randomBar dir="vert"/>
    <p:sndAc>
      <p:stSnd>
        <p:snd r:embed="rId9" name="bodyguar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696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4ad61"/>
                </a:solidFill>
                <a:latin typeface="Lucida Handwriting"/>
                <a:ea typeface="Times New Roman"/>
              </a:rPr>
              <a:t>Se um dia puderes me amar tanto quanto te amo, verás como eu, nascer o sol à noite ... e a lua brilhar no céu ao amanhecer! Do orvalho verás os pingos molhando a terra, exalando seu cheiro no ar! Ouvirás o cantar dos ventos, o rugir do mar ... A algazarra das aves marinhas ... O chilreio dos pássaros ao entardecer! O farfalhar das folhas ... Das asas das borboletas ...                        e das Maripos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3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9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09480"/>
            <a:ext cx="6705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4ad61"/>
                </a:solidFill>
                <a:latin typeface="Lucida Handwriting"/>
                <a:ea typeface="Times New Roman"/>
              </a:rPr>
              <a:t>O barulho das águas dos rios ... das cachoeiras, e das fontes! Os estrondos dos trovões ... e a eletricidade dos raios cortando os céus! Sentirás o perfume das flores ... e lembrarás do cheiro do meu corpo! Sentirás na textura das pétalas das rosas a maciez da pele do meu rosto! Ao ver a cor vermelha de frutos maduros, lembrarás da minha boca sorrindo à procura do teu beij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1e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64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5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06668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eb571"/>
                </a:solidFill>
                <a:latin typeface="Lucida Handwriting"/>
                <a:ea typeface="Times New Roman"/>
              </a:rPr>
              <a:t>Ao ver riachos de águas límpidas correndo rumo a caudalosos rios, lembrarás de meus braços abertos te esperando para enormes abraços, convidando-te para o leito do meu rio! Se um dia puderes me amar tanto quanto eu te amo, saberás que és a vida... e eu apenas a natureza te amand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c3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1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29b5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29b51"/>
                </a:solidFill>
                <a:latin typeface="Times New Roman"/>
              </a:rPr>
              <a:t>Whitney Houston – I Will Always Lov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b5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af6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19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4d5c3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990720" y="4952880"/>
            <a:ext cx="1828800" cy="7621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99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581280" y="4800600"/>
            <a:ext cx="2057400" cy="10666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endshow"/>
          </p:cNvPr>
          <p:cNvSpPr/>
          <p:nvPr/>
        </p:nvSpPr>
        <p:spPr>
          <a:xfrm>
            <a:off x="6400800" y="5029200"/>
            <a:ext cx="1828800" cy="762120"/>
          </a:xfrm>
          <a:prstGeom prst="flowChartAlternateProcess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99"/>
                </a:solidFill>
                <a:uFillTx/>
                <a:latin typeface="Times New Roman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1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33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8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3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800"/>
                            </p:stCondLst>
                            <p:childTnLst>
                              <p:par>
                                <p:cTn id="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9:00:41Z</dcterms:created>
  <dc:creator>ssoliver@terra.com.br </dc:creator>
  <dc:description>Elabora por: Sérgio S. Oliver </dc:description>
  <dc:language>en-US</dc:language>
  <cp:lastModifiedBy>Leticia Thompson</cp:lastModifiedBy>
  <dcterms:modified xsi:type="dcterms:W3CDTF">2004-11-02T20:55:16Z</dcterms:modified>
  <cp:revision>7</cp:revision>
  <dc:subject>PPS</dc:subject>
  <dc:title>Se um dia puderes</dc:title>
</cp:coreProperties>
</file>