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talina-ho%20capito%20que%20te%20amo-zizi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4BD-93C3-4C20-96E2-3B1F4C37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B7F-7DDF-4FC4-AB6A-130A3580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F82-70F8-444B-AB0B-85E47C03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9BF-216B-4119-9E6F-A9FEEDD9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7E1-DADB-4100-B07E-94D7668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C70-3FAC-4511-95F9-DBD6F50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1DC-4BB4-46DF-83A8-5066B0FD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82D-539D-4CCC-85AE-FB064A56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D83-B530-4D46-8922-D65AB92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897-A439-4FEA-8EDE-A204EDE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CF4-C0B6-4177-8E77-A06A860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983-6FB5-4443-B186-963DF87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DA1-EC7C-49B2-BAF2-6DF4ACC3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italina-ho%20capito%20que%20te%20amo-zizi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46544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211640" y="2997360"/>
            <a:ext cx="41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48484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48484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48484"/>
                  </a:outerShdw>
                </a:effectLst>
                <a:latin typeface="Arial"/>
              </a:rPr>
              <a:t>Fátima Irene Pint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48484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35280" y="1700280"/>
            <a:ext cx="36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Georgia"/>
              </a:rPr>
              <a:t>Despedida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 thruBlk="true"/>
    <p:sndAc>
      <p:stSnd>
        <p:snd r:embed="rId6" name="italina-ho%20capito%20que%20te%20amo-ziz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69228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egarei todos os m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sonhos e os despacharei 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nvelope pardo, destinatário incerto, sem remet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2349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assarei um pinc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curo no arco-íris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inocentemente eu desenhei, carregado de c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149720"/>
            <a:ext cx="48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massarei de vez todas as flores de mentirosas esperanças e arrancarei até mesmo os falsos botões que estão por v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8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1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84720" y="1125360"/>
            <a:ext cx="4535280" cy="525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55640" y="54936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ublarei a no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quando ela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cancarar a lua cheia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pagarei uma a um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odas as estrelas que teimarem em tremeluz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500280"/>
            <a:ext cx="453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ingirei de cinz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 manhã mais lumi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o meu santuário, emudecerei o can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meu sabiá coraçã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ão farei mais fes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ara o meu colib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608720" cy="48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773360"/>
            <a:ext cx="223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esfarei tod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s pegadas do caminho, onde os teus passos e os meus estiveram perfil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8366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ncherei de colcheias e semifusas confusas todos os fados e canções que arrancaram lágrimas deste meu coração emocion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2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67280" y="1268280"/>
            <a:ext cx="4608360" cy="511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268280"/>
            <a:ext cx="338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Farei em pedacinhos, pequenas e grandes lembranças palpáveis, sem esquecer aqu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CD e o vestido de marquinhas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quele que tu gostavas, mas não chegaste a conhec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27640" y="1557360"/>
            <a:ext cx="4319640" cy="482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484280"/>
            <a:ext cx="403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estroçarei tamb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s recordações não palpáveis, que 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dia me deram provas incontestes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eu amor e dizimare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todas as angél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hostes que 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trelaram a ti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squecidas 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 </a:t>
            </a: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minha d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5040360" cy="554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11640" y="765000"/>
            <a:ext cx="43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 se porventura em sonhos minha alma desvairada te buscar e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em prantos te encontrar andando pela rua,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braça-me, com aquele carinho de antigamente</a:t>
            </a:r>
            <a:br>
              <a:rPr sz="3600"/>
            </a:b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porque sonhand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nossas almas não mentem e a minha te dirá 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12000">
                <a:solidFill>
                  <a:srgbClr val="808080"/>
                </a:solidFill>
                <a:latin typeface="Georgia"/>
              </a:rPr>
              <a:t>ainda sou tu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7340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12000">
                <a:solidFill>
                  <a:srgbClr val="808080"/>
                </a:solidFill>
                <a:latin typeface="Georgia"/>
              </a:rPr>
              <a:t>Formata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12000">
                <a:solidFill>
                  <a:srgbClr val="808080"/>
                </a:solidFill>
                <a:latin typeface="Georgia"/>
              </a:rPr>
              <a:t>Lilalilaz@ao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7308720" y="5661000"/>
            <a:ext cx="1366920" cy="693720"/>
          </a:xfrm>
          <a:custGeom>
            <a:avLst/>
            <a:gdLst>
              <a:gd name="textAreaLeft" fmla="*/ 44640 w 1366920"/>
              <a:gd name="textAreaRight" fmla="*/ 1322280 w 1366920"/>
              <a:gd name="textAreaTop" fmla="*/ 44640 h 693720"/>
              <a:gd name="textAreaBottom" fmla="*/ 649080 h 693720"/>
            </a:gdLst>
            <a:ahLst/>
            <a:rect l="textAreaLeft" t="textAreaTop" r="textAreaRight" b="textAreaBottom"/>
            <a:pathLst>
              <a:path w="42550" h="21600">
                <a:moveTo>
                  <a:pt x="0" y="0"/>
                </a:moveTo>
                <a:lnTo>
                  <a:pt x="42550" y="0"/>
                </a:lnTo>
                <a:lnTo>
                  <a:pt x="42550" y="21600"/>
                </a:lnTo>
                <a:lnTo>
                  <a:pt x="0" y="21600"/>
                </a:lnTo>
                <a:close/>
              </a:path>
              <a:path fill="lightenLess" w="42550" h="21600">
                <a:moveTo>
                  <a:pt x="0" y="0"/>
                </a:moveTo>
                <a:lnTo>
                  <a:pt x="42550" y="0"/>
                </a:lnTo>
                <a:lnTo>
                  <a:pt x="41150" y="1400"/>
                </a:lnTo>
                <a:lnTo>
                  <a:pt x="1400" y="1400"/>
                </a:lnTo>
                <a:close/>
              </a:path>
              <a:path fill="darken" w="42550" h="21600">
                <a:moveTo>
                  <a:pt x="42550" y="0"/>
                </a:moveTo>
                <a:lnTo>
                  <a:pt x="42550" y="21600"/>
                </a:lnTo>
                <a:lnTo>
                  <a:pt x="41150" y="20200"/>
                </a:lnTo>
                <a:lnTo>
                  <a:pt x="41150" y="1400"/>
                </a:lnTo>
                <a:close/>
              </a:path>
              <a:path fill="darkenLess" w="42550" h="21600">
                <a:moveTo>
                  <a:pt x="42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0" y="20200"/>
                </a:lnTo>
                <a:close/>
              </a:path>
              <a:path fill="lighten" w="42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1000"/>
            </a:srgbClr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12000">
                <a:solidFill>
                  <a:srgbClr val="808080"/>
                </a:solidFill>
                <a:latin typeface="Georgia"/>
              </a:rPr>
              <a:t>s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60280"/>
            <a:ext cx="8351640" cy="6193080"/>
          </a:xfrm>
          <a:prstGeom prst="rect">
            <a:avLst/>
          </a:prstGeom>
          <a:noFill/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95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5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3:28:09Z</dcterms:created>
  <dc:creator>Maria TEREZA</dc:creator>
  <dc:description/>
  <dc:language>en-US</dc:language>
  <cp:lastModifiedBy>LILALILAZ</cp:lastModifiedBy>
  <dcterms:modified xsi:type="dcterms:W3CDTF">2006-01-09T23:33:14Z</dcterms:modified>
  <cp:revision>13</cp:revision>
  <dc:subject/>
  <dc:title> </dc:title>
</cp:coreProperties>
</file>