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talina-ho%20capito%20que%20te%20amo-zizi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68F-D1B4-4890-8D69-2950845C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5AC-A68E-4A07-823B-0B55B5A4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D6F-B417-4599-A8B8-4A9BAEF9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E53-B42E-4B65-8789-EF69019A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CDF-0DA1-49F9-867C-FE8F325B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A96-0D42-4300-A044-EB49D914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883-0993-4445-8D2C-0960D6B0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444-8521-43C3-8DB9-40F9858A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03E-88BE-4BA2-AA57-D631C3B1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3E9-0BAC-4EAF-9EDA-E84CFA1C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664-5DB2-404B-87F8-D41597AF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F4F-F811-44DC-BECF-C8F5A58A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DF12-13E3-450C-A1E8-8FA5C9AD2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italina-ho%20capito%20que%20te%20amo-zizi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465440" cy="489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211640" y="2997360"/>
            <a:ext cx="4103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48484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48484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48484"/>
                  </a:outerShdw>
                </a:effectLst>
                <a:latin typeface="Arial"/>
              </a:rPr>
              <a:t>Fátima Irene Pint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48484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635280" y="1700280"/>
            <a:ext cx="360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98"/>
                  </a:outerShdw>
                </a:effectLst>
                <a:latin typeface="Georgia"/>
              </a:rPr>
              <a:t>Despedida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89898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  <p:sndAc>
      <p:stSnd>
        <p:snd r:embed="rId6" name="italina-ho%20capito%20que%20te%20amo-ziz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500720" cy="525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84360" y="69228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Pegarei todos os me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sonhos e os despacharei 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 </a:t>
            </a: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nvelope pardo, destinatário incerto, sem remet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234936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Passarei um pinc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scuro no arco-íris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inocentemente eu desenhei, carregado de c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4149720"/>
            <a:ext cx="48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massarei de vez todas as flores de mentirosas esperanças e arrancarei até mesmo os falsos botões que estão por v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8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1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84720" y="1125360"/>
            <a:ext cx="4535280" cy="5256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55640" y="549360"/>
            <a:ext cx="388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Nublarei a noi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quando ela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scancarar a lua cheia,</a:t>
            </a:r>
            <a:br>
              <a:rPr sz="3600"/>
            </a:b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pagarei uma a um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todas as estrelas que teimarem em tremeluz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500280"/>
            <a:ext cx="453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Tingirei de cinz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 manhã mais lumin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 </a:t>
            </a: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do meu santuário, emudecerei o can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 </a:t>
            </a: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meu sabiá coraçã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não farei mais fes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para o meu colibr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608720" cy="482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1773360"/>
            <a:ext cx="223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Desfarei tod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s pegadas do caminho, onde os teus passos e os meus estiveram perfilad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836640"/>
            <a:ext cx="316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ncherei de colcheias e semifusas confusas todos os fados e canções que arrancaram lágrimas deste meu coração emocion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2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067280" y="1268280"/>
            <a:ext cx="4608360" cy="511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1268280"/>
            <a:ext cx="338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Farei em pedacinhos, pequenas e grandes lembranças palpáveis, sem esquecer aque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CD e o vestido de marquinhas,</a:t>
            </a:r>
            <a:br>
              <a:rPr sz="3600"/>
            </a:b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quele que tu gostavas, mas não chegaste a conhec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27640" y="1557360"/>
            <a:ext cx="4319640" cy="4822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484280"/>
            <a:ext cx="403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Destroçarei també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 </a:t>
            </a: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s recordações não palpáveis, que 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dia me deram provas incontestes 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teu amor e dizimare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todas as angél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 </a:t>
            </a: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hostes que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trelaram a ti,</a:t>
            </a:r>
            <a:br>
              <a:rPr sz="3600"/>
            </a:b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squecidas 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 </a:t>
            </a: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minha d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5040360" cy="554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211640" y="765000"/>
            <a:ext cx="4392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 se porventura em sonhos minha alma desvairada te buscar e,</a:t>
            </a:r>
            <a:br>
              <a:rPr sz="3600"/>
            </a:b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m prantos te encontrar andando pela rua,</a:t>
            </a:r>
            <a:br>
              <a:rPr sz="3600"/>
            </a:b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braça-me, com aquele carinho de antigamente</a:t>
            </a:r>
            <a:br>
              <a:rPr sz="3600"/>
            </a:b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porque sonhand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nossas almas não mentem e a minha te dirá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inda sou tu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73408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12000">
                <a:solidFill>
                  <a:srgbClr val="808080"/>
                </a:solidFill>
                <a:latin typeface="Georgia"/>
              </a:rPr>
              <a:t>Formataçã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12000">
                <a:solidFill>
                  <a:srgbClr val="808080"/>
                </a:solidFill>
                <a:latin typeface="Georgia"/>
              </a:rPr>
              <a:t>Lilalilaz@ao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endshow"/>
          </p:cNvPr>
          <p:cNvSpPr/>
          <p:nvPr/>
        </p:nvSpPr>
        <p:spPr>
          <a:xfrm>
            <a:off x="7308720" y="5661000"/>
            <a:ext cx="1366920" cy="693720"/>
          </a:xfrm>
          <a:custGeom>
            <a:avLst/>
            <a:gdLst>
              <a:gd name="textAreaLeft" fmla="*/ 44640 w 1366920"/>
              <a:gd name="textAreaRight" fmla="*/ 1322280 w 1366920"/>
              <a:gd name="textAreaTop" fmla="*/ 44640 h 693720"/>
              <a:gd name="textAreaBottom" fmla="*/ 649080 h 693720"/>
            </a:gdLst>
            <a:ahLst/>
            <a:rect l="textAreaLeft" t="textAreaTop" r="textAreaRight" b="textAreaBottom"/>
            <a:pathLst>
              <a:path w="42550" h="21600">
                <a:moveTo>
                  <a:pt x="0" y="0"/>
                </a:moveTo>
                <a:lnTo>
                  <a:pt x="42550" y="0"/>
                </a:lnTo>
                <a:lnTo>
                  <a:pt x="42550" y="21600"/>
                </a:lnTo>
                <a:lnTo>
                  <a:pt x="0" y="21600"/>
                </a:lnTo>
                <a:close/>
              </a:path>
              <a:path fill="lightenLess" w="42550" h="21600">
                <a:moveTo>
                  <a:pt x="0" y="0"/>
                </a:moveTo>
                <a:lnTo>
                  <a:pt x="42550" y="0"/>
                </a:lnTo>
                <a:lnTo>
                  <a:pt x="41150" y="1400"/>
                </a:lnTo>
                <a:lnTo>
                  <a:pt x="1400" y="1400"/>
                </a:lnTo>
                <a:close/>
              </a:path>
              <a:path fill="darken" w="42550" h="21600">
                <a:moveTo>
                  <a:pt x="42550" y="0"/>
                </a:moveTo>
                <a:lnTo>
                  <a:pt x="42550" y="21600"/>
                </a:lnTo>
                <a:lnTo>
                  <a:pt x="41150" y="20200"/>
                </a:lnTo>
                <a:lnTo>
                  <a:pt x="41150" y="1400"/>
                </a:lnTo>
                <a:close/>
              </a:path>
              <a:path fill="darkenLess" w="42550" h="21600">
                <a:moveTo>
                  <a:pt x="425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0" y="20200"/>
                </a:lnTo>
                <a:close/>
              </a:path>
              <a:path fill="lighten" w="425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baseline="12000">
                <a:solidFill>
                  <a:srgbClr val="808080"/>
                </a:solidFill>
                <a:latin typeface="Georgia"/>
              </a:rPr>
              <a:t>s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95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95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3:28:09Z</dcterms:created>
  <dc:creator>Maria TEREZA</dc:creator>
  <dc:description/>
  <dc:language>en-US</dc:language>
  <cp:lastModifiedBy>LILALILAZ</cp:lastModifiedBy>
  <dcterms:modified xsi:type="dcterms:W3CDTF">2006-01-09T23:33:14Z</dcterms:modified>
  <cp:revision>13</cp:revision>
  <dc:subject/>
  <dc:title> </dc:title>
</cp:coreProperties>
</file>