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La%20Califfa%20Sarah%20Brightman%20-%20menor5112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8CE-2809-49A3-B575-E0C30FDD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DD5-D9BF-40F5-8440-A3F9EFE5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B4E-DCCB-45A7-B6D4-258407FE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559-3AAB-4971-B1AD-0EE5DF5D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CD4-6EC1-419E-9240-31E2D53E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3C7-CCCE-4643-A320-7E7C66A7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28F-523F-411B-A01E-B548DBFF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CA8-09B8-463F-8C02-4309105A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84F-318C-4A15-AA7F-D86BC217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5D0-8460-4C03-9218-48B476F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011-3BC9-4C91-9C40-ABA47CFC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C3B-D74C-4D34-8EBC-736AC16C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0DAE-BB95-4489-96A6-BD4179E234E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%20Califfa%20Sarah%20Brightman%20-%20menor511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905120" y="5867280"/>
            <a:ext cx="1218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6eb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95280" y="428760"/>
            <a:ext cx="67820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ff00"/>
                </a:solidFill>
                <a:latin typeface="Abadi MT Condensed Light"/>
              </a:rPr>
              <a:t>Tenha sonho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00"/>
                </a:solidFill>
                <a:latin typeface="Abadi MT Condensed Light"/>
              </a:rPr>
              <a:t>É nos seus sonhos que Deus 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ff00"/>
                </a:solidFill>
                <a:latin typeface="Abadi MT Condensed Light"/>
              </a:rPr>
              <a:t>e revela o seu infinito po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471492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NUNCA DEIXE DE SONHAR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TENHA OBJETIV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4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1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00040" y="214200"/>
            <a:ext cx="6215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Reme contra a maré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No decorrer da sua vida,                      você encontrará pesso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que irão te jogar  “água fria”!                Irão falar que você é incapaz ...                    que é impossíve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Dirão que aquilo que você tanto           almeja não é para voc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00120" y="4500720"/>
            <a:ext cx="609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NÃO DESISTA!                                        O DEUS QUE SERVIMOS                                 É O SENHOR DO UNIVERSO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3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92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85880" y="214200"/>
            <a:ext cx="534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Tenha a certeza que dias               melhores virão e tudo tem                       um propósito na nossa vida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Nada é por acas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4786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165d"/>
                </a:solidFill>
                <a:latin typeface="Bookman Old Style"/>
              </a:rPr>
              <a:t>ENTREGA O TEU CAMINHO AO SENH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6165d"/>
                </a:solidFill>
                <a:latin typeface="Bookman Old Style"/>
              </a:rPr>
              <a:t>CONFIA NELE E O MAIS ELE FARÁ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8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3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00040" y="357120"/>
            <a:ext cx="741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badi MT Condensed Light"/>
              </a:rPr>
              <a:t>Não guarde essa mensagem só pra você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badi MT Condensed Light"/>
              </a:rPr>
              <a:t>Lembre-se dos seus melhores amigos,    envie esta mensagem e diga                          a eles de todo o seu coraçã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264312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dventure"/>
              </a:rPr>
              <a:t>LEMBREI-ME DE VOCÊ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aixaDeTexto 6"/>
          <p:cNvSpPr/>
          <p:nvPr/>
        </p:nvSpPr>
        <p:spPr>
          <a:xfrm>
            <a:off x="1714680" y="435780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Comic Sans MS"/>
              </a:rPr>
              <a:t>Um Abraç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Comic Sans MS"/>
              </a:rPr>
              <a:t>Tenha um abençoado d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6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8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3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1027"/>
          <p:cNvSpPr txBox="1"/>
          <p:nvPr/>
        </p:nvSpPr>
        <p:spPr>
          <a:xfrm>
            <a:off x="1258920" y="476280"/>
            <a:ext cx="6781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0066"/>
                </a:solidFill>
                <a:latin typeface="Cooper Black"/>
              </a:rPr>
              <a:t>NÃO </a:t>
            </a:r>
            <a:endParaRPr b="0" lang="en-US" sz="2400" spc="1" strike="noStrike">
              <a:ln w="0">
                <a:noFill/>
              </a:ln>
              <a:solidFill>
                <a:srgbClr val="660066"/>
              </a:solidFill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0066"/>
                </a:solidFill>
                <a:latin typeface="Cooper Black"/>
              </a:rPr>
              <a:t>DESISTA</a:t>
            </a:r>
            <a:endParaRPr b="0" lang="en-US" sz="2400" spc="1" strike="noStrike">
              <a:ln w="0">
                <a:noFill/>
              </a:ln>
              <a:solidFill>
                <a:srgbClr val="660066"/>
              </a:solidFill>
              <a:latin typeface="Cooper Black"/>
              <a:ea typeface="Cooper Black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1905120" y="5867280"/>
            <a:ext cx="1218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030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57240">
            <a:solidFill>
              <a:srgbClr val="6eb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838080" y="285840"/>
            <a:ext cx="7543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Comic Sans MS"/>
              </a:rPr>
              <a:t>Quando tudo não der mais cer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3000" spc="-1" strike="noStrike">
                <a:solidFill>
                  <a:srgbClr val="ffff00"/>
                </a:solidFill>
                <a:latin typeface="Comic Sans MS"/>
              </a:rPr>
              <a:t>e você já tentou todas as alternativa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3000" spc="-1" strike="noStrike">
                <a:solidFill>
                  <a:srgbClr val="ffff00"/>
                </a:solidFill>
                <a:latin typeface="Comic Sans MS"/>
              </a:rPr>
              <a:t>não te desespere.                             </a:t>
            </a:r>
            <a:r>
              <a:rPr b="1" lang="pt-BR" sz="3000" spc="-1" strike="noStrike">
                <a:solidFill>
                  <a:srgbClr val="ffff00"/>
                </a:solidFill>
                <a:latin typeface="Comic Sans MS"/>
              </a:rPr>
              <a:t>Deus proverá uma soluçã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441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Abadi MT Condensed Light"/>
              </a:rPr>
              <a:t>Ele é um Deus Fiel e te guardará            de todo mal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214200"/>
            <a:ext cx="7858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Momentos ruins não são etern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São como tempestades,                                      só duram por algum moment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Olhe para trás e veja quantas coisas p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você já  passou e supero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Algumas vezes as tribulações acontece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5c5f1"/>
                </a:solidFill>
                <a:latin typeface="Abadi MT Condensed Light"/>
              </a:rPr>
              <a:t>em nossa vida para                                         nos amadurec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600084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7ffd1"/>
                </a:solidFill>
                <a:latin typeface="Bookman Old Style"/>
              </a:rPr>
              <a:t>Portanto ANIME-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4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675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2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00080" y="214200"/>
            <a:ext cx="73152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Quando estiveres tris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olhe para o céu e veja o quão grande é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Se Deus foi capaz de criar o cé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imagine resolver os seus problema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2d2f4"/>
                </a:solidFill>
                <a:latin typeface="Abadi MT Condensed Light"/>
              </a:rPr>
              <a:t>que são tão pequenos perto de tão grandiosa obra </a:t>
            </a:r>
            <a:r>
              <a:rPr b="1" lang="pt-BR" sz="3600" spc="-1" strike="noStrike">
                <a:solidFill>
                  <a:srgbClr val="d2d2f4"/>
                </a:solidFill>
                <a:latin typeface="Abadi MT Condensed Light"/>
              </a:rPr>
              <a:t>que é o céu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464328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Seus problema não s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maiores do que DE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925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00080" y="357120"/>
            <a:ext cx="716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Faça como os triatletas nas Olimpíad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mesmo não conseguindo chegar em primeiro luga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lutam para chegar até o fi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badi MT Condensed Light"/>
              </a:rPr>
              <a:t>Portanto não desista dos seus ideais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000080" y="3857760"/>
            <a:ext cx="621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Lute até o fim,                                 não desista no meio                   do caminho, diga:             EU VOU VENC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8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2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285840"/>
            <a:ext cx="6096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badi MT Condensed Light"/>
              </a:rPr>
              <a:t>Se estiveres triste, chore!    Alivia a alma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badi MT Condensed Light"/>
              </a:rPr>
              <a:t>Jamais deixe que a trist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badi MT Condensed Light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badi MT Condensed Light"/>
              </a:rPr>
              <a:t>tome conta de você!          </a:t>
            </a:r>
            <a:r>
              <a:rPr b="1" lang="pt-BR" sz="3200" spc="-1" strike="noStrike">
                <a:solidFill>
                  <a:srgbClr val="ffffff"/>
                </a:solidFill>
                <a:latin typeface="Abadi MT Condensed Light"/>
              </a:rPr>
              <a:t>Jesus fala:</a:t>
            </a:r>
            <a:r>
              <a:rPr b="1" lang="pt-BR" sz="3200" spc="-1" strike="noStrike">
                <a:solidFill>
                  <a:srgbClr val="ffffff"/>
                </a:solidFill>
                <a:latin typeface="Abadi MT Condensed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4786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6165d"/>
                </a:solidFill>
                <a:latin typeface="Bookman Old Style"/>
              </a:rPr>
              <a:t>“</a:t>
            </a:r>
            <a:r>
              <a:rPr b="1" lang="pt-BR" sz="3200" spc="-1" strike="noStrike">
                <a:solidFill>
                  <a:srgbClr val="16165d"/>
                </a:solidFill>
                <a:latin typeface="Bookman Old Style"/>
              </a:rPr>
              <a:t>ALEGRA-TE! TENDE BOM ÂNI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6165d"/>
                </a:solidFill>
                <a:latin typeface="Bookman Old Style"/>
              </a:rPr>
              <a:t>QUE EU SOU CONTIGO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7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0040" y="214200"/>
            <a:ext cx="8072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7ffd1"/>
                </a:solidFill>
                <a:latin typeface="Abadi MT Condensed Light"/>
              </a:rPr>
              <a:t>Busque a Deus de todo o seu coração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7ffd1"/>
                </a:solidFill>
                <a:latin typeface="Abadi MT Condensed Light"/>
              </a:rPr>
              <a:t>Lembre-se que buscar a Deus tem                   que ser uma busca constante, diária.           Deus tem a solução para                            todos os seus problem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7ffd1"/>
                </a:solidFill>
                <a:latin typeface="Abadi MT Condensed Light"/>
              </a:rPr>
              <a:t>Para Deus nada é impossível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0" y="4429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0066"/>
                </a:solidFill>
                <a:latin typeface="Bookman Old Style"/>
              </a:rPr>
              <a:t>TENHA UMA VI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0066"/>
                </a:solidFill>
                <a:latin typeface="Bookman Old Style"/>
              </a:rPr>
              <a:t>DE COMUNHÃO COM DE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2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6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66680" y="285840"/>
            <a:ext cx="7162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badi MT Condensed Light"/>
              </a:rPr>
              <a:t>Tenha amigos, mas nunca se preocupe com a quantidade, mas com a qualida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badi MT Condensed Light"/>
              </a:rPr>
              <a:t> </a:t>
            </a:r>
            <a:r>
              <a:rPr b="1" lang="pt-BR" sz="2800" spc="-1" strike="noStrike">
                <a:solidFill>
                  <a:srgbClr val="ffc000"/>
                </a:solidFill>
                <a:latin typeface="Abadi MT Condensed Light"/>
              </a:rPr>
              <a:t>Busque amigos que te acrescentem pessoal e espiritualmente!                         Se eles nada te acrescentarem...  </a:t>
            </a:r>
            <a:r>
              <a:rPr b="1" lang="pt-BR" sz="3200" spc="-1" strike="noStrike">
                <a:solidFill>
                  <a:srgbClr val="ffff00"/>
                </a:solidFill>
                <a:latin typeface="Comic Sans MS"/>
              </a:rPr>
              <a:t>AFASTE-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4786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Bookman Old Style"/>
              </a:rPr>
              <a:t>AS MÁS COMPANHI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Bookman Old Style"/>
              </a:rPr>
              <a:t>CORROMPEM OS BONS COSTUM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057400" y="31240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4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0:54:20Z</dcterms:created>
  <dc:creator>user</dc:creator>
  <dc:description/>
  <dc:language>en-US</dc:language>
  <cp:lastModifiedBy>user</cp:lastModifiedBy>
  <dcterms:modified xsi:type="dcterms:W3CDTF">2009-09-29T00:57:29Z</dcterms:modified>
  <cp:revision>1</cp:revision>
  <dc:subject/>
  <dc:title>Slide 1</dc:title>
</cp:coreProperties>
</file>