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Danny%20Wright%20-%20Sometimes%20When%20We%20Touch.wav" ContentType="audio/x-wav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2ED-F78C-4049-9CA3-7FEDDE9D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2F5-BC5A-4940-B08F-B7DA648F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F49-0C24-4B2A-9832-129DF46D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5AC-0807-45B9-ACF2-B064E37C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A63-0DE7-44FA-8C04-29535557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E28-D2FD-4525-9682-5D953208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9A9-DBC9-4299-97C4-CE270C2A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B6F-776A-41C3-A252-F9EF1C84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3DF-876D-49D7-82A6-306ECBFE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476-8582-4AA0-9AE2-AC763AF4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933-0707-48F5-BE84-EBA5C07C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BBB-B527-4392-BB16-D6958354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0174-CFDA-45DD-A106-600A330EA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audio" Target="../media/Danny%20Wright%20-%20Sometimes%20When%20We%20Touch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1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13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14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15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hyperlink" Target="http://www.leticiathompson.net/" TargetMode="External"/><Relationship Id="rId22" Type="http://schemas.openxmlformats.org/officeDocument/2006/relationships/hyperlink" Target="mailto:bethnorling@globo.com" TargetMode="External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50920" y="26028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451640" y="26028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47680" y="516096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451640" y="515772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611280" y="62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7093080" y="620640"/>
            <a:ext cx="1439640" cy="1433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608040" y="480060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7093080" y="479736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0" y="260280"/>
            <a:ext cx="1193760" cy="1609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7986600" y="5013360"/>
            <a:ext cx="1157400" cy="1557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 flipH="1" rot="16114200">
            <a:off x="7717680" y="534960"/>
            <a:ext cx="1700280" cy="1150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0" y="5013360"/>
            <a:ext cx="1225440" cy="1574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419640" y="2276640"/>
            <a:ext cx="2111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c9900">
                      <a:alpha val="80000"/>
                    </a:srgbClr>
                  </a:outerShdw>
                </a:effectLst>
                <a:latin typeface="Arial Black"/>
              </a:rPr>
              <a:t>SORTE</a:t>
            </a:r>
            <a:endParaRPr b="0" i="1" lang="en-US" sz="4000" spc="1" strike="noStrike">
              <a:ln w="0">
                <a:noFill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c99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132000" y="4076640"/>
            <a:ext cx="2962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2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c99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400" spc="1" strike="noStrike">
              <a:ln w="0">
                <a:noFill/>
              </a:ln>
              <a:blipFill rotWithShape="0">
                <a:blip r:embed="rId2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c99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250920" y="26028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7451640" y="26028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247680" y="516096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7451640" y="515772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611280" y="62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7093080" y="620640"/>
            <a:ext cx="1439640" cy="1433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608040" y="480060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7093080" y="479736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0" y="260280"/>
            <a:ext cx="1193760" cy="1609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7986600" y="5013360"/>
            <a:ext cx="1157400" cy="155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 flipH="1" rot="16114200">
            <a:off x="7717680" y="534960"/>
            <a:ext cx="1700280" cy="1150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tretch/>
        </p:blipFill>
        <p:spPr>
          <a:xfrm>
            <a:off x="0" y="5013360"/>
            <a:ext cx="1225440" cy="1574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981000"/>
            <a:ext cx="6912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sorte existe! Não para os que acreditam ou não que ela existe, mas para aqueles que constroem suas vidas de maneira que coisas boas lhes aconteç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4869000"/>
            <a:ext cx="70563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 sorte quem se levanta de bom-humor de manhã cedo e faz uma oração para que o seu dia seja abençoad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62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250920" y="26028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7451640" y="26028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247680" y="516096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2"/>
          <a:stretch/>
        </p:blipFill>
        <p:spPr>
          <a:xfrm>
            <a:off x="7451640" y="515772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3"/>
          <a:stretch/>
        </p:blipFill>
        <p:spPr>
          <a:xfrm>
            <a:off x="611280" y="62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4"/>
          <a:stretch/>
        </p:blipFill>
        <p:spPr>
          <a:xfrm>
            <a:off x="7093080" y="620640"/>
            <a:ext cx="1439640" cy="143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5"/>
          <a:stretch/>
        </p:blipFill>
        <p:spPr>
          <a:xfrm>
            <a:off x="608040" y="480060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6"/>
          <a:stretch/>
        </p:blipFill>
        <p:spPr>
          <a:xfrm>
            <a:off x="7093080" y="479736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7"/>
          <a:stretch/>
        </p:blipFill>
        <p:spPr>
          <a:xfrm>
            <a:off x="0" y="260280"/>
            <a:ext cx="1193760" cy="1609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8"/>
          <a:stretch/>
        </p:blipFill>
        <p:spPr>
          <a:xfrm>
            <a:off x="7986600" y="5013360"/>
            <a:ext cx="1157400" cy="1557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9"/>
          <a:stretch/>
        </p:blipFill>
        <p:spPr>
          <a:xfrm flipH="1" rot="16114200">
            <a:off x="7717680" y="534960"/>
            <a:ext cx="1700280" cy="1150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0"/>
          <a:stretch/>
        </p:blipFill>
        <p:spPr>
          <a:xfrm>
            <a:off x="0" y="5013360"/>
            <a:ext cx="1225440" cy="157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16000" y="981000"/>
            <a:ext cx="6985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 sorte quem abre o coração para dar e receber amor, sem se questionar se é merecido ou nã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5157720"/>
            <a:ext cx="70772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 sorte quem vê coisas positivas onde ninguém mais consegue v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250920" y="26028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7451640" y="26028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1"/>
          <a:stretch/>
        </p:blipFill>
        <p:spPr>
          <a:xfrm>
            <a:off x="247680" y="516096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2"/>
          <a:stretch/>
        </p:blipFill>
        <p:spPr>
          <a:xfrm>
            <a:off x="7451640" y="515772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3"/>
          <a:stretch/>
        </p:blipFill>
        <p:spPr>
          <a:xfrm>
            <a:off x="611280" y="62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4"/>
          <a:stretch/>
        </p:blipFill>
        <p:spPr>
          <a:xfrm>
            <a:off x="7093080" y="620640"/>
            <a:ext cx="1439640" cy="1433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5"/>
          <a:stretch/>
        </p:blipFill>
        <p:spPr>
          <a:xfrm>
            <a:off x="608040" y="480060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6"/>
          <a:stretch/>
        </p:blipFill>
        <p:spPr>
          <a:xfrm>
            <a:off x="7093080" y="479736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7"/>
          <a:stretch/>
        </p:blipFill>
        <p:spPr>
          <a:xfrm>
            <a:off x="0" y="260280"/>
            <a:ext cx="1193760" cy="1609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8"/>
          <a:stretch/>
        </p:blipFill>
        <p:spPr>
          <a:xfrm>
            <a:off x="7986600" y="5013360"/>
            <a:ext cx="1157400" cy="1557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9"/>
          <a:stretch/>
        </p:blipFill>
        <p:spPr>
          <a:xfrm flipH="1" rot="16114200">
            <a:off x="7717680" y="534960"/>
            <a:ext cx="1700280" cy="1150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0"/>
          <a:stretch/>
        </p:blipFill>
        <p:spPr>
          <a:xfrm>
            <a:off x="0" y="5013360"/>
            <a:ext cx="1225440" cy="1574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42920" y="907920"/>
            <a:ext cx="7148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 sorte quem tem fé para continuar acreditando que jamais está sozinho e que, o que quer que aconteça, coisas boas acabarão acontecen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4437000"/>
            <a:ext cx="7148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 sorte quem se veste de verde, vermelho ou preto sem se importar se a sua cor de roupa vai influenciar no seu dia, mas que o sorriso que carregará no rosto poderá fazer toda a diferença no dia de algué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250920" y="26028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7451640" y="26028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247680" y="516096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2"/>
          <a:stretch/>
        </p:blipFill>
        <p:spPr>
          <a:xfrm>
            <a:off x="7451640" y="515772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3"/>
          <a:stretch/>
        </p:blipFill>
        <p:spPr>
          <a:xfrm>
            <a:off x="611280" y="62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4"/>
          <a:stretch/>
        </p:blipFill>
        <p:spPr>
          <a:xfrm>
            <a:off x="7093080" y="620640"/>
            <a:ext cx="1439640" cy="1433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5"/>
          <a:stretch/>
        </p:blipFill>
        <p:spPr>
          <a:xfrm>
            <a:off x="608040" y="480060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6"/>
          <a:stretch/>
        </p:blipFill>
        <p:spPr>
          <a:xfrm>
            <a:off x="7093080" y="479736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7"/>
          <a:stretch/>
        </p:blipFill>
        <p:spPr>
          <a:xfrm>
            <a:off x="0" y="260280"/>
            <a:ext cx="1193760" cy="1609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8"/>
          <a:stretch/>
        </p:blipFill>
        <p:spPr>
          <a:xfrm>
            <a:off x="7986600" y="5013360"/>
            <a:ext cx="1157400" cy="1557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9"/>
          <a:stretch/>
        </p:blipFill>
        <p:spPr>
          <a:xfrm flipH="1" rot="16114200">
            <a:off x="7717680" y="534960"/>
            <a:ext cx="1700280" cy="1150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0"/>
          <a:stretch/>
        </p:blipFill>
        <p:spPr>
          <a:xfrm>
            <a:off x="0" y="5013360"/>
            <a:ext cx="1225440" cy="1574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116000" y="907920"/>
            <a:ext cx="7005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 sorte quem trabalha com afinco e honestamente e chega ao final da existência tendo o prazer de olhar para trás e pensar que a vida valeu a pe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5157720"/>
            <a:ext cx="70772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 sorte quem ama, ou quem amou um dia e por isso nunca mais terá um coração vaz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9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250920" y="26028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7451640" y="26028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247680" y="516096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7451640" y="515772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611280" y="62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4"/>
          <a:stretch/>
        </p:blipFill>
        <p:spPr>
          <a:xfrm>
            <a:off x="7093080" y="620640"/>
            <a:ext cx="1439640" cy="1433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5"/>
          <a:stretch/>
        </p:blipFill>
        <p:spPr>
          <a:xfrm>
            <a:off x="608040" y="480060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6"/>
          <a:stretch/>
        </p:blipFill>
        <p:spPr>
          <a:xfrm>
            <a:off x="7093080" y="479736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0" y="260280"/>
            <a:ext cx="1193760" cy="1609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8"/>
          <a:stretch/>
        </p:blipFill>
        <p:spPr>
          <a:xfrm>
            <a:off x="7986600" y="5013360"/>
            <a:ext cx="1157400" cy="1557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9"/>
          <a:stretch/>
        </p:blipFill>
        <p:spPr>
          <a:xfrm flipH="1" rot="16114200">
            <a:off x="7717680" y="534960"/>
            <a:ext cx="1700280" cy="1150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0"/>
          <a:stretch/>
        </p:blipFill>
        <p:spPr>
          <a:xfrm>
            <a:off x="0" y="5013360"/>
            <a:ext cx="1225440" cy="1574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23840" y="4653000"/>
            <a:ext cx="7004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mbre-se: a sua sorte, você faz! Seus trevos, ferraduras e pés de coelho são os pensamentos positivos e sua alegria de viver. Contra isso não há mal, nada poderá te ve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250920" y="26028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7451640" y="26028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1"/>
          <a:stretch/>
        </p:blipFill>
        <p:spPr>
          <a:xfrm>
            <a:off x="247680" y="516096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"/>
          <a:stretch/>
        </p:blipFill>
        <p:spPr>
          <a:xfrm>
            <a:off x="7451640" y="515772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3"/>
          <a:stretch/>
        </p:blipFill>
        <p:spPr>
          <a:xfrm>
            <a:off x="611280" y="62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4"/>
          <a:stretch/>
        </p:blipFill>
        <p:spPr>
          <a:xfrm>
            <a:off x="7093080" y="620640"/>
            <a:ext cx="1439640" cy="1433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5"/>
          <a:stretch/>
        </p:blipFill>
        <p:spPr>
          <a:xfrm>
            <a:off x="608040" y="480060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6"/>
          <a:stretch/>
        </p:blipFill>
        <p:spPr>
          <a:xfrm>
            <a:off x="7093080" y="479736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7"/>
          <a:stretch/>
        </p:blipFill>
        <p:spPr>
          <a:xfrm>
            <a:off x="0" y="260280"/>
            <a:ext cx="1193760" cy="1609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8"/>
          <a:stretch/>
        </p:blipFill>
        <p:spPr>
          <a:xfrm>
            <a:off x="7986600" y="5013360"/>
            <a:ext cx="1157400" cy="1557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9"/>
          <a:stretch/>
        </p:blipFill>
        <p:spPr>
          <a:xfrm flipH="1" rot="16114200">
            <a:off x="7717680" y="534960"/>
            <a:ext cx="1700280" cy="1150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0"/>
          <a:stretch/>
        </p:blipFill>
        <p:spPr>
          <a:xfrm>
            <a:off x="0" y="5013360"/>
            <a:ext cx="1225440" cy="1574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258920" y="1844640"/>
            <a:ext cx="657396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21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Danny Wr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Sometimes when we tou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22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3:44:58Z</dcterms:created>
  <dc:creator>Beth Norling</dc:creator>
  <dc:description/>
  <dc:language>en-US</dc:language>
  <cp:lastModifiedBy>Beth Norling</cp:lastModifiedBy>
  <dcterms:modified xsi:type="dcterms:W3CDTF">2008-03-07T18:34:37Z</dcterms:modified>
  <cp:revision>12</cp:revision>
  <dc:subject/>
  <dc:title>Sorte</dc:title>
</cp:coreProperties>
</file>