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7.jpeg" ContentType="image/jpeg"/>
  <Override PartName="/ppt/media/beatles%20-%20long%20&amp;%20winding%20road%20partial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27D-2703-4B91-974C-ADB671D1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302-AC1E-452D-A09B-E36EAF39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72E-C769-42D5-9BD4-3ADEEC02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C03-4B23-41B1-9F76-8FA73BF5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D67-DC52-452C-ACA5-61EF2BCF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9F74-9AB2-456F-B7A0-8D2B241E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56B-8DB9-4B9B-9AE9-B6290B53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B38-A277-4921-B9CE-35439B14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7621-FDC0-4D51-B422-53F29BD2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25E-9265-4CCE-BCC1-96A7EB67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103-2A69-4282-8165-2D649DED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8C0-47DA-4C7E-8B47-0327FD75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4594-D78A-4CFC-8A00-2DA4C12E2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eatles%20-%20long%20&amp;%20winding%20road%20partial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ac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48000" y="2138400"/>
            <a:ext cx="424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/>
                </a:solidFill>
                <a:latin typeface="Arial Black"/>
              </a:rPr>
              <a:t>O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66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/>
                </a:solidFill>
                <a:latin typeface="Arial Black"/>
              </a:rPr>
              <a:t>invejoso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6699"/>
              </a:solidFill>
              <a:latin typeface="Arial Black"/>
              <a:ea typeface="Arial Black"/>
            </a:endParaRPr>
          </a:p>
        </p:txBody>
      </p:sp>
    </p:spTree>
  </p:cSld>
  <p:transition spd="med" advTm="4000">
    <p:zoom dir="out"/>
    <p:sndAc>
      <p:stSnd>
        <p:snd r:embed="rId1" name="beatles%20-%20long%20&amp;%20winding%20road%20partia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Você conquista um diploma ,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le vive o medo do seu sucesso futuro .</a:t>
            </a: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4572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Você levanta um prédio ,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le escolhe uma janela pra pular 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76520" y="579132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99"/>
                </a:solidFill>
                <a:latin typeface="Arial"/>
              </a:rPr>
              <a:t>Você cura os doentes ,</a:t>
            </a:r>
            <a:r>
              <a:rPr b="1" lang="pt-BR" sz="3200" spc="-1" strike="noStrike">
                <a:solidFill>
                  <a:srgbClr val="ffcc99"/>
                </a:solidFill>
                <a:latin typeface="Arial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ffcc99"/>
                </a:solidFill>
                <a:latin typeface="Arial"/>
              </a:rPr>
              <a:t>ele adoece por causa disso .</a:t>
            </a:r>
            <a:r>
              <a:rPr b="0" lang="pt-BR" sz="3200" spc="-1" strike="noStrike">
                <a:solidFill>
                  <a:srgbClr val="ffcc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Você ensina os seus alunos ,</a:t>
            </a:r>
            <a:br>
              <a:rPr sz="3200"/>
            </a:b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ele tenta descobrir o que você não sabe .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33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Você tem a simpatia do chefe ,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le prefere chamá-lo de puxa-saco 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-457200"/>
            <a:ext cx="9144000" cy="7772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Você recebe os aplausos,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le busca saber se alguém o vaia.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562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cff66"/>
                </a:solidFill>
                <a:latin typeface="Arial"/>
              </a:rPr>
              <a:t>Você liga seu computador para serviço útil,</a:t>
            </a:r>
            <a:r>
              <a:rPr b="0" lang="pt-BR" sz="3200" spc="-1" strike="noStrike">
                <a:solidFill>
                  <a:srgbClr val="ccff66"/>
                </a:solidFill>
                <a:latin typeface="Arial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ccff66"/>
                </a:solidFill>
                <a:latin typeface="Arial"/>
              </a:rPr>
              <a:t>ele coleciona programas de ví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 que ele realmente faz , </a:t>
            </a:r>
            <a:r>
              <a:rPr b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quando faz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Você cria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, ele copia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5791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99"/>
                </a:solidFill>
                <a:latin typeface="Arial"/>
              </a:rPr>
              <a:t>Ele é um eterno expectador... </a:t>
            </a:r>
            <a:br>
              <a:rPr sz="3200"/>
            </a:br>
            <a:r>
              <a:rPr b="1" lang="pt-BR" sz="3200" spc="-1" strike="noStrike">
                <a:solidFill>
                  <a:srgbClr val="ffcc99"/>
                </a:solidFill>
                <a:latin typeface="Arial"/>
              </a:rPr>
              <a:t>... merece sua compaixão e não seu temor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816440"/>
            <a:ext cx="586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99"/>
                </a:solidFill>
                <a:latin typeface="Arial"/>
              </a:rPr>
              <a:t>Existimos para sermos, não melhores do que os outros, mas para sermos melhores do que nós próp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5120" y="2278080"/>
            <a:ext cx="5181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Você teme o invejos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or quê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556272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00"/>
                </a:solidFill>
                <a:latin typeface="Arial"/>
              </a:rPr>
              <a:t>O invejoso é um eterno expectador, pois enqua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638680" y="335268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336600"/>
                </a:solidFill>
                <a:latin typeface="Arial"/>
              </a:rPr>
              <a:t>Você pesca</a:t>
            </a:r>
            <a:r>
              <a:rPr b="1" lang="pt-BR" sz="3200" spc="-1" strike="noStrike">
                <a:solidFill>
                  <a:srgbClr val="336600"/>
                </a:solidFill>
                <a:latin typeface="Arial"/>
              </a:rPr>
              <a:t> ,                      ele olha o rio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Você dorme pacificamente ,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ele perde o sono quando pensa em você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5410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99cc00"/>
                </a:solidFill>
                <a:latin typeface="Arial"/>
              </a:rPr>
              <a:t>Você acorda e saúda o sol ,</a:t>
            </a:r>
            <a:r>
              <a:rPr b="1" lang="pt-BR" sz="32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99cc00"/>
                </a:solidFill>
                <a:latin typeface="Arial"/>
              </a:rPr>
              <a:t>ele olha o seu bronzeado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579132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cc"/>
                </a:solidFill>
                <a:latin typeface="Arial"/>
              </a:rPr>
              <a:t>Você sai para o trabalho ,</a:t>
            </a:r>
            <a:br>
              <a:rPr sz="3200"/>
            </a:br>
            <a:r>
              <a:rPr b="1" lang="pt-BR" sz="3200" spc="-1" strike="noStrike">
                <a:solidFill>
                  <a:srgbClr val="ffcccc"/>
                </a:solidFill>
                <a:latin typeface="Arial"/>
              </a:rPr>
              <a:t>ele calcula o seu salário .</a:t>
            </a:r>
            <a:r>
              <a:rPr b="0" lang="pt-BR" sz="32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52480" y="5410080"/>
            <a:ext cx="518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Você constrói sua casa ,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ele julga a cor das tintas .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548640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Você estuda , tem boas notas,</a:t>
            </a:r>
            <a:br>
              <a:rPr sz="3200"/>
            </a:b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ele se preocupa com esses números 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1:39:34Z</dcterms:created>
  <dc:creator>Cindy</dc:creator>
  <dc:description/>
  <dc:language>en-US</dc:language>
  <cp:lastModifiedBy>.</cp:lastModifiedBy>
  <dcterms:modified xsi:type="dcterms:W3CDTF">2007-07-12T21:26:12Z</dcterms:modified>
  <cp:revision>8</cp:revision>
  <dc:subject/>
  <dc:title>10 most beautiful roads</dc:title>
</cp:coreProperties>
</file>