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7.jpeg" ContentType="image/jpeg"/>
  <Override PartName="/ppt/media/beatles%20-%20long%20&amp;%20winding%20road%20partial.wav" ContentType="audio/x-wav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3E90-1C0C-4314-AEC2-86CFB6534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0224-6BE4-40F6-A4E3-7FF55C49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5BDE-BAA3-45E3-B5BC-002804DD3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4553-E01B-44D8-ABE2-21F533FBA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FD11-A8C4-4127-B65E-FAA35F09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3DBB-3B5B-4A40-BDFC-90C3387D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B71F-F06F-462A-9C04-B21CB739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62D6-D253-4DF7-A755-C9C70A3D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1F45-6E0F-4CDB-9B18-E8F013A4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CD75-47BF-45CB-B43D-C264FF16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1FC9-DE35-4F72-B43D-65483C3E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E470-DA4F-4915-BF6A-2DF06FC6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E472-B2D5-4E40-9BBE-E48BB0E4A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beatles%20-%20long%20&amp;%20winding%20road%20partial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ac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448000" y="2138400"/>
            <a:ext cx="42480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99"/>
                </a:solidFill>
                <a:latin typeface="Arial Black"/>
              </a:rPr>
              <a:t>O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66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99"/>
                </a:solidFill>
                <a:latin typeface="Arial Black"/>
              </a:rPr>
              <a:t>invejoso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6699"/>
              </a:solidFill>
              <a:latin typeface="Arial Black"/>
              <a:ea typeface="Arial Black"/>
            </a:endParaRPr>
          </a:p>
        </p:txBody>
      </p:sp>
    </p:spTree>
  </p:cSld>
  <p:transition spd="med" advTm="4000">
    <p:zoom dir="out"/>
    <p:sndAc>
      <p:stSnd>
        <p:snd r:embed="rId1" name="beatles%20-%20long%20&amp;%20winding%20road%20partial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Você conquista um diploma , 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ele vive o medo do seu sucesso futuro .</a:t>
            </a: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95280" y="45720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Você levanta um prédio ,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ele escolhe uma janela pra pular .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76520" y="5791320"/>
            <a:ext cx="670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cc99"/>
                </a:solidFill>
                <a:latin typeface="Arial"/>
              </a:rPr>
              <a:t>Você cura os doentes ,</a:t>
            </a:r>
            <a:r>
              <a:rPr b="1" lang="pt-BR" sz="3200" spc="-1" strike="noStrike">
                <a:solidFill>
                  <a:srgbClr val="ffcc99"/>
                </a:solidFill>
                <a:latin typeface="Arial"/>
              </a:rPr>
              <a:t> </a:t>
            </a:r>
            <a:br>
              <a:rPr sz="3200"/>
            </a:br>
            <a:r>
              <a:rPr b="1" lang="pt-BR" sz="3200" spc="-1" strike="noStrike">
                <a:solidFill>
                  <a:srgbClr val="ffcc99"/>
                </a:solidFill>
                <a:latin typeface="Arial"/>
              </a:rPr>
              <a:t>ele adoece por causa disso .</a:t>
            </a:r>
            <a:r>
              <a:rPr b="0" lang="pt-BR" sz="3200" spc="-1" strike="noStrike">
                <a:solidFill>
                  <a:srgbClr val="ffcc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Arial"/>
              </a:rPr>
              <a:t>Você ensina os seus alunos ,</a:t>
            </a:r>
            <a:br>
              <a:rPr sz="3200"/>
            </a:b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ele tenta descobrir o que você não sabe .</a:t>
            </a:r>
            <a:r>
              <a:rPr b="0" lang="pt-BR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335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Você tem a simpatia do chefe , 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ele prefere chamá-lo de puxa-saco 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-457200"/>
            <a:ext cx="9144000" cy="7772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533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Você recebe os aplausos, 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ele busca saber se alguém o vaia.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5562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ccff66"/>
                </a:solidFill>
                <a:latin typeface="Arial"/>
              </a:rPr>
              <a:t>Você liga seu computador para serviço útil,</a:t>
            </a:r>
            <a:r>
              <a:rPr b="0" lang="pt-BR" sz="3200" spc="-1" strike="noStrike">
                <a:solidFill>
                  <a:srgbClr val="ccff66"/>
                </a:solidFill>
                <a:latin typeface="Arial"/>
              </a:rPr>
              <a:t> </a:t>
            </a:r>
            <a:br>
              <a:rPr sz="3200"/>
            </a:br>
            <a:r>
              <a:rPr b="1" lang="pt-BR" sz="3200" spc="-1" strike="noStrike">
                <a:solidFill>
                  <a:srgbClr val="ccff66"/>
                </a:solidFill>
                <a:latin typeface="Arial"/>
              </a:rPr>
              <a:t>ele coleciona programas de vír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O que ele realmente faz , </a:t>
            </a:r>
            <a:r>
              <a:rPr b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quando faz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3200"/>
            </a:b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Você cria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, ele copia!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57913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cc99"/>
                </a:solidFill>
                <a:latin typeface="Arial"/>
              </a:rPr>
              <a:t>Ele é um eterno expectador... </a:t>
            </a:r>
            <a:br>
              <a:rPr sz="3200"/>
            </a:br>
            <a:r>
              <a:rPr b="1" lang="pt-BR" sz="3200" spc="-1" strike="noStrike">
                <a:solidFill>
                  <a:srgbClr val="ffcc99"/>
                </a:solidFill>
                <a:latin typeface="Arial"/>
              </a:rPr>
              <a:t>... merece sua compaixão e não seu temor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4816440"/>
            <a:ext cx="5867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99"/>
                </a:solidFill>
                <a:latin typeface="Arial"/>
              </a:rPr>
              <a:t>Existimos para sermos, não melhores do que os outros, mas para sermos melhores do que nós própr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905120" y="2278080"/>
            <a:ext cx="5181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Você teme o invejos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Por quê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47920" y="5562720"/>
            <a:ext cx="716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00"/>
                </a:solidFill>
                <a:latin typeface="Arial"/>
              </a:rPr>
              <a:t>O invejoso é um eterno expectador, pois enqua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638680" y="3352680"/>
            <a:ext cx="350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336600"/>
                </a:solidFill>
                <a:latin typeface="Arial"/>
              </a:rPr>
              <a:t>Você pesca</a:t>
            </a:r>
            <a:r>
              <a:rPr b="1" lang="pt-BR" sz="3200" spc="-1" strike="noStrike">
                <a:solidFill>
                  <a:srgbClr val="336600"/>
                </a:solidFill>
                <a:latin typeface="Arial"/>
              </a:rPr>
              <a:t> ,                      ele olha o rio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51814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Arial"/>
              </a:rPr>
              <a:t>Você dorme pacificamente ,</a:t>
            </a: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ele perde o sono quando pensa em você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54100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99cc00"/>
                </a:solidFill>
                <a:latin typeface="Arial"/>
              </a:rPr>
              <a:t>Você acorda e saúda o sol ,</a:t>
            </a:r>
            <a:r>
              <a:rPr b="1" lang="pt-BR" sz="3200" spc="-1" strike="noStrike" u="sng">
                <a:solidFill>
                  <a:srgbClr val="99cc00"/>
                </a:solidFill>
                <a:uFillTx/>
                <a:latin typeface="Arial"/>
              </a:rPr>
              <a:t> </a:t>
            </a:r>
            <a:br>
              <a:rPr sz="3200"/>
            </a:br>
            <a:r>
              <a:rPr b="1" lang="pt-BR" sz="3200" spc="-1" strike="noStrike">
                <a:solidFill>
                  <a:srgbClr val="99cc00"/>
                </a:solidFill>
                <a:latin typeface="Arial"/>
              </a:rPr>
              <a:t>ele olha o seu bronzeado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76520" y="5791320"/>
            <a:ext cx="541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cccc"/>
                </a:solidFill>
                <a:latin typeface="Arial"/>
              </a:rPr>
              <a:t>Você sai para o trabalho ,</a:t>
            </a:r>
            <a:br>
              <a:rPr sz="3200"/>
            </a:br>
            <a:r>
              <a:rPr b="1" lang="pt-BR" sz="3200" spc="-1" strike="noStrike">
                <a:solidFill>
                  <a:srgbClr val="ffcccc"/>
                </a:solidFill>
                <a:latin typeface="Arial"/>
              </a:rPr>
              <a:t>ele calcula o seu salário .</a:t>
            </a:r>
            <a:r>
              <a:rPr b="0" lang="pt-BR" sz="3200" spc="-1" strike="noStrike">
                <a:solidFill>
                  <a:srgbClr val="ffcc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52480" y="5410080"/>
            <a:ext cx="518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Arial"/>
              </a:rPr>
              <a:t>Você constrói sua casa ,</a:t>
            </a: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ele julga a cor das tintas .</a:t>
            </a:r>
            <a:r>
              <a:rPr b="0" lang="pt-BR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09480" y="548640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Arial"/>
              </a:rPr>
              <a:t>Você estuda , tem boas notas,</a:t>
            </a:r>
            <a:br>
              <a:rPr sz="3200"/>
            </a:b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ele se preocupa com esses números 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01:39:34Z</dcterms:created>
  <dc:creator>Cindy</dc:creator>
  <dc:description/>
  <dc:language>en-US</dc:language>
  <cp:lastModifiedBy>.</cp:lastModifiedBy>
  <dcterms:modified xsi:type="dcterms:W3CDTF">2007-07-12T21:26:12Z</dcterms:modified>
  <cp:revision>8</cp:revision>
  <dc:subject/>
  <dc:title>10 most beautiful roads</dc:title>
</cp:coreProperties>
</file>