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13.jpeg" ContentType="image/jpeg"/>
  <Override PartName="/ppt/media/image22.gif" ContentType="image/gif"/>
  <Override PartName="/ppt/media/sonrisasylagrimas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1304588" cy="7164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3DF-8E13-4EE4-8C55-5C645419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1017432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5200" y="4140720"/>
            <a:ext cx="1017432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57D-B09E-44BD-8F1D-9E508D9B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872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5200" y="41407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8720" y="41407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7D7-F19E-4D92-B212-BD7C9720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5360" y="16711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45520" y="16711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200" y="41407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5360" y="41407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45520" y="41407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424-D9E1-4826-8F39-2720161B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5200" y="1671120"/>
            <a:ext cx="10174320" cy="47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4C5-B6ED-4975-9CD0-423572DE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1017432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B4E-7312-4332-8607-B168CC46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496476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8720" y="1671120"/>
            <a:ext cx="496476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F9A-4286-48B1-88AE-7687BA3B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B2D-9D77-48C7-836D-3CC11C5A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5200" y="287280"/>
            <a:ext cx="1017432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BEC-404E-4806-A0A2-CB0E1F98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8720" y="1671120"/>
            <a:ext cx="496476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5200" y="41407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66F-D772-4CEE-86F7-524C622A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496476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872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8720" y="41407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EB0-87B2-4DD9-B065-54E0A580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872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5200" y="4140720"/>
            <a:ext cx="1017432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5FD-0C64-4660-B492-E262C605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51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5200" y="1671120"/>
            <a:ext cx="1017432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 fontScale="99000"/>
          </a:bodyPr>
          <a:p>
            <a:pPr marL="391320" indent="-39132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848520" indent="-326520">
              <a:spcBef>
                <a:spcPts val="924"/>
              </a:spcBef>
              <a:buClr>
                <a:srgbClr val="ffffff"/>
              </a:buClr>
              <a:buFont typeface="Arial"/>
              <a:buChar char="–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 marL="1305720" indent="-2606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3" marL="1827720" indent="-261000">
              <a:spcBef>
                <a:spcPts val="924"/>
              </a:spcBef>
              <a:buClr>
                <a:srgbClr val="ffffff"/>
              </a:buClr>
              <a:buFont typeface="Arial"/>
              <a:buChar char="–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4" marL="2351160" indent="-260640">
              <a:spcBef>
                <a:spcPts val="924"/>
              </a:spcBef>
              <a:buClr>
                <a:srgbClr val="ffffff"/>
              </a:buClr>
              <a:buFont typeface="Arial"/>
              <a:buChar char="»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5" marL="2351160" indent="-260640">
              <a:spcBef>
                <a:spcPts val="924"/>
              </a:spcBef>
              <a:buClr>
                <a:srgbClr val="ffffff"/>
              </a:buClr>
              <a:buFont typeface="Arial"/>
              <a:buChar char="»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6" marL="2351160" indent="-260640">
              <a:spcBef>
                <a:spcPts val="924"/>
              </a:spcBef>
              <a:buClr>
                <a:srgbClr val="ffffff"/>
              </a:buClr>
              <a:buFont typeface="Arial"/>
              <a:buChar char="»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4840" y="6524640"/>
            <a:ext cx="2638440" cy="4968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2440" y="6524640"/>
            <a:ext cx="3579840" cy="4968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0720" y="6524640"/>
            <a:ext cx="2638440" cy="4968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fld id="{38831A7E-DA15-405E-ABD5-639985656472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risasylagrima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6" descr="bg_13393330.jpg"/>
          <p:cNvPicPr/>
          <p:nvPr/>
        </p:nvPicPr>
        <p:blipFill>
          <a:blip r:embed="rId1"/>
          <a:stretch/>
        </p:blipFill>
        <p:spPr>
          <a:xfrm>
            <a:off x="0" y="104760"/>
            <a:ext cx="11304720" cy="716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47800" y="4409640"/>
            <a:ext cx="9609120" cy="2708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5500" spc="-1" strike="noStrike">
                <a:solidFill>
                  <a:srgbClr val="cccccc"/>
                </a:solidFill>
                <a:latin typeface="Blackadder ITC"/>
              </a:rPr>
              <a:t>A grande viagem do espírito.</a:t>
            </a:r>
            <a:endParaRPr b="0" lang="en-US" sz="5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sonrisasylagrima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960" y="-1232280"/>
            <a:ext cx="10328400" cy="65437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As coisas estranhas que aconteceram, </a:t>
            </a:r>
            <a:br>
              <a:rPr sz="3200"/>
            </a:b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os dramas e as palavras que feriram,</a:t>
            </a:r>
            <a:br>
              <a:rPr sz="3200"/>
            </a:b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 também passam...se você permitir. </a:t>
            </a:r>
            <a:br>
              <a:rPr sz="3200"/>
            </a:b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Sim, se você se permitir </a:t>
            </a:r>
            <a:br>
              <a:rPr sz="3200"/>
            </a:b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notar que o tempo leva tudo,</a:t>
            </a:r>
            <a:br>
              <a:rPr sz="3200"/>
            </a:b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 e que a vida segue...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9240" y="-254160"/>
            <a:ext cx="10235880" cy="33847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cccccc"/>
                </a:solidFill>
                <a:latin typeface="Garamond"/>
              </a:rPr>
              <a:t>Aquele ressentimento antigo ou aquelas emoções apagadas que, vez por outra, bloqueiam a sua alegria fazem parte do que é temporário, mas você é etern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2680" y="2828520"/>
            <a:ext cx="7032600" cy="1957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2f2f2"/>
                </a:solidFill>
                <a:latin typeface="Garamond"/>
              </a:rPr>
              <a:t>Essas emoções passam por você, mas que tal superá-las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88880" y="5011560"/>
            <a:ext cx="10236240" cy="15796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2f2f2"/>
                </a:solidFill>
                <a:latin typeface="Garamond"/>
              </a:rPr>
              <a:t>Que tal passar por elas, sem se det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2f2f2"/>
                </a:solidFill>
                <a:latin typeface="Garamond"/>
              </a:rPr>
              <a:t>apenas ficando a experiênc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2f2f2"/>
                </a:solidFill>
                <a:latin typeface="Garamond"/>
              </a:rPr>
              <a:t>e seguindo a vid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5200" y="1476360"/>
            <a:ext cx="10174320" cy="6392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Sim, tudo passa mesmo! </a:t>
            </a: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As estações se sucedem no tempo certo: </a:t>
            </a: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primavera, verão, outono e inverno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Isso é natural! </a:t>
            </a: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Como é natural o espírito imperecível entrar e sair dos corpos perecíveis. </a:t>
            </a: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Como é natural seguir em frente, </a:t>
            </a: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pois o tempo não pára e a vida segue..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7080" y="573120"/>
            <a:ext cx="10683720" cy="31608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E, do centro da Consciência Cósmica,</a:t>
            </a: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 o Grande Arquiteto do Universo,</a:t>
            </a: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 o Supremo Comandante de todas as vidas</a:t>
            </a: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 e de todos os tempos nos abençoa sempre.</a:t>
            </a:r>
            <a:br>
              <a:rPr sz="3700"/>
            </a:br>
            <a:br>
              <a:rPr sz="37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9600" y="948960"/>
            <a:ext cx="10685520" cy="34606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As experiências vão, mas o aprendizado fica.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A evolução é inevitável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960" y="4184640"/>
            <a:ext cx="10328400" cy="27828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Todos estão destinados à Consciência Cósmica, mesmo que não entendam isso agora. Porém, se o desentendimento é passageiro, a felicidade advinda do processo de evoluir continuamente será imperecível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960" y="-360"/>
            <a:ext cx="10328400" cy="4110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Tudo a seu tempo!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Enquanto evoluem e aprendem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a arte de viver, sejam felizes..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E não se detenham até alcançar a meta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825560" y="4560840"/>
            <a:ext cx="6943680" cy="1501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4200" spc="-1" strike="noStrike">
                <a:solidFill>
                  <a:srgbClr val="ffff99"/>
                </a:solidFill>
                <a:latin typeface="Garamond"/>
              </a:rPr>
              <a:t>O que vale é o Amor 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400" y="347400"/>
            <a:ext cx="11037960" cy="6545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Que a luz do discernimento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 dos sentimentos mais elevados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ossa iluminar nossos corações!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Que cada dia leve consigo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a maravilha do momento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que sempre passa..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01320" y="5311440"/>
            <a:ext cx="8813880" cy="3760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istir é um privilégi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 viver é maravilhos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5200" y="347760"/>
            <a:ext cx="10174320" cy="2481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4600" spc="-1" strike="noStrike">
                <a:solidFill>
                  <a:srgbClr val="d9d9d9"/>
                </a:solidFill>
                <a:latin typeface="Comic Sans MS"/>
              </a:rPr>
              <a:t>Paz e LUZ!</a:t>
            </a:r>
            <a:endParaRPr b="0" lang="en-US" sz="4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7800" y="1099800"/>
            <a:ext cx="9609120" cy="1430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700" spc="-1" strike="noStrike">
                <a:solidFill>
                  <a:srgbClr val="ffc000"/>
                </a:solidFill>
                <a:latin typeface="Garamond"/>
              </a:rPr>
              <a:t>Reflexões ...</a:t>
            </a:r>
            <a:br>
              <a:rPr sz="3700"/>
            </a:br>
            <a:br>
              <a:rPr sz="3700"/>
            </a:br>
            <a:endParaRPr b="0" lang="en-US" sz="37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036800" y="1100160"/>
            <a:ext cx="96091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920" bIns="52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br>
              <a:rPr sz="3700"/>
            </a:br>
            <a:br>
              <a:rPr sz="3700"/>
            </a:br>
            <a:r>
              <a:rPr b="1" i="1" lang="en-US" sz="3700" spc="-1" strike="noStrike">
                <a:solidFill>
                  <a:srgbClr val="ffc000"/>
                </a:solidFill>
                <a:latin typeface="Garamond"/>
              </a:rPr>
              <a:t>Vale a Pena Viver... e Aprender!</a:t>
            </a:r>
            <a:endParaRPr b="0" lang="en-US" sz="37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600280" y="1100160"/>
            <a:ext cx="10174320" cy="34200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 fontScale="99000"/>
          </a:bodyPr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Texto- desconheço o aut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Música- Sonrisas  y Lágrim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              </a:t>
            </a: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Andre Rieu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Formatação -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ameliasoares-55@hotmail.co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Imagem 4" descr="assinatura_2.gif"/>
          <p:cNvPicPr/>
          <p:nvPr/>
        </p:nvPicPr>
        <p:blipFill>
          <a:blip r:embed="rId1"/>
          <a:stretch/>
        </p:blipFill>
        <p:spPr>
          <a:xfrm>
            <a:off x="5122800" y="2462040"/>
            <a:ext cx="2560680" cy="1204920"/>
          </a:xfrm>
          <a:prstGeom prst="rect">
            <a:avLst/>
          </a:prstGeom>
          <a:ln w="0">
            <a:noFill/>
          </a:ln>
        </p:spPr>
      </p:pic>
      <p:pic>
        <p:nvPicPr>
          <p:cNvPr id="70" name="Imagem 5" descr="gifnr211.gif"/>
          <p:cNvPicPr/>
          <p:nvPr/>
        </p:nvPicPr>
        <p:blipFill>
          <a:blip r:embed="rId2"/>
          <a:stretch/>
        </p:blipFill>
        <p:spPr>
          <a:xfrm>
            <a:off x="4062240" y="4403880"/>
            <a:ext cx="1825920" cy="1865160"/>
          </a:xfrm>
          <a:prstGeom prst="rect">
            <a:avLst/>
          </a:prstGeom>
          <a:ln w="0">
            <a:noFill/>
          </a:ln>
        </p:spPr>
      </p:pic>
      <p:sp>
        <p:nvSpPr>
          <p:cNvPr id="71" name="CaixaDeTexto 4"/>
          <p:cNvSpPr/>
          <p:nvPr/>
        </p:nvSpPr>
        <p:spPr>
          <a:xfrm>
            <a:off x="2119320" y="6642000"/>
            <a:ext cx="6624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920" bIns="5292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pt-BR" sz="2300" spc="-1" strike="noStrike">
                <a:solidFill>
                  <a:srgbClr val="d9d9d9"/>
                </a:solidFill>
                <a:latin typeface="Agency FB"/>
              </a:rPr>
              <a:t>Um abraço</a:t>
            </a:r>
            <a:endParaRPr b="0" lang="en-US" sz="2300" spc="-1" strike="noStrike">
              <a:solidFill>
                <a:srgbClr val="ffffff"/>
              </a:solidFill>
              <a:latin typeface="Agency FB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pt-BR" sz="2300" spc="-1" strike="noStrike">
                <a:solidFill>
                  <a:srgbClr val="d9d9d9"/>
                </a:solidFill>
                <a:latin typeface="Agency FB"/>
              </a:rPr>
              <a:t>manleo</a:t>
            </a:r>
            <a:endParaRPr b="0" lang="en-US" sz="23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p:transition spd="slow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5680" y="874440"/>
            <a:ext cx="10548720" cy="62434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9c9cdf"/>
                </a:solidFill>
                <a:latin typeface="Garamond"/>
              </a:rPr>
              <a:t>A vida não espera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9c9cdf"/>
                </a:solidFill>
                <a:latin typeface="Garamond"/>
              </a:rPr>
              <a:t>Por onde você for, o tempo não pára.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9c9cdf"/>
                </a:solidFill>
                <a:latin typeface="Garamond"/>
              </a:rPr>
              <a:t>O que ficou, ficou...</a:t>
            </a:r>
            <a:br>
              <a:rPr sz="3200"/>
            </a:br>
            <a:r>
              <a:rPr b="1" i="1" lang="en-US" sz="3200" spc="-1" strike="noStrike">
                <a:solidFill>
                  <a:srgbClr val="9c9cdf"/>
                </a:solidFill>
                <a:latin typeface="Garamond"/>
              </a:rPr>
              <a:t>O que se foi, passou..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6000" y="3881520"/>
            <a:ext cx="9436320" cy="4665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É a vida em movimento.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Somos viajantes eternos em suas trilhas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9240" y="4484160"/>
            <a:ext cx="10235880" cy="2708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92d050"/>
                </a:solidFill>
                <a:latin typeface="Garamond"/>
              </a:rPr>
              <a:t>Parece que somos passageiros na eternidade, </a:t>
            </a:r>
            <a:br>
              <a:rPr sz="3200"/>
            </a:br>
            <a:r>
              <a:rPr b="1" i="1" lang="en-US" sz="3200" spc="-1" strike="noStrike">
                <a:solidFill>
                  <a:srgbClr val="92d050"/>
                </a:solidFill>
                <a:latin typeface="Garamond"/>
              </a:rPr>
              <a:t>mas a verdade é que somos eternos </a:t>
            </a:r>
            <a:br>
              <a:rPr sz="3200"/>
            </a:br>
            <a:r>
              <a:rPr b="1" i="1" lang="en-US" sz="3200" spc="-1" strike="noStrike">
                <a:solidFill>
                  <a:srgbClr val="92d050"/>
                </a:solidFill>
                <a:latin typeface="Garamond"/>
              </a:rPr>
              <a:t>dentro do temporário. </a:t>
            </a:r>
            <a:br>
              <a:rPr sz="3200"/>
            </a:br>
            <a:r>
              <a:rPr b="1" i="1" lang="en-US" sz="3200" spc="-1" strike="noStrike">
                <a:solidFill>
                  <a:srgbClr val="92d050"/>
                </a:solidFill>
                <a:latin typeface="Garamond"/>
              </a:rPr>
              <a:t>Ou seja, somos o eterno no movimento</a:t>
            </a:r>
            <a:br>
              <a:rPr sz="3200"/>
            </a:br>
            <a:r>
              <a:rPr b="1" i="1" lang="en-US" sz="3200" spc="-1" strike="noStrike">
                <a:solidFill>
                  <a:srgbClr val="92d050"/>
                </a:solidFill>
                <a:latin typeface="Garamond"/>
              </a:rPr>
              <a:t> da vida que segue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6000" y="2979720"/>
            <a:ext cx="9609120" cy="2603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pt-BR" sz="3200" spc="-1" strike="noStrike">
                <a:solidFill>
                  <a:srgbClr val="d9d9d9"/>
                </a:solidFill>
                <a:latin typeface="Garamond"/>
              </a:rPr>
              <a:t>Na natureza, tudo passa! </a:t>
            </a:r>
            <a:br>
              <a:rPr sz="3200"/>
            </a:br>
            <a:br>
              <a:rPr sz="3200"/>
            </a:br>
            <a:r>
              <a:rPr b="1" i="1" lang="pt-BR" sz="3200" spc="-1" strike="noStrike">
                <a:solidFill>
                  <a:srgbClr val="d9d9d9"/>
                </a:solidFill>
                <a:latin typeface="Garamond"/>
              </a:rPr>
              <a:t>O traço característico da existência </a:t>
            </a:r>
            <a:br>
              <a:rPr sz="3200"/>
            </a:br>
            <a:r>
              <a:rPr b="1" i="1" lang="pt-BR" sz="3200" spc="-1" strike="noStrike">
                <a:solidFill>
                  <a:srgbClr val="d9d9d9"/>
                </a:solidFill>
                <a:latin typeface="Garamond"/>
              </a:rPr>
              <a:t>é a impermanência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9" name="Imagem 3" descr="1000imagensCA33XTHQ.jpg"/>
          <p:cNvPicPr/>
          <p:nvPr/>
        </p:nvPicPr>
        <p:blipFill>
          <a:blip r:embed="rId2"/>
          <a:stretch/>
        </p:blipFill>
        <p:spPr>
          <a:xfrm>
            <a:off x="0" y="6591240"/>
            <a:ext cx="11304720" cy="57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birds3"/>
          <p:cNvPicPr/>
          <p:nvPr/>
        </p:nvPicPr>
        <p:blipFill>
          <a:blip r:embed="rId3"/>
          <a:stretch/>
        </p:blipFill>
        <p:spPr>
          <a:xfrm>
            <a:off x="2268360" y="1116000"/>
            <a:ext cx="5534280" cy="156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480" y="1852200"/>
            <a:ext cx="9347040" cy="50403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As coisas mudam...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Pessoas e situações vão e vêm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em nossas vidas, entram e saem na esfera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 de ação do nosso viver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A vida é assim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8160" y="1881360"/>
            <a:ext cx="10056960" cy="6589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Há um tempo para tudo: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o amanhecer,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o meio-dia e o anoitecer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Da mesma forma,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há um tempo para semear e colher;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nascer, viver, partir, renascer e seguir..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3120" y="-630720"/>
            <a:ext cx="9258120" cy="3986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Tudo passa!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O que marca é a experiência adquirida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9600" y="5236920"/>
            <a:ext cx="10238040" cy="31590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As culpas e as mágoas também passa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No rio da vida, as águas do tempo curam tudo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pois diluem no eterno as coisas passagei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9:00:18Z</dcterms:created>
  <dc:creator>Julia Pap Oswald</dc:creator>
  <dc:description/>
  <dc:language>en-US</dc:language>
  <cp:lastModifiedBy>Roberto</cp:lastModifiedBy>
  <dcterms:modified xsi:type="dcterms:W3CDTF">2011-10-07T19:00:44Z</dcterms:modified>
  <cp:revision>91</cp:revision>
  <dc:subject/>
  <dc:title>A GRANDE VIAJEM DO ESPIRITO: A VIDA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