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3.jpeg" ContentType="image/jpeg"/>
  <Override PartName="/ppt/media/Roger%20Williams%20-%20Lady.wav" ContentType="audio/x-wav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E2C-61EE-455F-B684-80DA617E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671-23DA-435D-84D6-F0E01DCE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37A-E184-434D-87F4-05B6D5BF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043-A517-4642-8FE4-D7E6D587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7AF-FC5A-4BB6-86A9-ACB1D94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902-715F-4F4C-B7E0-3D6EDA5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63C-D5BB-4567-9705-F430263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212-5FF6-4CAA-8C2B-60F5428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550-DFEC-4189-BB90-8308187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E17-4B82-496E-8D5A-73234A7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574-50AC-4360-9967-B1DDEC3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562-F783-4EBD-A79A-C9B5A4D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915-6C2D-46A2-9715-7F04AFF0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ger%20Williams%20-%20La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unidade-espiritual.com/file/pic/photo/2010/04/edleuza-reikinivel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52360" y="3326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LÉM DA MORTE</a:t>
            </a:r>
            <a:br>
              <a:rPr sz="6000"/>
            </a:br>
            <a:endParaRPr b="1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19000">
    <p:zoom dir="out"/>
    <p:sndAc>
      <p:stSnd>
        <p:snd r:embed="rId2" name="Roger%20Williams%20-%20La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36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14880"/>
            <a:ext cx="7061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 toda parte e sem cessar, amigos espirituai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aram todos os seu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mãos, refletindo a patern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ência divin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rer, longe de ser o descansar n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sões celestes ou o expurgar sem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ssão nas zonas infelizes, é,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a e simplesmente, recomeçar a viver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49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360" y="328680"/>
            <a:ext cx="7925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te a todos aguard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r-se para tal acontecimento é tarefa inadiável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enas as almas esclarecidas e experimentad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batalha redentora serão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zes de transpor a barreira do túmul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caminhar em liberdade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0480" y="767160"/>
            <a:ext cx="786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encarnação é uma bendit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ortunidade de evoluçã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téria em que nos encontramos imersos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ora, é abençoado camp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uta e de aprimoramento pessoal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a dia de que dispomos na carne é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 chance de recomeço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99880"/>
            <a:ext cx="8496000" cy="636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428760"/>
            <a:ext cx="807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 benefício deve ser aproveitado para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quisição dos verdadeiros valores</a:t>
            </a: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resistem à própria morte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contabilidade divina a soma de açõ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bres anula a coletânea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valente de atos indignos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622dn-2.jpg image by edsonroberto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629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7520" y="1608480"/>
            <a:ext cx="6592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 amor dedicado ao próximo,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 serviço educativ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humanidade,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degrau de ascensão.</a:t>
            </a: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82920" y="368280"/>
            <a:ext cx="59734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o véu da morte fechar o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sos olhos nesta existência,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aremos vivendo, em outro plan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em condições diversas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remos, no entanto, imbuído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 mesmos  defeitos e das mesm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dades que nos movimentavam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s do transe da mor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29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2680" y="261360"/>
            <a:ext cx="7355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adaptação a essa nova realidad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rá da forma como nos tivermo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do para ela. Semeamos a partir d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je a colheita de venturas,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 de desdita, do amanhã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407280" cy="610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668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lo Espírito de: Otília Gonçalv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icografia de: Divaldo Pereira Franco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9040" y="334440"/>
            <a:ext cx="646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prida mais uma jornada na terra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uem os espíritos para a pátria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iritual, conduzindo a bagag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feitos acumulados em sua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ências física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mg080"/>
          <p:cNvPicPr/>
          <p:nvPr/>
        </p:nvPicPr>
        <p:blipFill>
          <a:blip r:embed="rId1"/>
          <a:stretch/>
        </p:blipFill>
        <p:spPr>
          <a:xfrm>
            <a:off x="250920" y="206280"/>
            <a:ext cx="8642160" cy="631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1400" y="477720"/>
            <a:ext cx="6599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rtam no plano espiritual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m anjos, nem demônio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homens, almas em aprendizag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ojadas da carne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os mesmos homens qu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m antes da morte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4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0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93400" y="909720"/>
            <a:ext cx="5790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esencarnação não lhe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 hábitos, nem costume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lhes outorga títulos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m conquistas.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lhes retira méritos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m realizaçõe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4880" y="918000"/>
            <a:ext cx="539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um se apresenta após a mort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sempre viveu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ocorre nenhum milagre de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ção para aqueles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atingem o grande porto.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ros são aqueles que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ertam com a consciência livre,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ós a inevitável travessi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eikinive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960" y="190800"/>
            <a:ext cx="5118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ande maioria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ulada de forma intens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sensações da matéria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ra-se, infeliz, ignorand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va realidad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s agem como turista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usos 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a à grande cidade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cando incessantement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ereços que nã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guem localizar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64320" y="594000"/>
            <a:ext cx="6602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em a alma visitada por aflições 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rsos,  receios e ansiedade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refletissem um pouco perceberia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 a vida prossegu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 grande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ções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3000" y="838800"/>
            <a:ext cx="8571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escravos do prazer prosseguem inquieto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servos do ódio demoram-se em afliçã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companheiros da ilusã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cem enganado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aficionados da mentira dementam-s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b imagens desordenada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amigos da ignorância continuam perturbados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9800" y="478440"/>
            <a:ext cx="700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ém disso, a maior parte dos sere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ão é capaz de perceber o apoi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nsado pelos espíritos superiore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, porque mesmo os seres mai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lizes e voltados ao mal não sã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cidos ou abandonados pel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xílio divin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3:02:09Z</dcterms:created>
  <dc:creator>Mari Caruso Cunha</dc:creator>
  <dc:description/>
  <dc:language>en-US</dc:language>
  <cp:lastModifiedBy>User</cp:lastModifiedBy>
  <dcterms:modified xsi:type="dcterms:W3CDTF">2010-05-02T19:16:42Z</dcterms:modified>
  <cp:revision>5</cp:revision>
  <dc:subject>Datas</dc:subject>
  <dc:title>Mãe Divindade Suprema</dc:title>
</cp:coreProperties>
</file>