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3.jpeg" ContentType="image/jpeg"/>
  <Override PartName="/ppt/media/Roger%20Williams%20-%20Lady.wav" ContentType="audio/x-wav"/>
  <Override PartName="/ppt/media/image10.jpeg" ContentType="image/jpeg"/>
  <Override PartName="/ppt/media/image8.jpeg" ContentType="image/jpeg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988-7C38-45B2-A2D5-7A5A226E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8F2-AF66-4D58-AFF4-D3A54B47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E50-E428-4B46-A3E3-349030F4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DD6-C930-4775-BA91-6186930A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49D-6F6B-4C96-9EA6-CC27F30D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682-1169-4249-958A-B19D6F81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0A2-B302-49EC-B01D-059B2525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817-4E87-46F4-9E0C-9E216D6A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117-F080-406D-83E2-C7080208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CB6-2B0F-4EB3-92D7-8B251C47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10E-4887-484F-8D5F-A3246FD2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A14-F50A-4ABF-8FCA-5CCDE738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5DD4-2C99-4553-BFB5-C7C740CE7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oger%20Williams%20-%20Lad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omunidade-espiritual.com/file/pic/photo/2010/04/edleuza-reikinivel3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04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52360" y="33264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LÉM DA MORTE</a:t>
            </a:r>
            <a:br>
              <a:rPr sz="6000"/>
            </a:br>
            <a:endParaRPr b="1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 advTm="19000">
    <p:zoom dir="out"/>
    <p:sndAc>
      <p:stSnd>
        <p:snd r:embed="rId2" name="Roger%20Williams%20-%20La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2160" cy="6362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614880"/>
            <a:ext cx="7061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 toda parte e sem cessar, amigos espirituais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param todos os seus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mãos, refletindo a paternal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ência divina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rer, longe de ser o descansar nas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sões celestes ou o expurgar sem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issão nas zonas infelizes, é,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a e simplesmente, recomeçar a viver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7800" cy="6494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360" y="328680"/>
            <a:ext cx="7925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rte a todos aguarda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r-se para tal acontecimento é tarefa inadiável.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enas as almas esclarecidas e experimentadas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batalha redentora serão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zes de transpor a barreira do túmulo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caminhar em liberdade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19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0480" y="767160"/>
            <a:ext cx="786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eencarnação é uma bendita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ortunidade de evolução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atéria em que nos encontramos imersos,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ora, é abençoado campo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luta e de aprimoramento pessoal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a dia de que dispomos na carne é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a chance de recomeço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299880"/>
            <a:ext cx="8496000" cy="6369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6400" y="428760"/>
            <a:ext cx="8079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l benefício deve ser aproveitado para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quisição dos verdadeiros valores</a:t>
            </a:r>
            <a:br>
              <a:rPr sz="3200"/>
            </a:b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 resistem à própria morte.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 contabilidade divina a soma de açõe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bres anula a coletânea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valente de atos indignos.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622dn-2.jpg image by edsonroberto"/>
          <p:cNvPicPr/>
          <p:nvPr/>
        </p:nvPicPr>
        <p:blipFill>
          <a:blip r:embed="rId1"/>
          <a:stretch/>
        </p:blipFill>
        <p:spPr>
          <a:xfrm>
            <a:off x="611280" y="333360"/>
            <a:ext cx="8066160" cy="6291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7520" y="1608480"/>
            <a:ext cx="6592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o amor dedicado ao próximo,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 serviço educativo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à humanidade,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degrau de ascensão.</a:t>
            </a:r>
            <a:br>
              <a:rPr sz="3200"/>
            </a:b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82920" y="368280"/>
            <a:ext cx="597348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o véu da morte fechar os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sos olhos nesta existência,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aremos vivendo, em outro plano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em condições diversas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remos, no entanto, imbuídos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s mesmos  defeitos e das mesmas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dades que nos movimentavam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s do transe da mor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29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2680" y="261360"/>
            <a:ext cx="7355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adaptação a essa nova realidad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rá da forma como nos tivermo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ado para ela. Semeamos a partir d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je a colheita de venturas,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 de desdita, do amanhã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407280" cy="610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56689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lo Espírito de: Otília Gonçalv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icografia de: Divaldo Pereira Franco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3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89040" y="334440"/>
            <a:ext cx="646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prida mais uma jornada na terra,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uem os espíritos para a pátria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iritual, conduzindo a bagagem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feitos acumulados em suas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istências físicas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 advTm="37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mg080"/>
          <p:cNvPicPr/>
          <p:nvPr/>
        </p:nvPicPr>
        <p:blipFill>
          <a:blip r:embed="rId1"/>
          <a:stretch/>
        </p:blipFill>
        <p:spPr>
          <a:xfrm>
            <a:off x="250920" y="206280"/>
            <a:ext cx="8642160" cy="631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1400" y="477720"/>
            <a:ext cx="6599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ortam no plano espiritual,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m anjos, nem demônios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ão homens, almas em aprendizagem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pojadas da carne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ão os mesmos homens qu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m antes da morte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 advTm="4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40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93400" y="909720"/>
            <a:ext cx="5790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desencarnação não lhes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ca hábitos, nem costumes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ão lhes outorga títulos,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m conquistas.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ão lhes retira méritos,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m realizações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 advTm="3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4880" y="918000"/>
            <a:ext cx="539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 um se apresenta após a morte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o sempre viveu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 ocorre nenhum milagre de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ação para aqueles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atingem o grande porto.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ros são aqueles que 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pertam com a consciência livre,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ós a inevitável travessia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 advTm="312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reikinivel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3960" y="190800"/>
            <a:ext cx="5118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rande maioria,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nculada de forma intensa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s sensações da matéria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ra-se, infeliz, ignorando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ova realidad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s agem como turista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usos em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ta à grande cidade,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cando incessantement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ereços que não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guem localizar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64320" y="594000"/>
            <a:ext cx="6602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tem a alma visitada por aflições e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rsos,  receios e ansiedades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 refletissem um pouco perceberiam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 a vida prossegu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 grandes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cações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3000" y="838800"/>
            <a:ext cx="8571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 escravos do prazer prosseguem inquietos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 servos do ódio demoram-se em aflição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 companheiros da ilusão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anecem enganados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 aficionados da mentira dementam-se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b imagens desordenadas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 amigos da ignorância continuam perturbados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6048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9800" y="478440"/>
            <a:ext cx="700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ém disso, a maior parte dos seres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ão é capaz de perceber o apoio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nsado pelos espíritos superiores.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, porque mesmo os seres mais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lizes e voltados ao mal não são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quecidos ou abandonados pelo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xílio divino.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3:02:09Z</dcterms:created>
  <dc:creator>Mari Caruso Cunha</dc:creator>
  <dc:description/>
  <dc:language>en-US</dc:language>
  <cp:lastModifiedBy>User</cp:lastModifiedBy>
  <dcterms:modified xsi:type="dcterms:W3CDTF">2010-05-02T19:16:42Z</dcterms:modified>
  <cp:revision>5</cp:revision>
  <dc:subject>Datas</dc:subject>
  <dc:title>Mãe Divindade Suprema</dc:title>
</cp:coreProperties>
</file>