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Relaxing-%20Piano-%20Jim%20Brickman-%20Mood%20music.cut8.wav" ContentType="audio/x-wav"/>
  <Override PartName="/ppt/media/image6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2E63-01CA-442C-ACB5-FFEBDF65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A963-EC9C-4767-A0E7-8C1732E1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5FD5-93AF-4E9E-9B20-B25921B2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34EB-15F2-4691-885F-436082C1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C494-0469-430C-8B06-97E8401F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FDED-CF30-405E-9C55-71F7C0C9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7A67-BB53-491E-8A5B-CEF8E49A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A2E0-57FA-4712-B730-1C8B6ED3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D8A1-5FAC-4E1C-810D-6867D17A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C4D5-ED28-4E84-BBB4-995BD0D9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F6D0-D523-49AC-AB20-4F78BF49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5380-A68E-46AD-B7D7-CB4FE436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ba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34E7-C590-4BEE-B349-CAE0A42195B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elaxing-%20Piano-%20Jim%20Brickman-%20Mood%20music.cut8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eticiathompson.com/" TargetMode="External"/><Relationship Id="rId2" Type="http://schemas.openxmlformats.org/officeDocument/2006/relationships/hyperlink" Target="http://www.leticiathompson.net/minhas_mensagens_em_pps.htm" TargetMode="External"/><Relationship Id="rId3" Type="http://schemas.openxmlformats.org/officeDocument/2006/relationships/hyperlink" Target="http://www.leticiathompson.net/minhas_mensagens_em_pps.ht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ba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8056"/>
            </a:avLst>
          </a:prstGeom>
          <a:solidFill>
            <a:srgbClr val="8c7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3520" y="533520"/>
            <a:ext cx="8076960" cy="582912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1676520" y="685800"/>
            <a:ext cx="53337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0">
                  <a:noFill/>
                </a:ln>
                <a:solidFill>
                  <a:srgbClr val="99cc00">
                    <a:alpha val="50000"/>
                  </a:srgbClr>
                </a:solidFill>
                <a:effectLst>
                  <a:outerShdw dist="17819" dir="2700000" blurRad="0" rotWithShape="0">
                    <a:srgbClr val="5b7900"/>
                  </a:outerShdw>
                </a:effectLst>
                <a:latin typeface="Book Antiqua"/>
              </a:rPr>
              <a:t>Aprendendo a</a:t>
            </a:r>
            <a:endParaRPr b="1" i="1" lang="en-US" sz="7200" spc="1" strike="noStrike">
              <a:ln w="0">
                <a:noFill/>
              </a:ln>
              <a:solidFill>
                <a:srgbClr val="99cc00">
                  <a:alpha val="50000"/>
                </a:srgbClr>
              </a:solidFill>
              <a:effectLst>
                <a:outerShdw dist="17819" dir="2700000" blurRad="0" rotWithShape="0">
                  <a:srgbClr val="5b7900"/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0">
                  <a:noFill/>
                </a:ln>
                <a:solidFill>
                  <a:srgbClr val="99cc00">
                    <a:alpha val="50000"/>
                  </a:srgbClr>
                </a:solidFill>
                <a:effectLst>
                  <a:outerShdw dist="17819" dir="2700000" blurRad="0" rotWithShape="0">
                    <a:srgbClr val="5b7900"/>
                  </a:outerShdw>
                </a:effectLst>
                <a:latin typeface="Book Antiqua"/>
              </a:rPr>
              <a:t>conversar com</a:t>
            </a:r>
            <a:endParaRPr b="1" i="1" lang="en-US" sz="7200" spc="1" strike="noStrike">
              <a:ln w="0">
                <a:noFill/>
              </a:ln>
              <a:solidFill>
                <a:srgbClr val="99cc00">
                  <a:alpha val="50000"/>
                </a:srgbClr>
              </a:solidFill>
              <a:effectLst>
                <a:outerShdw dist="17819" dir="2700000" blurRad="0" rotWithShape="0">
                  <a:srgbClr val="5b7900"/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0">
                  <a:noFill/>
                </a:ln>
                <a:solidFill>
                  <a:srgbClr val="99cc00">
                    <a:alpha val="50000"/>
                  </a:srgbClr>
                </a:solidFill>
                <a:effectLst>
                  <a:outerShdw dist="17819" dir="2700000" blurRad="0" rotWithShape="0">
                    <a:srgbClr val="5b7900"/>
                  </a:outerShdw>
                </a:effectLst>
                <a:latin typeface="Book Antiqua"/>
              </a:rPr>
              <a:t>Deus</a:t>
            </a:r>
            <a:endParaRPr b="1" i="1" lang="en-US" sz="7200" spc="1" strike="noStrike">
              <a:ln w="0">
                <a:noFill/>
              </a:ln>
              <a:solidFill>
                <a:srgbClr val="99cc00">
                  <a:alpha val="50000"/>
                </a:srgbClr>
              </a:solidFill>
              <a:effectLst>
                <a:outerShdw dist="17819" dir="2700000" blurRad="0" rotWithShape="0">
                  <a:srgbClr val="5b790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14600" y="4800600"/>
            <a:ext cx="403848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99cc00">
                    <a:alpha val="50000"/>
                  </a:srgbClr>
                </a:solidFill>
                <a:effectLst>
                  <a:outerShdw dist="17819" dir="2700000" blurRad="0" rotWithShape="0">
                    <a:srgbClr val="5b7900"/>
                  </a:outerShdw>
                </a:effectLst>
                <a:latin typeface="Book Antiqua"/>
              </a:rPr>
              <a:t>Letícia Thompson</a:t>
            </a:r>
            <a:endParaRPr b="1" i="1" lang="en-US" sz="4000" spc="1" strike="noStrike">
              <a:ln w="0">
                <a:noFill/>
              </a:ln>
              <a:solidFill>
                <a:srgbClr val="99cc00">
                  <a:alpha val="50000"/>
                </a:srgbClr>
              </a:solidFill>
              <a:effectLst>
                <a:outerShdw dist="17819" dir="2700000" blurRad="0" rotWithShape="0">
                  <a:srgbClr val="5b790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vert"/>
    <p:sndAc>
      <p:stSnd>
        <p:snd r:embed="rId2" name="Relaxing-%20Piano-%20Jim%20Brickman-%20Mood%20music.cut8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ba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85800"/>
            <a:ext cx="7467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1ba94"/>
                </a:solidFill>
                <a:latin typeface="Copperplate Gothic Light"/>
                <a:ea typeface="Arial"/>
              </a:rPr>
              <a:t>Para conversar com Deus é preciso antes de tudo aprender a estar em silêncio. Muitos se queixam que não conseguem ouvir a voz de Deus e, portanto, não há nenhum mistério. Deus nos fala. Mas geralmente estamos tão preocupados em falar, falar e falar, que Ele simplesmente nos ouve. Se falamos o tempo todo, nada mais natural que ouvirmos o som da nossa própria vo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d2de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3000">
    <p:randomBa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500"/>
                            </p:stCondLst>
                            <p:childTnLst>
                              <p:par>
                                <p:cTn id="2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ba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094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1ba94"/>
                </a:solidFill>
                <a:latin typeface="Copperplate Gothic Light"/>
                <a:ea typeface="Arial"/>
              </a:rPr>
              <a:t>Enquanto nosso eu estiver dominando, só ouviremos a nós mesmos. A maneira mais simples de orar é ficar em silêncio, colocar a alma de joelhos e esperar pacientemente que a presença de Deus se manifeste. E Ele vem sempre. Ele entra no nosso coração e quebranta nossas vidas. Quem teve essa experiência um dia nunca se esquecerá. Nosso grande problema é chegar na presença de Deus para ouvir somente o que quer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d6e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0">
    <p:randomBa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7000"/>
                            </p:stCondLst>
                            <p:childTnLst>
                              <p:par>
                                <p:cTn id="3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ba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7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762120"/>
            <a:ext cx="7315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1ba94"/>
                </a:solidFill>
                <a:latin typeface="Copperplate Gothic Light"/>
                <a:ea typeface="Arial"/>
              </a:rPr>
              <a:t>Geralmente quando chegamos a Ele para pedir alguma coisa, já temos a resposta do que queremos. Não pedimos que nos diga o que é melhor para nós, mas dizemos a Ele o que queremos e pedimos isso. É sempre nosso eu dominando, como se inversamente, fôssemos nós deuses e que Ele estivesse à disposição simplesmente para atender a nossos dese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d0dc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3000">
    <p:randomBa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3100"/>
                            </p:stCondLst>
                            <p:childTnLst>
                              <p:par>
                                <p:cTn id="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ba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7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609480"/>
            <a:ext cx="7391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1ba94"/>
                </a:solidFill>
                <a:latin typeface="Copperplate Gothic Light"/>
                <a:ea typeface="Arial"/>
              </a:rPr>
              <a:t>Mas Deus nos ama o suficiente para não nos dar tudo o que queremos, quando nos comportamos como crianças mimadas. Deus nos quer amadurecidos e prontos para a vida. Quem é Deus e quem somos nós? Quem criou quem e quem conhece o coração de quem? Somos altivos e orgulhosos. Se Deus não nos fala é porque estamos sempre falando no lugar dEle. Portanto, se quiser conversar com Deus, aprenda a estar em silêncio primei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6d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9000">
    <p:randomBar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8500"/>
                            </p:stCondLst>
                            <p:childTnLst>
                              <p:par>
                                <p:cTn id="5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ba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609480"/>
            <a:ext cx="7772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1ba94"/>
                </a:solidFill>
                <a:latin typeface="Copperplate Gothic Light"/>
                <a:ea typeface="Arial"/>
              </a:rPr>
              <a:t>Aprenda a ser humilde, aprenda a ouvir. E aprenda, principalmente, que Sua voz nos fala através de pessoas e de fatos e que nem sempre a solução que Ele encontra para os nossos problemas são as mesmas que impomos. Deus também diz "não" quando é disso que precisamos. Ele conhece nosso coração muito melhor que nós, pois vê dentro e vê nosso amanhã. Ele conhece nossos limites e nossas necess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d0dc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9000">
    <p:randomBar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7300"/>
                            </p:stCondLst>
                            <p:childTnLst>
                              <p:par>
                                <p:cTn id="6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ba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5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094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1ba94"/>
                </a:solidFill>
                <a:latin typeface="Copperplate Gothic Light"/>
                <a:ea typeface="Arial"/>
              </a:rPr>
              <a:t>A bíblia nos dá este conselho: "quando quiser falar com Deus, entra em seu quarto e, em silêncio, ora ao Teu Pai. " Eis a sabedoria Divina, a chave do mistério e que nunca compreendemos. Mas ainda é tempo... Encontramos no livro de Provérbios a seguinte frase: "as palavras são prata, mas o silêncio vale ouro." A voz do silêncio é a voz de Deus. E falar com Ele é um privilégio maravilhoso acessível a todos nó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d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1000">
    <p:randomBa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600"/>
                            </p:stCondLst>
                            <p:childTnLst>
                              <p:par>
                                <p:cTn id="8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b927b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5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380880"/>
            <a:ext cx="5410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b927b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b927b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9b927b"/>
                </a:solidFill>
                <a:latin typeface="Times New Roman"/>
              </a:rPr>
              <a:t>Jim Brickman- Relaxing - P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160020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927b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927b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2819520"/>
            <a:ext cx="716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9b927b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62120" y="487692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927b"/>
                </a:solidFill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/>
          </p:cNvPr>
          <p:cNvSpPr/>
          <p:nvPr/>
        </p:nvSpPr>
        <p:spPr>
          <a:xfrm>
            <a:off x="3429000" y="4724280"/>
            <a:ext cx="213372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Ver ou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ensa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endshow"/>
          </p:cNvPr>
          <p:cNvSpPr/>
          <p:nvPr/>
        </p:nvSpPr>
        <p:spPr>
          <a:xfrm>
            <a:off x="6324480" y="4876920"/>
            <a:ext cx="190512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927b"/>
                </a:solidFill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ac4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3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8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13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1800"/>
                            </p:stCondLst>
                            <p:childTnLst>
                              <p:par>
                                <p:cTn id="11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21:06:38Z</dcterms:created>
  <dc:creator>ssoliver@terra.com.br </dc:creator>
  <dc:description>Texto: Letícia Thompson</dc:description>
  <dc:language>en-US</dc:language>
  <cp:lastModifiedBy>Leticia Thompson</cp:lastModifiedBy>
  <dcterms:modified xsi:type="dcterms:W3CDTF">2004-10-27T19:43:38Z</dcterms:modified>
  <cp:revision>5</cp:revision>
  <dc:subject>PPS</dc:subject>
  <dc:title>Aprendendo a conversar com Deus</dc:title>
</cp:coreProperties>
</file>