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elaxing-%20Piano-%20Jim%20Brickman-%20Mood%20music.cut8.wav" ContentType="audio/x-wav"/>
  <Override PartName="/ppt/media/image6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65D-1F41-47C5-92C7-4F29E2AC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463-92DE-42FA-AEB1-2F94B42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F2D-2D35-4DCF-A279-7127401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C17-6ECC-4E06-ACEF-57B9038F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760-0D7D-497E-A56C-29FE3768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848-D573-4841-8FFB-D6F4308F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4F0-46AA-464A-90F3-F0B6F838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F4B-89C5-4D6C-8E7D-399BAF2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AE3-DC86-44F5-B11E-C07E705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4C7-BF92-4857-BEAF-1608346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CFE-E77E-4663-948B-884300D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A0A-7EAE-4BDB-8DA9-7205646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0D3-FDE2-443C-96D1-280722D7CF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laxing-%20Piano-%20Jim%20Brickman-%20Mood%20music.cut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8056"/>
            </a:avLst>
          </a:prstGeom>
          <a:solidFill>
            <a:srgbClr val="8c7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520" y="533520"/>
            <a:ext cx="8076960" cy="58291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676520" y="685800"/>
            <a:ext cx="53337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Aprendendo a</a:t>
            </a:r>
            <a:endParaRPr b="1" i="1" lang="en-US" sz="72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conversar com</a:t>
            </a:r>
            <a:endParaRPr b="1" i="1" lang="en-US" sz="72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Deus</a:t>
            </a:r>
            <a:endParaRPr b="1" i="1" lang="en-US" sz="72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48006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99cc00">
                    <a:alpha val="50000"/>
                  </a:srgbClr>
                </a:solidFill>
                <a:effectLst>
                  <a:outerShdw dist="17819" dir="2700000" blurRad="0" rotWithShape="0">
                    <a:srgbClr val="5b79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99cc00">
                  <a:alpha val="50000"/>
                </a:srgbClr>
              </a:solidFill>
              <a:effectLst>
                <a:outerShdw dist="17819" dir="2700000" blurRad="0" rotWithShape="0">
                  <a:srgbClr val="5b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  <p:sndAc>
      <p:stSnd>
        <p:snd r:embed="rId2" name="Relaxing-%20Piano-%20Jim%20Brickman-%20Mood%20music.cut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858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Para conversar com Deus é preciso antes de tudo aprender a estar em silêncio. Muitos se queixam que não conseguem ouvir a voz de Deus e, portanto, não há nenhum mistério. Deus nos fala. Mas geralmente estamos tão preocupados em falar, falar e falar, que Ele simplesmente nos ouve. Se falamos o tempo todo, nada mais natural que ouvirmos o som da nossa própria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2d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094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Enquanto nosso eu estiver dominando, só ouviremos a nós mesmos. A maneira mais simples de orar é ficar em silêncio, colocar a alma de joelhos e esperar pacientemente que a presença de Deus se manifeste. E Ele vem sempre. Ele entra no nosso coração e quebranta nossas vidas. Quem teve essa experiência um dia nunca se esquecerá. Nosso grande problema é chegar na presença de Deus para ouvir somente o que quer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6e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762120"/>
            <a:ext cx="73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Geralmente quando chegamos a Ele para pedir alguma coisa, já temos a resposta do que queremos. Não pedimos que nos diga o que é melhor para nós, mas dizemos a Ele o que queremos e pedimos isso. É sempre nosso eu dominando, como se inversamente, fôssemos nós deuses e que Ele estivesse à disposição simplesmente para atender a nossos des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0d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10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0948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Mas Deus nos ama o suficiente para não nos dar tudo o que queremos, quando nos comportamos como crianças mimadas. Deus nos quer amadurecidos e prontos para a vida. Quem é Deus e quem somos nós? Quem criou quem e quem conhece o coração de quem? Somos altivos e orgulhosos. Se Deus não nos fala é porque estamos sempre falando no lugar dEle. Portanto, se quiser conversar com Deus, aprenda a estar em silêncio prim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6d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8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0948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Aprenda a ser humilde, aprenda a ouvir. E aprenda, principalmente, que Sua voz nos fala através de pessoas e de fatos e que nem sempre a solução que Ele encontra para os nossos problemas são as mesmas que impomos. Deus também diz "não" quando é disso que precisamos. Ele conhece nosso coração muito melhor que nós, pois vê dentro e vê nosso amanhã. Ele conhece nossos limites e nossas necess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0d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7300"/>
                            </p:stCondLst>
                            <p:childTnLst>
                              <p:par>
                                <p:cTn id="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a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094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ba94"/>
                </a:solidFill>
                <a:latin typeface="Copperplate Gothic Light"/>
                <a:ea typeface="Arial"/>
              </a:rPr>
              <a:t>A bíblia nos dá este conselho: "quando quiser falar com Deus, entra em seu quarto e, em silêncio, ora ao Teu Pai. " Eis a sabedoria Divina, a chave do mistério e que nunca compreendemos. Mas ainda é tempo... Encontramos no livro de Provérbios a seguinte frase: "as palavras são prata, mas o silêncio vale ouro." A voz do silêncio é a voz de Deus. E falar com Ele é um privilégio maravilhoso acessível a todos nó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d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600"/>
                            </p:stCondLst>
                            <p:childTnLst>
                              <p:par>
                                <p:cTn id="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b927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80880"/>
            <a:ext cx="541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b927b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b927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9b927b"/>
                </a:solidFill>
                <a:latin typeface="Times New Roman"/>
              </a:rPr>
              <a:t>Jim Brickman- Relaxing - P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6002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27b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27b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819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b927b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927b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927b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ac4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1:06:38Z</dcterms:created>
  <dc:creator>ssoliver@terra.com.br </dc:creator>
  <dc:description>Texto: Letícia Thompson</dc:description>
  <dc:language>en-US</dc:language>
  <cp:lastModifiedBy>Leticia Thompson</cp:lastModifiedBy>
  <dcterms:modified xsi:type="dcterms:W3CDTF">2004-10-27T19:43:38Z</dcterms:modified>
  <cp:revision>5</cp:revision>
  <dc:subject>PPS</dc:subject>
  <dc:title>Aprendendo a conversar com Deus</dc:title>
</cp:coreProperties>
</file>