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Richard%20Clayderman%20-%20Only%20you.wav" ContentType="audio/x-wav"/>
  <Override PartName="/ppt/media/image3.png" ContentType="image/png"/>
  <Override PartName="/ppt/media/image6.gif" ContentType="image/gif"/>
  <Override PartName="/ppt/media/image8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56D-AA29-462A-8285-EC607C8D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58A-8669-4E06-AEAA-7E1E7507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4B8-4C53-4FFD-ADC0-424CEE57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DA8-87F7-44FC-9E46-9CB5AC6F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3B4-C6DE-4272-96C3-D1746534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B06-EBC3-44D8-BBC9-DABF61AB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1ED-0BB1-4ECD-8FE0-2A6D787C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BC1-B264-4419-9A85-9F96ADB7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49B-3B57-4636-8F8C-EDCFC217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E43-5E07-454E-80A5-1C6BB3B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196-1952-4116-B13E-295B748B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787-5618-49D6-95EC-8F94178C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3CCD-E939-4E5C-8AAE-7EF6623B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.jpeg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audio" Target="../media/Richard%20Clayderman%20-%20Only%20you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.jpeg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907920"/>
            <a:ext cx="7344000" cy="504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123840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9"/>
          <a:stretch/>
        </p:blipFill>
        <p:spPr>
          <a:xfrm>
            <a:off x="7905600" y="5429160"/>
            <a:ext cx="12384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0"/>
          <a:srcRect l="0" t="10067" r="0" b="0"/>
          <a:stretch/>
        </p:blipFill>
        <p:spPr>
          <a:xfrm>
            <a:off x="7897680" y="0"/>
            <a:ext cx="12463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1"/>
          <a:srcRect l="0" t="10067" r="0" b="0"/>
          <a:stretch/>
        </p:blipFill>
        <p:spPr>
          <a:xfrm>
            <a:off x="0" y="5737320"/>
            <a:ext cx="1246320" cy="1120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19280" y="24210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Comic Sans MS"/>
              </a:rPr>
              <a:t>OS CAMINHOS DE DEUS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48000" y="4149720"/>
            <a:ext cx="2524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Comic Sans MS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79320" y="620640"/>
            <a:ext cx="7785360" cy="5545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858080" cy="5616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00000" y="2421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O coração projeta sim, para hoje, para amanhã e para depois e é bom que seja assim. Precisamos de planos para o dia segui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Mas felizes são aqueles que sabem esperar a hora, o momento e têm a humildade de entregar esses planos Àquele que esquadrinha nossos corações e conhece nosso 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26920" y="836640"/>
            <a:ext cx="7490160" cy="5256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907920"/>
            <a:ext cx="7344000" cy="511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1773360"/>
            <a:ext cx="69706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da3"/>
                </a:solidFill>
                <a:uFillTx/>
                <a:latin typeface="Verdana"/>
                <a:hlinkClick r:id="rId18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Música: Richard Clayderman - </a:t>
            </a:r>
            <a:r>
              <a:rPr b="1" lang="en-US" sz="2000" spc="-1" strike="noStrike">
                <a:solidFill>
                  <a:srgbClr val="ffeda3"/>
                </a:solidFill>
                <a:latin typeface="Verdana"/>
              </a:rPr>
              <a:t>Only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eda3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ffeda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7">
            <a:grayscl/>
          </a:blip>
          <a:srcRect l="3187" t="0" r="3187" b="0"/>
          <a:stretch/>
        </p:blipFill>
        <p:spPr>
          <a:xfrm>
            <a:off x="755640" y="692280"/>
            <a:ext cx="7632720" cy="547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rcRect l="3187" t="0" r="3187" b="0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2781360"/>
            <a:ext cx="7437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Nossos caminhos nem sempre são aqueles que nosso coração projeta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Nem para nós, nem nossos filhos ou para a pessoa que nosso coração eleg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92280"/>
            <a:ext cx="7848360" cy="5545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2276640"/>
            <a:ext cx="743760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É evidente que Deus quer a nossa felicidade e que nos deixou o livre arbítrio para fazermos nossas escolhas. E olha o resultado: vamos à direita quando deveríamos ir à esquerda, nos precipitamos quando deveríamos esperar, esperamos demais quando deveríamos tomar uma atitude e tornamos nosso coração insatisfe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84360" y="692280"/>
            <a:ext cx="7775280" cy="547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285264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 o coração chora, não é porque Deus provocou lágrimas, mas porque, tendo a escolha, ficamos do lado er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00000" y="227664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Seria um mundo perfeito se projetássemos todos os nossos sonhos e que eles se construíssem pontinho por pontinho, até o fim. É isso que tentamos fazer diariamente quando dizemos a Deus para fazer exatamente aquilo que queremos que seja feito, porque bem sabemos, apesar de mal interpretarmos, que Deus deseja nossa felicidade e somente nossa felic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26920" y="2565360"/>
            <a:ext cx="7580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Queremos aquele trabalho específico, um casamento perfeito com uma pessoa perfeita, filhos perfeitos e inteligentes, a cura para todos os males e uma situação financeira estável e equilibrada. Dizemos então a Deus: - aqui estão meus projetos e eu sou seu filho. Realize-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7">
            <a:grayscl/>
          </a:blip>
          <a:srcRect l="2087" t="2893" r="2087" b="2893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8"/>
          <a:srcRect l="2087" t="2893" r="2087" b="2893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26920" y="2637000"/>
            <a:ext cx="7580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Ah, se conhecêssemos o íntimo do nosso ser como Deus conhece!... se tivéssemos a humildade de pensar que talvez seria melhor tomar outro caminho que o planejado, não erraríamos tanto e não sofreríamos tanto!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8"/>
          <a:stretch/>
        </p:blipFill>
        <p:spPr>
          <a:xfrm>
            <a:off x="684360" y="620640"/>
            <a:ext cx="7775280" cy="561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08200" y="2800440"/>
            <a:ext cx="7580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Tente dar ao seu próprio filho tudo o que ele pede sem refletir, no momento que ele pede. Você perceberá com o tempo que ele ficou despreparado para a vida ou que correu riscos que poderiam ter sido evitados.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6191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6191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3059280" y="6353280"/>
            <a:ext cx="2952720" cy="504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3"/>
          <a:stretch/>
        </p:blipFill>
        <p:spPr>
          <a:xfrm>
            <a:off x="0" y="40464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04720" cy="295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5"/>
          <a:stretch/>
        </p:blipFill>
        <p:spPr>
          <a:xfrm>
            <a:off x="8639280" y="33336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6"/>
          <a:stretch/>
        </p:blipFill>
        <p:spPr>
          <a:xfrm>
            <a:off x="8639280" y="3429000"/>
            <a:ext cx="504720" cy="2952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684360" y="620640"/>
            <a:ext cx="7848360" cy="5616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8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79480" y="28004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ea7"/>
                </a:solidFill>
                <a:latin typeface="Verdana"/>
              </a:rPr>
              <a:t>Deus nos dá o livre arbítrio sim. Mas na Sua sabedoria pode nos dizer se este caminho é melhor que aquele, se o coração não está influenciado demais por emoções, se o dia poderia ser pintado de outra cor.</a:t>
            </a:r>
            <a:r>
              <a:rPr b="0" lang="en-US" sz="2000" spc="-1" strike="noStrike">
                <a:solidFill>
                  <a:srgbClr val="ffeea7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8:46:50Z</dcterms:created>
  <dc:creator>Beth Norling</dc:creator>
  <dc:description/>
  <dc:language>en-US</dc:language>
  <cp:lastModifiedBy>Beth Norling</cp:lastModifiedBy>
  <dcterms:modified xsi:type="dcterms:W3CDTF">2008-07-31T21:24:53Z</dcterms:modified>
  <cp:revision>10</cp:revision>
  <dc:subject/>
  <dc:title>Os_caminhos_de_Deus</dc:title>
</cp:coreProperties>
</file>