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Richard%20Clayderman%20-%20Only%20you.wav" ContentType="audio/x-wav"/>
  <Override PartName="/ppt/media/image3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275-87C9-4E08-8D10-5A07EBC5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7EC-A0D6-47B8-8AFF-552DA3C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1F2-8890-499E-86F7-FD0A7FB5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C3B-93C8-4E1A-BCC8-77C9EC5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8F6-632B-46B5-80AE-47BED3D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47C-287D-4236-BCE6-4EBD29E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CE1-1913-43B9-B502-AA4DCB1F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E62-1527-44AD-889E-54B0DF9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2CA-8E6D-409A-8F77-5DF9DAC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A63-34E7-47F3-AEA6-1667BF1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C83-68B1-4C03-90E7-1A2175B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93-331C-431D-8E00-5D72684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2630-5C16-4CF5-87E1-ED13E80A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audio" Target="../media/Richard%20Clayderman%20-%20Only%20you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907920"/>
            <a:ext cx="7344000" cy="504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rcRect l="0" t="10067" r="0" b="0"/>
          <a:stretch/>
        </p:blipFill>
        <p:spPr>
          <a:xfrm>
            <a:off x="7897680" y="0"/>
            <a:ext cx="12463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rcRect l="0" t="10067" r="0" b="0"/>
          <a:stretch/>
        </p:blipFill>
        <p:spPr>
          <a:xfrm>
            <a:off x="0" y="5737320"/>
            <a:ext cx="1246320" cy="112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2421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OS CAMINHOS DE DEUS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48000" y="414972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79320" y="620640"/>
            <a:ext cx="7785360" cy="5545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58080" cy="5616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00000" y="2421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 coração projeta sim, para hoje, para amanhã e para depois e é bom que seja assim. Precisamos de planos para o dia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Mas felizes são aqueles que sabem esperar a hora, o momento e têm a humildade de entregar esses planos Àquele que esquadrinha nossos corações e conhece nosso 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836640"/>
            <a:ext cx="7490160" cy="5256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907920"/>
            <a:ext cx="7344000" cy="511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1773360"/>
            <a:ext cx="69706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Música: Richard Clayderman - </a:t>
            </a:r>
            <a:r>
              <a:rPr b="1" lang="en-US" sz="2000" spc="-1" strike="noStrike">
                <a:solidFill>
                  <a:srgbClr val="ffeda3"/>
                </a:solidFill>
                <a:latin typeface="Verdana"/>
              </a:rPr>
              <a:t>Only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>
            <a:grayscl/>
          </a:blip>
          <a:srcRect l="3187" t="0" r="3187" b="0"/>
          <a:stretch/>
        </p:blipFill>
        <p:spPr>
          <a:xfrm>
            <a:off x="755640" y="692280"/>
            <a:ext cx="7632720" cy="54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rcRect l="3187" t="0" r="3187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2781360"/>
            <a:ext cx="7437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ossos caminhos nem sempre são aqueles que nosso coração projet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em para nós, nem nossos filhos ou para a pessoa que nosso coração eleg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92280"/>
            <a:ext cx="7848360" cy="554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2276640"/>
            <a:ext cx="743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É evidente que Deus quer a nossa felicidade e que nos deixou o livre arbítrio para fazermos nossas escolhas. E olha o resultado: vamos à direita quando deveríamos ir à esquerda, nos precipitamos quando deveríamos esperar, esperamos demais quando deveríamos tomar uma atitude e tornamos nosso coração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85264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coração chora, não é porque Deus provocou lágrimas, mas porque, tendo a escolha, ficamos do lado er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2276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ria um mundo perfeito se projetássemos todos os nossos sonhos e que eles se construíssem pontinho por pontinho, até o fim. É isso que tentamos fazer diariamente quando dizemos a Deus para fazer exatamente aquilo que queremos que seja feito, porque bem sabemos, apesar de mal interpretarmos, que Deus deseja nossa felicidade e somente nossa felic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2565360"/>
            <a:ext cx="7580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Queremos aquele trabalho específico, um casamento perfeito com uma pessoa perfeita, filhos perfeitos e inteligentes, a cura para todos os males e uma situação financeira estável e equilibrada. Dizemos então a Deus: - aqui estão meus projetos e eu sou seu filho. Realize-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>
            <a:grayscl/>
          </a:blip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8"/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2637000"/>
            <a:ext cx="758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h, se conhecêssemos o íntimo do nosso ser como Deus conhece!... se tivéssemos a humildade de pensar que talvez seria melhor tomar outro caminho que o planejado, não erraríamos tanto e não sofreríamos tanto!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684360" y="620640"/>
            <a:ext cx="7775280" cy="561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08200" y="2800440"/>
            <a:ext cx="758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Tente dar ao seu próprio filho tudo o que ele pede sem refletir, no momento que ele pede. Você perceberá com o tempo que ele ficou despreparado para a vida ou que correu riscos que poderiam ter sido evitados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9480" y="28004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Deus nos dá o livre arbítrio sim. Mas na Sua sabedoria pode nos dizer se este caminho é melhor que aquele, se o coração não está influenciado demais por emoções, se o dia poderia ser pintado de outra cor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8:46:50Z</dcterms:created>
  <dc:creator>Beth Norling</dc:creator>
  <dc:description/>
  <dc:language>en-US</dc:language>
  <cp:lastModifiedBy>Beth Norling</cp:lastModifiedBy>
  <dcterms:modified xsi:type="dcterms:W3CDTF">2008-07-31T21:24:53Z</dcterms:modified>
  <cp:revision>10</cp:revision>
  <dc:subject/>
  <dc:title>Os_caminhos_de_Deus</dc:title>
</cp:coreProperties>
</file>