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amigo%20_Yanni%20So%20Long%20My%20Friend%201.44%20cut16bits.wav" ContentType="audio/x-wav"/>
  <Override PartName="/ppt/media/image8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35A-193A-49F3-AE14-29E0DDBF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A27-A21F-45CC-AF2B-02D81CF2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273-194F-4349-8F30-EA9DA9EB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CBD-A274-4C2C-9866-C48A0C04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F3A-044F-48F9-A5F8-F5FA9C16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809-2118-43FC-8714-6D5F0A67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FFC-6DEA-413A-A09C-D79DFF69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1B0-6EC3-4B58-8F3F-2489A88F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9D2-28C0-43F7-867E-000E8656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3E2-CF9A-4F27-9FF4-D9B5B7D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F05-5E2E-4B9D-87F4-EA127A11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FEF-2C18-44DC-85F6-34EEF23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6E05-5113-4146-BFBD-ACF6D729BC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igo%20_Yanni%20So%20Long%20My%20Friend%201.44%20cut16bit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meusonho.trix.net/pps/sergio.htm" TargetMode="External"/><Relationship Id="rId3" Type="http://schemas.openxmlformats.org/officeDocument/2006/relationships/hyperlink" Target="http://www.leticiathompson.net/" TargetMode="External"/><Relationship Id="rId4" Type="http://schemas.openxmlformats.org/officeDocument/2006/relationships/hyperlink" Target="http://www.leticiathompson.net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47920" y="609480"/>
            <a:ext cx="64767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66ffff">
                    <a:alpha val="50000"/>
                  </a:srgbClr>
                </a:solidFill>
                <a:effectLst>
                  <a:outerShdw dist="17819" dir="2700000" blurRad="0" rotWithShape="0">
                    <a:srgbClr val="3c9898"/>
                  </a:outerShdw>
                </a:effectLst>
                <a:latin typeface="Book Antiqua"/>
              </a:rPr>
              <a:t>A arte</a:t>
            </a:r>
            <a:endParaRPr b="1" i="1" lang="en-US" sz="7200" spc="1" strike="noStrike">
              <a:ln w="0">
                <a:noFill/>
              </a:ln>
              <a:solidFill>
                <a:srgbClr val="66ffff">
                  <a:alpha val="50000"/>
                </a:srgbClr>
              </a:solidFill>
              <a:effectLst>
                <a:outerShdw dist="17819" dir="2700000" blurRad="0" rotWithShape="0">
                  <a:srgbClr val="3c9898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66ffff">
                    <a:alpha val="50000"/>
                  </a:srgbClr>
                </a:solidFill>
                <a:effectLst>
                  <a:outerShdw dist="17819" dir="2700000" blurRad="0" rotWithShape="0">
                    <a:srgbClr val="3c9898"/>
                  </a:outerShdw>
                </a:effectLst>
                <a:latin typeface="Book Antiqua"/>
              </a:rPr>
              <a:t>de</a:t>
            </a:r>
            <a:endParaRPr b="1" i="1" lang="en-US" sz="7200" spc="1" strike="noStrike">
              <a:ln w="0">
                <a:noFill/>
              </a:ln>
              <a:solidFill>
                <a:srgbClr val="66ffff">
                  <a:alpha val="50000"/>
                </a:srgbClr>
              </a:solidFill>
              <a:effectLst>
                <a:outerShdw dist="17819" dir="2700000" blurRad="0" rotWithShape="0">
                  <a:srgbClr val="3c9898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66ffff">
                    <a:alpha val="50000"/>
                  </a:srgbClr>
                </a:solidFill>
                <a:effectLst>
                  <a:outerShdw dist="17819" dir="2700000" blurRad="0" rotWithShape="0">
                    <a:srgbClr val="3c9898"/>
                  </a:outerShdw>
                </a:effectLst>
                <a:latin typeface="Book Antiqua"/>
              </a:rPr>
              <a:t>ser feliz</a:t>
            </a:r>
            <a:endParaRPr b="1" i="1" lang="en-US" sz="7200" spc="1" strike="noStrike">
              <a:ln w="0">
                <a:noFill/>
              </a:ln>
              <a:solidFill>
                <a:srgbClr val="66ffff">
                  <a:alpha val="50000"/>
                </a:srgbClr>
              </a:solidFill>
              <a:effectLst>
                <a:outerShdw dist="17819" dir="2700000" blurRad="0" rotWithShape="0">
                  <a:srgbClr val="3c98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14600" y="4572000"/>
            <a:ext cx="40384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66ffff">
                    <a:alpha val="50000"/>
                  </a:srgbClr>
                </a:solidFill>
                <a:effectLst>
                  <a:outerShdw dist="17819" dir="2700000" blurRad="0" rotWithShape="0">
                    <a:srgbClr val="3c9898"/>
                  </a:outerShdw>
                </a:effectLst>
                <a:latin typeface="Book Antiqu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66ffff">
                  <a:alpha val="50000"/>
                </a:srgbClr>
              </a:solidFill>
              <a:effectLst>
                <a:outerShdw dist="17819" dir="2700000" blurRad="0" rotWithShape="0">
                  <a:srgbClr val="3c9898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amigo%20_Yanni%20So%20Long%20My%20Friend%201.44%20cut16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9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93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914400"/>
            <a:ext cx="6324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b995"/>
                </a:solidFill>
                <a:latin typeface="Copperplate Gothic Light"/>
              </a:rPr>
              <a:t>Para ser feliz, aprenda a rir de si mesmo. Isso vai te tornar uma pessoa mais agradável para os que te cercam e vai te ensinar a ver a vida com menos seriedade. Rir não é só o melhor remédio, é um tratamento completo. Ria, ria semp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6e7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9200"/>
                            </p:stCondLst>
                            <p:childTnLst>
                              <p:par>
                                <p:cTn id="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2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066680"/>
            <a:ext cx="586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Aprenda que os outros não são responsáveis pelos seus problemas; eles podem até oferecer um ombro, mas cada qual carrega a sua cruz; porém saiba que quem te oferece um ombro é o tesouro mais precioso que você poderia encont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7e8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4000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6200"/>
                            </p:stCondLst>
                            <p:childTnLst>
                              <p:par>
                                <p:cTn id="3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9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838080"/>
            <a:ext cx="6172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b995"/>
                </a:solidFill>
                <a:latin typeface="Copperplate Gothic Light"/>
                <a:ea typeface="Arial"/>
              </a:rPr>
              <a:t>Aprenda também que você não é responsável pelos problemas alheios. Oferecer a mão, o ombro, o sorriso fará de você um bom samaritano e o melhor dos amigos, mas jamais você poderá viver o que não te pertence. Cada um de nós deve viver e conviver com as conseqüências dos próprios 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ff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9000">
    <p:randomBa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40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2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9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066680"/>
            <a:ext cx="68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Aprenda que decepções e mágoas fazem parte do caminho, como ervas daninhas. Ninguém está livre delas e de uma maneira geral chegam quando mais precisamos ver e sentir as flores. Porém quando conseguimos vencê-las o campo fica muito mais bonito de se olhar e sent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ff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7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9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990720"/>
            <a:ext cx="6324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b995"/>
                </a:solidFill>
                <a:latin typeface="Copperplate Gothic Light"/>
                <a:ea typeface="Arial"/>
              </a:rPr>
              <a:t>As rosas não são menos belas por possuírem espinhos. Portanto, não exija de si mesmo e nem dos outros a perfeição. Seja apenas o que você é, seja verdadeiro. Os que te amarem além da sua aparência serão aqueles pelos quais sua vida vai valer a p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0f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890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2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7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990720"/>
            <a:ext cx="66294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Seja apenas iss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feliz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b28a"/>
                </a:solidFill>
                <a:latin typeface="Copperplate Gothic Light"/>
                <a:ea typeface="Arial"/>
              </a:rPr>
              <a:t>Com arte, com cor, com muito bom humor.  As coisas simples são normalmente as que pensamos por último, mas geralmente são a base de uma vida equilib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0f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7b99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65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572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7b995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7b995"/>
                </a:solidFill>
                <a:latin typeface="Times New Roman"/>
              </a:rPr>
              <a:t>Yanni - So Long My Fri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6686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b995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b995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8954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7b995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990720" y="487692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b995"/>
                </a:solidFill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"/>
          </p:cNvPr>
          <p:cNvSpPr/>
          <p:nvPr/>
        </p:nvSpPr>
        <p:spPr>
          <a:xfrm>
            <a:off x="3048120" y="4724280"/>
            <a:ext cx="213336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Letícia Poes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5410080" y="4876920"/>
            <a:ext cx="190512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7b995"/>
                </a:solidFill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5e7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3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4:40:23Z</dcterms:created>
  <dc:creator>ssoliver@terra.com.br </dc:creator>
  <dc:description/>
  <dc:language>en-US</dc:language>
  <cp:lastModifiedBy>Leticia Thompson</cp:lastModifiedBy>
  <dcterms:modified xsi:type="dcterms:W3CDTF">2004-10-27T17:59:57Z</dcterms:modified>
  <cp:revision>8</cp:revision>
  <dc:subject>PPS</dc:subject>
  <dc:title>A arte de ser feliz</dc:title>
</cp:coreProperties>
</file>