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Cortazar%20-%20Meditative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88D-E0A3-4923-8861-6B2864A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7B0-5B04-4CED-88A4-0A1ACEBA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070-1CF1-4E31-AB46-F3D7B83E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135-BF32-4F1C-B91D-5AFF013E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587-6764-45EE-99C9-E9BA1FF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388-BC36-4540-AB2F-681AB3CC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4D2-3757-4FA0-9D80-9DCAAB8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BCC-D217-43B3-A15D-18198C8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83B-E913-4CEF-945C-A11837A3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061-CEE2-4A53-8A3A-9C2C21D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975-46B7-4D70-9E0C-C9B66F1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992-2429-4CDF-9FA3-B54B21D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EC3-D75F-4038-A0B2-EBEB43C0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Cortazar%20-%20Meditativ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3715920"/>
            <a:ext cx="64008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Senhor,</a:t>
            </a: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Se um dia eu estiver "cheio da vida", com vontade de sumir, de morrer, insatisfeito comigo e com o mundo em torno de mim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  <p:sndAc>
      <p:stSnd>
        <p:snd r:embed="rId2" name="ErnestoCortazar%20-%20Meditati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0364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BRIGADO SENH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OR MAIS UM 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ergunta-me, se eu quero trocar a luz pelas trevas;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19280" y="407664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se eu quero trocar a mesa posta, pelos restos que tantos vem buscar no lixo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rgunta-me, se eu quero trocar meus pés por uma cadeira de roda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4764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rgunta-me, se eu quero trocar minha voz, pelos gesto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gunta-me se eu quero trocar o mundo dos sons pelo silêncio dos que nada ouvem;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4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411280" y="47592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Pergunta-me, se eu quero trocar o jornal que leio e depois jogo no lixo, pela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iséria dos que vão buscá-lo para fazer dele seu cobertor;</a:t>
            </a:r>
            <a:br>
              <a:rPr sz="3200"/>
            </a:b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7432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se eu quero trocar minha saúde, pelas enfermidades de tanta gente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até quando não reconhecerei as tuas bênçãos, a fim de fazer de minha vida um hino de louvor e gratidão e dizer, todos os dias, do fundo do meu coração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2:20:10Z</dcterms:created>
  <dc:creator>Sheila</dc:creator>
  <dc:description/>
  <dc:language>en-US</dc:language>
  <cp:lastModifiedBy>Cliente</cp:lastModifiedBy>
  <dcterms:modified xsi:type="dcterms:W3CDTF">2006-10-15T21:09:43Z</dcterms:modified>
  <cp:revision>3</cp:revision>
  <dc:subject/>
  <dc:title>Slide 1</dc:title>
</cp:coreProperties>
</file>