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Cortazar%20-%20Meditative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12E3-2DD5-4A31-90E1-0DB2AA5A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394-0B42-418D-9367-4778596F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9DC-6FD4-4210-8C08-3D637996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058-7B13-41D6-B022-0A0E49A9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D0F-497C-49AB-AD99-A93A280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395-4CB9-4F3C-80DC-3724E52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0C6-8499-4298-8A5C-5B4F400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AB1-0AE1-41D6-A94B-0A578013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3BD-8425-4D0A-8BE1-8E5CFDD4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AE9-A296-41E1-9A2E-F38A84F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12F-0378-4900-87A1-1D363AE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F9A-9B0A-46AB-A477-2F70B3E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952-9DD6-4703-8640-A3B2D499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Cortazar%20-%20Meditativ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3715920"/>
            <a:ext cx="64008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Senhor,</a:t>
            </a:r>
            <a:br>
              <a:rPr sz="3600"/>
            </a:b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Se um dia eu estiver "cheio da vida", com vontade de sumir, de morrer, insatisfeito comigo e com o mundo em torno de mim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  <p:sndAc>
      <p:stSnd>
        <p:snd r:embed="rId2" name="ErnestoCortazar%20-%20Meditati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20364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BRIGADO SENH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POR MAIS UM 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ergunta-me, se eu quero trocar a luz pelas trevas;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19280" y="407664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se eu quero trocar a mesa posta, pelos restos que tantos vem buscar no lixo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rgunta-me, se eu quero trocar meus pés por uma cadeira de roda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4764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rgunta-me, se eu quero trocar minha voz, pelos gesto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gunta-me se eu quero trocar o mundo dos sons pelo silêncio dos que nada ouvem;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4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411280" y="47592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Pergunta-me, se eu quero trocar o jornal que leio e depois jogo no lixo, pela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iséria dos que vão buscá-lo para fazer dele seu cobertor;</a:t>
            </a:r>
            <a:br>
              <a:rPr sz="3200"/>
            </a:b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7432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se eu quero trocar minha saúde, pelas enfermidades de tanta gente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Pergunta-me, até quando não reconhecerei as tuas bênçãos, a fim de fazer de minha vida um hino de louvor e gratidão e dizer, todos os dias, do fundo do meu coração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2:20:10Z</dcterms:created>
  <dc:creator>Sheila</dc:creator>
  <dc:description/>
  <dc:language>en-US</dc:language>
  <cp:lastModifiedBy>Cliente</cp:lastModifiedBy>
  <dcterms:modified xsi:type="dcterms:W3CDTF">2006-10-15T21:09:43Z</dcterms:modified>
  <cp:revision>3</cp:revision>
  <dc:subject/>
  <dc:title>Slide 1</dc:title>
</cp:coreProperties>
</file>