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David_Lanz_-_Whiter_Shade_of_Pale.wav" ContentType="audio/x-wav"/>
  <Override PartName="/ppt/media/image2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8.gif" ContentType="image/gif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843-149C-43C9-9D75-70FE5F7B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DB9-00C3-42FD-AC0F-9B0D31C7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BF4-2EB5-4F53-9B09-505064C4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680-BDCE-42E6-8EBB-E24AF115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6B0-87EC-402A-B0F7-AC79DE45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92D-D724-4E28-B5AE-09838749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5C9-B61F-41E2-A0F2-A1B0FB62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E42-0228-40F2-89A7-4073B652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35C-2B4C-469C-BAA4-04A25BAE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262-1DC0-4924-A82C-1E410965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F43-4862-4D57-9555-110D39F0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9DD-954E-4139-87B5-A3160BA9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A51B-F9E6-427C-AE18-AF50DF1386A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David_Lanz_-_Whiter_Shade_of_Pal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ret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357120" y="857160"/>
            <a:ext cx="8358120" cy="494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PERO QUE ESTA MENSAGEM</a:t>
            </a: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DIFIQUE SUA VIDA</a:t>
            </a: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O EDIFICOU A MINHA.</a:t>
            </a: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9" descr="Cópia (2) de minirosamr3"/>
          <p:cNvPicPr/>
          <p:nvPr/>
        </p:nvPicPr>
        <p:blipFill>
          <a:blip r:embed="rId3"/>
          <a:stretch/>
        </p:blipFill>
        <p:spPr>
          <a:xfrm>
            <a:off x="6300720" y="5300640"/>
            <a:ext cx="2005200" cy="96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Cópia (2) de minirosamr3"/>
          <p:cNvPicPr/>
          <p:nvPr/>
        </p:nvPicPr>
        <p:blipFill>
          <a:blip r:embed="rId4"/>
          <a:stretch/>
        </p:blipFill>
        <p:spPr>
          <a:xfrm>
            <a:off x="395280" y="5300640"/>
            <a:ext cx="2005200" cy="968400"/>
          </a:xfrm>
          <a:prstGeom prst="rect">
            <a:avLst/>
          </a:prstGeom>
          <a:ln w="0">
            <a:noFill/>
          </a:ln>
        </p:spPr>
      </p:pic>
    </p:spTree>
  </p:cSld>
  <p:transition spd="med" advTm="29000">
    <p:zoom dir="out"/>
    <p:sndAc>
      <p:stSnd>
        <p:snd r:embed="rId5" name="David_Lanz_-_Whiter_Shade_of_Pal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07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E depois que minha irmã morreu, um tempo bem passado, eu descobrir porque eu gostava tanto dessa música que vou cantar agora. Ela não fala de um amor que foi embora; o compositor fez para a filha que morreu em um acidente; então, fica muito mais especial cantá-la e descobrir o cristianismo que está no meio das palavras, porque é assim, quando o outro vai embora </a:t>
            </a:r>
            <a:br>
              <a:rPr sz="2400"/>
            </a:b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é que a gente descobre o tamanho do espaço que </a:t>
            </a:r>
            <a:br>
              <a:rPr sz="2400"/>
            </a:b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ele ocupava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23090117112008_maior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3212640"/>
            <a:ext cx="395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“</a:t>
            </a: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Não sei por que você se foi,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Quantas saudades eu senti,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E de tristezas vou viver,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E aquele adeus não pude dar...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20071104072131_filho1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342864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Você marcou a minha vida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Viveu, morreu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Na minha história;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Chego a ter medo do futuro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E da solidão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Que em minha porta bate...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padrefabio_grande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37432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E eu!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Gostava tanto de você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Gostava tanto de você..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20090619-padre%20fabio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3212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tt-558-padre-fabio-melo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50920" y="333360"/>
            <a:ext cx="568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Eu corro, fujo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     </a:t>
            </a: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desta sombra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Em sonho vejo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       </a:t>
            </a: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este passado,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E na parede do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       </a:t>
            </a: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meu quarto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Ainda está o seu retrato.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Não quero ver pra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           </a:t>
            </a: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não lembrar,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Pensei até em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       </a:t>
            </a: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me mudar...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Lugar qualquer qu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       </a:t>
            </a: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não exista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O pensamento em você..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81000"/>
            <a:ext cx="331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E eu!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Gostava tanto de você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Gostava tanto de você...”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fabio-de-melo-2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314136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Eu gostava tanto de você!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Eu gostava tanto de você!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Eu gostava tanto de você!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Eu gostava tanto de você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Padre+F%C3%A1bio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9239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Comic Sans MS"/>
                <a:ea typeface="宋体"/>
              </a:rPr>
              <a:t>Agora o triste da música é que a gente precisa conjugar o verbo no passado, a pessoa já morreu, já não há mais o que fazer.  Mas não tem nenhum sofrimento nessa vida que passe por nós sem deixar nenhum ensinamento..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padre-fabio-110509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Comic Sans MS"/>
                <a:ea typeface="宋体"/>
              </a:rPr>
              <a:t>Tem que nos ensinar, não dá pra sofrer em vão. Alguma coisa a gente tem que extrair...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d-do-padre-fabio-de-melo-eu-e-o-tempo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Comic Sans MS"/>
                <a:ea typeface="宋体"/>
              </a:rPr>
              <a:t>Extraia o sofrimento e descubra o ensinamento. Se ele algum dia me tocou e me deixou algum ensinamento, eu faço questão de partilhá-lo com você agora. Depois da morte da minha irmã eu faço questão de viver a vida como se fosse o último dia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2779517272_acc960a931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abio-de-melo-2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324000" y="620640"/>
            <a:ext cx="3743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Comic Sans MS"/>
                <a:ea typeface="宋体"/>
              </a:rPr>
              <a:t>Eu acho que a gente vive tão mal, que às vezes a gente precisa perder as pessoas pra descobrir o valor que elas têm. Às vezes as pessoas precisam morrer pra gente saber a importância que elas tinham, e isso aconteceu uma vez na minha vida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rande-padre_fabio_melo-divulgacao1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24000" y="1268280"/>
            <a:ext cx="367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Já que o passado é coisa do inferno, e a gente não está no passado, muito menos no inferno, resta a possibilidade de mudar o verbo, de trazê-lo para o presente e de cantá-lo olhando para as pessoas que são especiais. Quem sabe cantando pra ela nesse momento..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ad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5003640" y="1989000"/>
            <a:ext cx="39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Se ela está ao seu lado, se você tem algum amigo que mereça ouvir isso de você, alguém que faz diferença na sua história...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22020185_e5e1520a7b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3"/>
          <p:cNvSpPr txBox="1"/>
          <p:nvPr/>
        </p:nvSpPr>
        <p:spPr>
          <a:xfrm>
            <a:off x="395280" y="836640"/>
            <a:ext cx="302436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o invés de 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ocê dizer 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gostava, 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ocê diz 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gosta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33573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Comic Sans MS"/>
                <a:ea typeface="宋体"/>
              </a:rPr>
              <a:t>Vamos mudar o verbo! Vamos amar a vida! Vamos amar as pessoas antes que elas vão embora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895614_not_fot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4026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3"/>
          <p:cNvSpPr txBox="1"/>
          <p:nvPr/>
        </p:nvSpPr>
        <p:spPr>
          <a:xfrm>
            <a:off x="684360" y="836640"/>
            <a:ext cx="244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 eu... </a:t>
            </a:r>
            <a:endParaRPr b="1" lang="en-US" sz="1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abio-de-melo-2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3"/>
          <p:cNvSpPr txBox="1"/>
          <p:nvPr/>
        </p:nvSpPr>
        <p:spPr>
          <a:xfrm>
            <a:off x="684360" y="836640"/>
            <a:ext cx="295092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U GOSTO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NTO DE VOCÊ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U GOSTO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NTO DE VOCÊ!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40280" y="5877000"/>
            <a:ext cx="40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  <a:ea typeface="Arial"/>
              </a:rPr>
              <a:t>Padre Fábio de Melo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adre+F%C3%A1bio+de+Melo+(14)"/>
          <p:cNvPicPr/>
          <p:nvPr/>
        </p:nvPicPr>
        <p:blipFill>
          <a:blip r:embed="rId1"/>
          <a:stretch/>
        </p:blipFill>
        <p:spPr>
          <a:xfrm>
            <a:off x="826920" y="-316080"/>
            <a:ext cx="7632720" cy="698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abs11"/>
          <p:cNvPicPr/>
          <p:nvPr/>
        </p:nvPicPr>
        <p:blipFill>
          <a:blip r:embed="rId1"/>
          <a:stretch/>
        </p:blipFill>
        <p:spPr>
          <a:xfrm>
            <a:off x="428760" y="317520"/>
            <a:ext cx="3435120" cy="618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lugarespecialcoracao1"/>
          <p:cNvPicPr/>
          <p:nvPr/>
        </p:nvPicPr>
        <p:blipFill>
          <a:blip r:embed="rId2"/>
          <a:stretch/>
        </p:blipFill>
        <p:spPr>
          <a:xfrm>
            <a:off x="4282920" y="571680"/>
            <a:ext cx="4361040" cy="431316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4214880" y="4286160"/>
            <a:ext cx="464328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 MUITO CARINHO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3060446049b999445a3fafabiodemelo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5364000" y="404640"/>
            <a:ext cx="360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Comic Sans MS"/>
                <a:ea typeface="宋体"/>
              </a:rPr>
              <a:t>Estava eu na minha casa, de manhã, quando recebi um telefonema dizendo que minha irmã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Comic Sans MS"/>
                <a:ea typeface="宋体"/>
              </a:rPr>
              <a:t>estava morta. Minha irmã mais nova, cheia de vida... de repente não existe mais.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141360"/>
            <a:ext cx="396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Fico pensando assim, que às vezes, na vida, o ensinamento mais doído seja esse: quando na vida nós já não temos mais a oportunidade de fazer alguma coisa,  o inferno talvez seja isso -  a impossibilidade de mudar alguma situação. E quando as pessoas morrem, já não há mais o que dizer, porque mortos não podem perdoar, mortos não podem sorrir, mortos não podem amar, nem tão pouco ouvir de nós que os amam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padre-fabio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21264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Comic Sans MS"/>
                <a:ea typeface="宋体"/>
              </a:rPr>
              <a:t>Eu me lembro que uma semana antes de minha irmã morrer, ela havia me ligado. Foi a última vez que eu falei com ela, e eu me recordo que naquele dia eu estava apressado, com muita coisa pra fazer, e fiz questão de desligar o telefone rápido. Sabe quando você fala, mas fala na correria, porque você tem muita coisa pra fazer? E foi assim... se eu soubesse que aquela seria a última oportunidade de ver minha irmã, de olhar nos olhos dela, de falar com ela, eu certamente teria esquecido toda a pressa, porque quando a vida é assim, e você sabe que é a ultima oportunidade, você não tem pressa pra mais nada. Já não há mais o que eu fazer, e essa é a beleza da última ceia de Jesu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padre_fabio2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Não há pressa, o momento é feito para celebrar, a mística da última ceia está ali, Jesus reúne aqueles que pra ele tinha um valor especial, inclusive o traidor estava lá.</a:t>
            </a:r>
            <a:br>
              <a:rPr sz="2400"/>
            </a:b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E eu descobri com isso, com a morte da minha irmã, que eu não tenho o direito de esperar amanhã pra dizer que amo, pra perdoar, para abraçar, dizer que é importante, que é especial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19_eventos-004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81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O amanhã eu não sei se existe, mas o agora eu sei que existe, e às vezes, na vida, nos perdemos... Eu me lembro quantas vezes na minha vida de irmão com ela, nós passávamos uma semana sem nos falarmos, porque houve uma briga, uma confusão. A gente se dava o luxo de passar uma semana sem se falar, e hoje eu não tenho mais nem 5 minutos pra conversar com alguém que foi importante, que foi parte de mim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pe-fabio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abiodemelo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468360" y="333360"/>
            <a:ext cx="4174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Não espere as pessoas morrerem, irem embora, não espere o definitivo bater na sua porta. Nós não conhecemos a vida e não sabemos o que virá amanhã. Viva como se fosse o último dia da sua história. Se hoje você tivesse que realizar a sua última ceia, porque é conhecedor que hoje é o último de sua vida, certamente você não teria tempo pra pressa. Você celebraria até o fim, e gostaria de ficar ao lado de quem você ama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2779517184_ba3aa249c3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95280" y="549360"/>
            <a:ext cx="403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Comic Sans MS"/>
                <a:ea typeface="宋体"/>
              </a:rPr>
              <a:t>Viver o cristianismo é fazer a dinâmica da última ceia todos os dias. Viva como se fosse o último dia da sua vida; viva como se fosse a última oportunidade de amar quem você ama, de olhar nos olhos de quem pra você é especial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7:54:05Z</dcterms:created>
  <dc:creator>ClienteMD</dc:creator>
  <dc:description/>
  <dc:language>en-US</dc:language>
  <cp:lastModifiedBy>Casa</cp:lastModifiedBy>
  <dcterms:modified xsi:type="dcterms:W3CDTF">2010-01-29T01:08:00Z</dcterms:modified>
  <cp:revision>5</cp:revision>
  <dc:subject>Outros</dc:subject>
  <dc:title>Slide 1</dc:title>
</cp:coreProperties>
</file>