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Celine%20Dion%20&amp;%20Bee%20Gees%20-%20Immortality.wav" ContentType="audio/x-wav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CDD-99A6-4803-A3A3-58D283AD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A81-A264-47D9-8E72-BE437786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BD5-E465-42A6-8117-99428968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D46-406E-4F9A-A4E7-9FAB5F3E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7C0-2353-4A0C-AE95-B821BB2D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725-4F1D-40EA-85C4-0B5E062B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2DEF-B1CC-4B89-B577-8DEEEA6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6C6-1D83-44A0-BF8D-45B615B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713A-8FCE-4ACE-AC2F-06A345C9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B2C-842E-40ED-9FFB-C5D13C25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542A-927B-4B62-98C3-66182ED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513-2B32-4CFB-A0E8-7ED8D20A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3135-2D03-4EAB-A8F0-CC692937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058-85B9-4814-B493-2ED34E43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1955-0AFB-4C0C-955D-CF546165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F23-65DB-4E26-9B4A-D5F07CD3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FB35-429D-4E66-A4B8-CC261A50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615-1F6D-4D8D-B2D9-373CBAD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8A1-784A-4789-986B-9FD536F3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E0B-16FF-4312-9A6C-7328BC69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6EE-C69D-45FF-A50C-C051ABC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44D-9F02-422A-91B1-5C914A3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239-BA3C-4E9A-9D48-65E818D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BAD-BBA3-4AA9-8052-95A61E6F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F99B-FFB7-4E64-B40C-C44AE8524D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C8B9-72DD-4E7E-83BE-2C123B4726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eline%20Dion%20&amp;%20Bee%20Gees%20-%20Immortality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mailto:contact@leticiathompson.net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marlick@ig.com.br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47640" y="2637000"/>
            <a:ext cx="7128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44000"/>
                  </a:blip>
                  <a:srcRect/>
                  <a:stretch/>
                </a:blipFill>
                <a:latin typeface="Old English Text MT"/>
              </a:rPr>
              <a:t>O grande am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44000"/>
                </a:blip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640" y="4581360"/>
            <a:ext cx="355284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40000"/>
                  </a:blip>
                  <a:srcRect/>
                  <a:stretch/>
                </a:blipFill>
                <a:latin typeface="Old English Text MT"/>
              </a:rPr>
              <a:t>Letícia Thomp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40000"/>
                </a:blip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948360" y="5516640"/>
            <a:ext cx="96228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Old English Text MT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Old English Text MT"/>
              <a:ea typeface="Old English Text M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5435640" y="404640"/>
            <a:ext cx="300204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6000" y="2492280"/>
            <a:ext cx="77770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O grande amor nada tem a ver com grandes momentos 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coisas extraordinárias vividas juntos.Nada tem a 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com loucas paixões que queimam  e viram cinzas alg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tempo depois. O “não sei viver sem você”não conh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nada do grande amor, porque as pessoas semp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sobrevivem às decepções amorosas e serão capazes de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entregar ainda e ainda ao fogo do amor, se ele cheg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eline%20Dion%20&amp;%20Bee%20Gees%20-%20Immortality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943280" cy="1114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966600" y="1951200"/>
            <a:ext cx="1165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Quem fica esperando o grande amor e acha que 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encontrou cada vez que consegue dizer“te amo”a ou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pessoa e que pensa que aquilo vai durar para o resto 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vida,acaba se decepcionando. Porque amores vêm e v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Amores chegam, enfeitam a vida por algum tempo, d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a idéia de infinito, de irreal, de coisa única e depo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desaparecem lentamente, como miragem quando se cheg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muito perto. Percebemos assim que as juras de am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Brush Script MT"/>
              </a:rPr>
              <a:t>eterno não conhecem nada de eternid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0"/>
            <a:ext cx="2714760" cy="1773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951200"/>
            <a:ext cx="86724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O grande amor não é aquele por quem se quer morr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por ele.Romeu e Julieta eram jovens demais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ternizaram  a idéia de que para se ter um grande am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é necessário saber morrer por 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O grande amor, só se sabe que era ele depois. Depois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todos os amores que invadiram e fugiram, dos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nlouqueceram  e dos que trouxeram a razão. O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amor, só se reconhece olhando pra trás e nunca pra frente.</a:t>
            </a:r>
            <a:r>
              <a:rPr b="1" i="1" lang="en-US" sz="3200" spc="-1" strike="noStrike">
                <a:solidFill>
                  <a:srgbClr val="ff0000"/>
                </a:solidFill>
                <a:latin typeface="Brush Script MT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1933560" cy="8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93356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936000" y="1878120"/>
            <a:ext cx="11624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É aquele quando, se olhando pra trás e se somando to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os amores vividos, sabe-se reconhecer qual deles era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verdadeira essência, o que não ficou destruído mesm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depois que todos os sonhos se for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O grande amor é aquele que fica quando, anos depoi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mesmo se conhecendo o outro de cór,sabendo adivinhar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pensamentos e mínimos gestos, mesmo não havendo ma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mistérios, ainda é capaz de olhar nos olhos do outro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Brush Script MT"/>
              </a:rPr>
              <a:t>dizer com serenidade:-Eu te amo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879640" cy="129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36200" y="1879560"/>
            <a:ext cx="634824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Créd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E-mail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2"/>
              </a:rPr>
              <a:t>contact@leticiathompson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Visite o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3"/>
              </a:rPr>
              <a:t>www.leticiathompson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Música: Im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Celine D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Formatação: </a:t>
            </a:r>
            <a:r>
              <a:rPr b="1" lang="en-US" sz="4400" spc="-1" strike="noStrike">
                <a:solidFill>
                  <a:srgbClr val="ff6600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entury"/>
                <a:hlinkClick r:id="rId4"/>
              </a:rPr>
              <a:t>marlick@ig.com.b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entury"/>
              </a:rPr>
              <a:t>Respeite os créd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4:17:15Z</dcterms:created>
  <dc:creator>Marli         marlick@ig.com.br</dc:creator>
  <dc:description>Autora: Letícia Thompson - não retirar e nem modificar créditos.</dc:description>
  <cp:keywords>Texto</cp:keywords>
  <dc:language>en-US</dc:language>
  <cp:lastModifiedBy>One</cp:lastModifiedBy>
  <dcterms:modified xsi:type="dcterms:W3CDTF">2007-02-09T01:22:59Z</dcterms:modified>
  <cp:revision>3</cp:revision>
  <dc:subject/>
  <dc:title>O_grande_amor_pps.marli</dc:title>
</cp:coreProperties>
</file>