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Celine%20Dion%20&amp;%20Bee%20Gees%20-%20Immortality.wav" ContentType="audio/x-wav"/>
  <Override PartName="/ppt/media/image4.gif" ContentType="image/gif"/>
  <Override PartName="/ppt/media/image5.jpeg" ContentType="image/jpeg"/>
  <Override PartName="/ppt/media/image6.gif" ContentType="image/gif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43EC-14D5-479D-9480-4ADF04551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5178-09CE-4D98-8B6F-8D668847F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5790-D252-49C4-9F72-CB1E2103F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F9A7-8B9D-4E7A-B662-B788DD6F1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7A362-D2E6-4570-99CF-D05C2853C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1BB21-445B-496F-AC25-CE99C20D2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3B946-41A2-4D6F-BF3A-A80FBE7E3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A2682-2EDB-4D1B-AE23-1DA27E3B7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D707C-6411-4010-9DB3-55BCFBAD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E537A-5777-45E8-88D9-750B7EDCA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B8D3D-5B59-4A19-A23F-A72777C9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420B-E716-4864-98A8-2FB791E22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C0B27-9675-4E9D-A85D-12449C8B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B2A3D-8DB7-46CD-AEFF-8D74E653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22AF6-1826-404D-BCA0-70D238562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DEEF9-A58F-4C62-81AE-7ADE62A95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27ABF-3376-413B-B957-1BA6EE314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C793-6109-4D45-BDD0-0A3C952BF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CCF3-3E6C-4F06-BB37-DD88D6801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2926-0731-4979-B20E-07680D90E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02C6-5C86-4AF5-972F-6C2C97D46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2A80-65E1-46A3-9D2C-4D3314BE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7A9C-4357-4376-BCF4-D4A01995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5F5B-3E20-44DE-82FA-29659C76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3DBF3-2453-4BFB-804C-C99AAEAC088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FCFD4-A06B-4F75-9704-56DA0265D58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2.gif"/><Relationship Id="rId8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Celine%20Dion%20&amp;%20Bee%20Gees%20-%20Immortality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hyperlink" Target="mailto:contact@leticiathompson.net" TargetMode="External"/><Relationship Id="rId3" Type="http://schemas.openxmlformats.org/officeDocument/2006/relationships/hyperlink" Target="http://www.leticiathompson.net/" TargetMode="External"/><Relationship Id="rId4" Type="http://schemas.openxmlformats.org/officeDocument/2006/relationships/hyperlink" Target="mailto:marlick@ig.com.br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547640" y="2637000"/>
            <a:ext cx="712800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>
                    <a:alphaModFix amt="44000"/>
                  </a:blip>
                  <a:srcRect/>
                  <a:stretch/>
                </a:blipFill>
                <a:latin typeface="Old English Text MT"/>
              </a:rPr>
              <a:t>O grande amo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>
                  <a:alphaModFix amt="44000"/>
                </a:blip>
                <a:srcRect/>
                <a:stretch/>
              </a:blipFill>
              <a:latin typeface="Old English Text MT"/>
              <a:ea typeface="Old English Text MT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971640" y="4581360"/>
            <a:ext cx="3552840" cy="78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>
                    <a:alphaModFix amt="40000"/>
                  </a:blip>
                  <a:srcRect/>
                  <a:stretch/>
                </a:blipFill>
                <a:latin typeface="Old English Text MT"/>
              </a:rPr>
              <a:t>Letícia Thompso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>
                  <a:alphaModFix amt="40000"/>
                </a:blip>
                <a:srcRect/>
                <a:stretch/>
              </a:blipFill>
              <a:latin typeface="Old English Text MT"/>
              <a:ea typeface="Old English Text MT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948360" y="5516640"/>
            <a:ext cx="962280" cy="78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Old English Text MT"/>
              </a:rPr>
              <a:t>Som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Old English Text MT"/>
              <a:ea typeface="Old English Text MT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7"/>
          <a:stretch/>
        </p:blipFill>
        <p:spPr>
          <a:xfrm>
            <a:off x="5435640" y="404640"/>
            <a:ext cx="3002040" cy="1366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300720" y="549360"/>
            <a:ext cx="1524240" cy="1143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116000" y="2492280"/>
            <a:ext cx="777708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Brush Script MT"/>
              </a:rPr>
              <a:t>O grande amor nada tem a ver com grandes momentos o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Brush Script MT"/>
              </a:rPr>
              <a:t>coisas extraordinárias vividas juntos.Nada tem a v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Brush Script MT"/>
              </a:rPr>
              <a:t>com loucas paixões que queimam  e viram cinzas algu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Brush Script MT"/>
              </a:rPr>
              <a:t>tempo depois. O “não sei viver sem você”não conhe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Brush Script MT"/>
              </a:rPr>
              <a:t>nada do grande amor, porque as pessoas semp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Brush Script MT"/>
              </a:rPr>
              <a:t>sobrevivem às decepções amorosas e serão capazes de 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Brush Script MT"/>
              </a:rPr>
              <a:t>entregar ainda e ainda ao fogo do amor, se ele cheg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eline%20Dion%20&amp;%20Bee%20Gees%20-%20Immortality.wav"/>
      </p:stSnd>
    </p:sndAc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867280" y="692280"/>
            <a:ext cx="1943280" cy="11142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-966600" y="1951200"/>
            <a:ext cx="11656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cccc"/>
                </a:solidFill>
                <a:latin typeface="Brush Script MT"/>
              </a:rPr>
              <a:t>Quem fica esperando o grande amor e acha que 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cccc"/>
                </a:solidFill>
                <a:latin typeface="Brush Script MT"/>
              </a:rPr>
              <a:t>encontrou cada vez que consegue dizer“te amo”a outr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cccc"/>
                </a:solidFill>
                <a:latin typeface="Brush Script MT"/>
              </a:rPr>
              <a:t>pessoa e que pensa que aquilo vai durar para o resto d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cccc"/>
                </a:solidFill>
                <a:latin typeface="Brush Script MT"/>
              </a:rPr>
              <a:t>vida,acaba se decepcionando. Porque amores vêm e vã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cccc"/>
                </a:solidFill>
                <a:latin typeface="Brush Script MT"/>
              </a:rPr>
              <a:t>Amores chegam, enfeitam a vida por algum tempo, dã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cccc"/>
                </a:solidFill>
                <a:latin typeface="Brush Script MT"/>
              </a:rPr>
              <a:t>a idéia de infinito, de irreal, de coisa única e depo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cccc"/>
                </a:solidFill>
                <a:latin typeface="Brush Script MT"/>
              </a:rPr>
              <a:t>desaparecem lentamente, como miragem quando se cheg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cccc"/>
                </a:solidFill>
                <a:latin typeface="Brush Script MT"/>
              </a:rPr>
              <a:t>muito perto. Percebemos assim que as juras de amo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cccc"/>
                </a:solidFill>
                <a:latin typeface="Brush Script MT"/>
              </a:rPr>
              <a:t>eterno não conhecem nada de eternida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042920" y="0"/>
            <a:ext cx="2714760" cy="17733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8360" y="1951200"/>
            <a:ext cx="8672400" cy="78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rush Script MT"/>
              </a:rPr>
              <a:t>O grande amor não é aquele por quem se quer morr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rush Script MT"/>
              </a:rPr>
              <a:t>por ele.Romeu e Julieta eram jovens demais 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rush Script MT"/>
              </a:rPr>
              <a:t>eternizaram  a idéia de que para se ter um grande amo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rush Script MT"/>
              </a:rPr>
              <a:t>é necessário saber morrer por e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rush Script MT"/>
              </a:rPr>
              <a:t>O grande amor, só se sabe que era ele depois. Depois d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rush Script MT"/>
              </a:rPr>
              <a:t>todos os amores que invadiram e fugiram, dos qu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rush Script MT"/>
              </a:rPr>
              <a:t>enlouqueceram  e dos que trouxeram a razão. O grand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rush Script MT"/>
              </a:rPr>
              <a:t>amor, só se reconhece olhando pra trás e nunca pra frente.</a:t>
            </a:r>
            <a:r>
              <a:rPr b="1" i="1" lang="en-US" sz="3200" spc="-1" strike="noStrike">
                <a:solidFill>
                  <a:srgbClr val="ff0000"/>
                </a:solidFill>
                <a:latin typeface="Brush Script MT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1933560" cy="8956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588000" y="836640"/>
            <a:ext cx="1933560" cy="8953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-936000" y="1878120"/>
            <a:ext cx="116244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99"/>
                </a:solidFill>
                <a:latin typeface="Brush Script MT"/>
              </a:rPr>
              <a:t>É aquele quando, se olhando pra trás e se somando todo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99"/>
                </a:solidFill>
                <a:latin typeface="Brush Script MT"/>
              </a:rPr>
              <a:t>os amores vividos, sabe-se reconhecer qual deles era 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99"/>
                </a:solidFill>
                <a:latin typeface="Brush Script MT"/>
              </a:rPr>
              <a:t>verdadeira essência, o que não ficou destruído mesm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99"/>
                </a:solidFill>
                <a:latin typeface="Brush Script MT"/>
              </a:rPr>
              <a:t>depois que todos os sonhos se fora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99"/>
                </a:solidFill>
                <a:latin typeface="Brush Script MT"/>
              </a:rPr>
              <a:t>O grande amor é aquele que fica quando, anos depoi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99"/>
                </a:solidFill>
                <a:latin typeface="Brush Script MT"/>
              </a:rPr>
              <a:t>mesmo se conhecendo o outro de cór,sabendo adivinhar o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99"/>
                </a:solidFill>
                <a:latin typeface="Brush Script MT"/>
              </a:rPr>
              <a:t>pensamentos e mínimos gestos, mesmo não havendo ma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99"/>
                </a:solidFill>
                <a:latin typeface="Brush Script MT"/>
              </a:rPr>
              <a:t>mistérios, ainda é capaz de olhar nos olhos do outro 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99"/>
                </a:solidFill>
                <a:latin typeface="Brush Script MT"/>
              </a:rPr>
              <a:t>dizer com serenidade:-Eu te amo!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042920" y="476280"/>
            <a:ext cx="2879640" cy="12970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536200" y="1879560"/>
            <a:ext cx="6348240" cy="47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entury"/>
              </a:rPr>
              <a:t>Crédit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entury"/>
              </a:rPr>
              <a:t>E-mail: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Century"/>
                <a:hlinkClick r:id="rId2"/>
              </a:rPr>
              <a:t>contact@leticiathompson.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entury"/>
              </a:rPr>
              <a:t>Visite o s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Century"/>
                <a:hlinkClick r:id="rId3"/>
              </a:rPr>
              <a:t>www.leticiathompson.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entury"/>
              </a:rPr>
              <a:t>Música: Immort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entury"/>
              </a:rPr>
              <a:t>Celine D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entury"/>
              </a:rPr>
              <a:t>Formatação: </a:t>
            </a:r>
            <a:r>
              <a:rPr b="1" lang="en-US" sz="4400" spc="-1" strike="noStrike">
                <a:solidFill>
                  <a:srgbClr val="ff6600"/>
                </a:solidFill>
                <a:latin typeface="Monotype Corsiva"/>
              </a:rPr>
              <a:t>Marl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Century"/>
                <a:hlinkClick r:id="rId4"/>
              </a:rPr>
              <a:t>marlick@ig.com.b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entury"/>
              </a:rPr>
              <a:t>Respeite os crédi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8T14:17:15Z</dcterms:created>
  <dc:creator>Marli         marlick@ig.com.br</dc:creator>
  <dc:description>Autora: Letícia Thompson - não retirar e nem modificar créditos.</dc:description>
  <cp:keywords>Texto</cp:keywords>
  <dc:language>en-US</dc:language>
  <cp:lastModifiedBy>One</cp:lastModifiedBy>
  <dcterms:modified xsi:type="dcterms:W3CDTF">2007-02-09T01:22:59Z</dcterms:modified>
  <cp:revision>3</cp:revision>
  <dc:subject/>
  <dc:title>O_grande_amor_pps.marli</dc:title>
</cp:coreProperties>
</file>