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14EED-9C8B-4888-82C5-1285BE0B9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1A305-37B8-4B92-A1D6-82E321851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283E0-31A9-4EC6-A5EE-63FACF9AE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FA342-8852-4CCD-B310-7B6CC5C8A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CF0B3-7EE4-4AE3-998F-E81A2BF63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01AE4-458F-4984-9FCD-AE974DC3E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84F29-827B-453C-B7F5-A6AD17736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517CA-D6A8-45BB-9BB5-BBD38A89E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9FF54-4C77-4287-A6A5-0C5A5789A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DE9B-A996-4113-BBE8-38277DEA1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EBF99-3D6B-4BE1-8167-AE1E93FDA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D319E-65E9-44CC-8FE9-A2566DA63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0831-B886-41E4-ADB5-EB0D10EA7A0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42" name="3 Marcador de contenido" descr="20110111_drauzio varella.jpg"/>
          <p:cNvPicPr/>
          <p:nvPr/>
        </p:nvPicPr>
        <p:blipFill>
          <a:blip r:embed="rId1"/>
          <a:stretch/>
        </p:blipFill>
        <p:spPr>
          <a:xfrm>
            <a:off x="2268360" y="260280"/>
            <a:ext cx="4607280" cy="4608720"/>
          </a:xfrm>
          <a:prstGeom prst="rect">
            <a:avLst/>
          </a:prstGeom>
          <a:ln w="38160">
            <a:solidFill>
              <a:srgbClr val="000000"/>
            </a:solidFill>
            <a:miter/>
          </a:ln>
        </p:spPr>
      </p:pic>
      <p:sp>
        <p:nvSpPr>
          <p:cNvPr id="43" name="4 CuadroTexto"/>
          <p:cNvSpPr/>
          <p:nvPr/>
        </p:nvSpPr>
        <p:spPr>
          <a:xfrm>
            <a:off x="1258920" y="5445000"/>
            <a:ext cx="669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Reflexões do oncólo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Dr. Drauzio Vare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69" name="3 Marcador de contenido" descr="Drauzio-Varella3.jpg"/>
          <p:cNvPicPr/>
          <p:nvPr/>
        </p:nvPicPr>
        <p:blipFill>
          <a:blip r:embed="rId1"/>
          <a:stretch/>
        </p:blipFill>
        <p:spPr>
          <a:xfrm>
            <a:off x="1762200" y="260280"/>
            <a:ext cx="5689440" cy="3568680"/>
          </a:xfrm>
          <a:prstGeom prst="rect">
            <a:avLst/>
          </a:prstGeom>
          <a:ln w="9360">
            <a:solidFill>
              <a:srgbClr val="000000"/>
            </a:solidFill>
            <a:miter/>
          </a:ln>
        </p:spPr>
      </p:pic>
      <p:sp>
        <p:nvSpPr>
          <p:cNvPr id="70" name="4 CuadroTexto"/>
          <p:cNvSpPr/>
          <p:nvPr/>
        </p:nvSpPr>
        <p:spPr>
          <a:xfrm>
            <a:off x="684360" y="422100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TÃO-POUCO SEJAS RAD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sto quer dizer que todas estas regras são boas, porém sem exagerar e, sobretudo, sem dogmatizar. Se fazes um churrasco para tua família ou amigos não venha com  “não como chouriço porque é muito gorduroso” ou “meu médico me disse para tomar só dois cop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72" name="3 Marcador de contenido" descr="Drauzio-Varella3.jpg"/>
          <p:cNvPicPr/>
          <p:nvPr/>
        </p:nvPicPr>
        <p:blipFill>
          <a:blip r:embed="rId1"/>
          <a:stretch/>
        </p:blipFill>
        <p:spPr>
          <a:xfrm>
            <a:off x="1763640" y="260280"/>
            <a:ext cx="5610240" cy="3519720"/>
          </a:xfrm>
          <a:prstGeom prst="rect">
            <a:avLst/>
          </a:prstGeom>
          <a:ln w="9360">
            <a:solidFill>
              <a:srgbClr val="000000"/>
            </a:solidFill>
            <a:miter/>
          </a:ln>
        </p:spPr>
      </p:pic>
      <p:sp>
        <p:nvSpPr>
          <p:cNvPr id="73" name="4 CuadroTexto"/>
          <p:cNvSpPr/>
          <p:nvPr/>
        </p:nvSpPr>
        <p:spPr>
          <a:xfrm>
            <a:off x="684360" y="422100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ada substitui a alegria e o prazer de compartilhar momentos agradáveis com os que te querem bem; não há gordura nem bebida que não se possa metabolizar-se numa boa tarde de relaxamento. Os mecanismos de compensação de nosso corpo são ainda pouco conhecidos, porém assim funciona: se desfrutas verdadeiramente o “pecado mortal” dietético se transforma em “pecado ven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404000" y="-5574600"/>
            <a:ext cx="2984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75" name="3 Marcador de contenido" descr="dr_drauzio_varella.jpg"/>
          <p:cNvPicPr/>
          <p:nvPr/>
        </p:nvPicPr>
        <p:blipFill>
          <a:blip r:embed="rId1"/>
          <a:stretch/>
        </p:blipFill>
        <p:spPr>
          <a:xfrm>
            <a:off x="4983120" y="1916280"/>
            <a:ext cx="3882960" cy="2736720"/>
          </a:xfrm>
          <a:prstGeom prst="rect">
            <a:avLst/>
          </a:prstGeom>
          <a:ln w="9360">
            <a:solidFill>
              <a:srgbClr val="000000"/>
            </a:solidFill>
            <a:miter/>
          </a:ln>
        </p:spPr>
      </p:pic>
      <p:sp>
        <p:nvSpPr>
          <p:cNvPr id="76" name="4 CuadroTexto"/>
          <p:cNvSpPr/>
          <p:nvPr/>
        </p:nvSpPr>
        <p:spPr>
          <a:xfrm>
            <a:off x="250920" y="1197000"/>
            <a:ext cx="4392360" cy="37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ADA FICARÁ IMPU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sso é absolutamente certo porque tudo o que comas e bebas deixará vestígios e, qual retrato de Dorian Grey, teu corpo te mostrará na velhice. As noitadas de diversão, os excessos de todo tipo farão a vida do velho muito sofrida. E não somente a ti, mas também à sua famí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78" name="3 Marcador de contenido" descr="Drauzio-Varella-1-280x280.jpg"/>
          <p:cNvPicPr/>
          <p:nvPr/>
        </p:nvPicPr>
        <p:blipFill>
          <a:blip r:embed="rId1"/>
          <a:stretch/>
        </p:blipFill>
        <p:spPr>
          <a:xfrm>
            <a:off x="2556000" y="260280"/>
            <a:ext cx="4141800" cy="3578400"/>
          </a:xfrm>
          <a:prstGeom prst="rect">
            <a:avLst/>
          </a:prstGeom>
          <a:ln w="9360">
            <a:solidFill>
              <a:srgbClr val="000000"/>
            </a:solidFill>
            <a:miter/>
          </a:ln>
        </p:spPr>
      </p:pic>
      <p:sp>
        <p:nvSpPr>
          <p:cNvPr id="79" name="4 CuadroTexto"/>
          <p:cNvSpPr/>
          <p:nvPr/>
        </p:nvSpPr>
        <p:spPr>
          <a:xfrm>
            <a:off x="684360" y="400536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PERD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 principal desgreaça para um ancião é a solidão. O habitual é que os casais não cheguem juntos à velhice; sempre alguém vai primeiro, com o que se desequilibra todo o </a:t>
            </a:r>
            <a:r>
              <a:rPr b="0" i="1" lang="es-ES" sz="2000" spc="-1" strike="noStrike">
                <a:solidFill>
                  <a:srgbClr val="000000"/>
                </a:solidFill>
                <a:latin typeface="Arial Rounded MT Bold"/>
              </a:rPr>
              <a:t>statu quo</a:t>
            </a:r>
            <a:r>
              <a:rPr b="0" lang="es-ES" sz="2000" spc="-1" strike="noStrike">
                <a:solidFill>
                  <a:srgbClr val="000000"/>
                </a:solidFill>
                <a:latin typeface="Arial Rounded MT Bold"/>
              </a:rPr>
              <a:t> que sustentava o casal. O viuvo ou a viuva começa a ser uma carga para a famí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81" name="3 Marcador de contenido" descr="Drauzio-Varella-1-280x280.jpg"/>
          <p:cNvPicPr/>
          <p:nvPr/>
        </p:nvPicPr>
        <p:blipFill>
          <a:blip r:embed="rId1"/>
          <a:stretch/>
        </p:blipFill>
        <p:spPr>
          <a:xfrm>
            <a:off x="2556000" y="260280"/>
            <a:ext cx="4141800" cy="3578400"/>
          </a:xfrm>
          <a:prstGeom prst="rect">
            <a:avLst/>
          </a:prstGeom>
          <a:ln w="9360">
            <a:solidFill>
              <a:srgbClr val="000000"/>
            </a:solidFill>
            <a:miter/>
          </a:ln>
        </p:spPr>
      </p:pic>
      <p:sp>
        <p:nvSpPr>
          <p:cNvPr id="82" name="4 CuadroTexto"/>
          <p:cNvSpPr/>
          <p:nvPr/>
        </p:nvSpPr>
        <p:spPr>
          <a:xfrm>
            <a:off x="539640" y="4292640"/>
            <a:ext cx="79930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Minha recomendação pessoal é que tratem de não perder – enquanto forem lúcidos – o controle de sua vida. Isso significa, por exemplo: eu decido quando e com quem saio, como me visto, a quem telefono ou encontro, a que horas vou dormir, como me distraio, o que leio, o que compro, onde vou morar, etc. Porque, quando já não possas fazer tudo isso, te terás transformado em um peso para a vida dos dem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84" name="3 Marcador de contenido" descr="20110111_drauzio varella.jpg"/>
          <p:cNvPicPr/>
          <p:nvPr/>
        </p:nvPicPr>
        <p:blipFill>
          <a:blip r:embed="rId1"/>
          <a:stretch/>
        </p:blipFill>
        <p:spPr>
          <a:xfrm>
            <a:off x="324000" y="907920"/>
            <a:ext cx="4968720" cy="4969080"/>
          </a:xfrm>
          <a:prstGeom prst="rect">
            <a:avLst/>
          </a:prstGeom>
          <a:ln w="9360">
            <a:solidFill>
              <a:srgbClr val="000000"/>
            </a:solidFill>
            <a:miter/>
          </a:ln>
        </p:spPr>
      </p:pic>
      <p:sp>
        <p:nvSpPr>
          <p:cNvPr id="85" name="4 CuadroTexto"/>
          <p:cNvSpPr/>
          <p:nvPr/>
        </p:nvSpPr>
        <p:spPr>
          <a:xfrm>
            <a:off x="5651640" y="2133720"/>
            <a:ext cx="316836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SUFIC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Já não tenho mais tempo, pois o trabalho me chama e excrevi isto em uma pequena pausa de 30 minutos. Espero que seja út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250920" y="299736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800" spc="-1" strike="noStrike">
                <a:solidFill>
                  <a:srgbClr val="000000"/>
                </a:solidFill>
                <a:latin typeface="Calibri"/>
              </a:rPr>
              <a:t>F I M</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45" name="3 Marcador de contenido" descr="drauzio-varella.jpg"/>
          <p:cNvPicPr/>
          <p:nvPr/>
        </p:nvPicPr>
        <p:blipFill>
          <a:blip r:embed="rId1"/>
          <a:stretch/>
        </p:blipFill>
        <p:spPr>
          <a:xfrm>
            <a:off x="1703520" y="260280"/>
            <a:ext cx="5700600" cy="2737080"/>
          </a:xfrm>
          <a:prstGeom prst="rect">
            <a:avLst/>
          </a:prstGeom>
          <a:ln w="9360">
            <a:solidFill>
              <a:srgbClr val="000000"/>
            </a:solidFill>
            <a:miter/>
          </a:ln>
        </p:spPr>
      </p:pic>
      <p:sp>
        <p:nvSpPr>
          <p:cNvPr id="46" name="4 CuadroTexto"/>
          <p:cNvSpPr/>
          <p:nvPr/>
        </p:nvSpPr>
        <p:spPr>
          <a:xfrm>
            <a:off x="611280" y="3141720"/>
            <a:ext cx="79214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DEFINIÇÕ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 Terceira Ida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Oficialmente começa aos 60 anos e se supõe que termina aos 80, mas não há consen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b. Quarta Idade ou Velh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os 80 anos e termina aos 9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 Longevida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os 90 e termina quando se mor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686440" y="-552960"/>
            <a:ext cx="164628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48" name="3 Marcador de contenido" descr="Drauzio-Varella-1-280x280.jpg"/>
          <p:cNvPicPr/>
          <p:nvPr/>
        </p:nvPicPr>
        <p:blipFill>
          <a:blip r:embed="rId1"/>
          <a:stretch/>
        </p:blipFill>
        <p:spPr>
          <a:xfrm>
            <a:off x="250920" y="1628640"/>
            <a:ext cx="4168800" cy="3600720"/>
          </a:xfrm>
          <a:prstGeom prst="rect">
            <a:avLst/>
          </a:prstGeom>
          <a:ln w="9360">
            <a:solidFill>
              <a:srgbClr val="000000"/>
            </a:solidFill>
            <a:miter/>
          </a:ln>
        </p:spPr>
      </p:pic>
      <p:sp>
        <p:nvSpPr>
          <p:cNvPr id="49" name="4 CuadroTexto"/>
          <p:cNvSpPr/>
          <p:nvPr/>
        </p:nvSpPr>
        <p:spPr>
          <a:xfrm>
            <a:off x="4643280" y="907920"/>
            <a:ext cx="4249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VELHICE SAUDÁV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inguém está são depois dos 50. Sãos estão os jovens: os velhos têm sempre uma ou várias doenças que são próprias da ida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o que se trata então é de envelhecer com as doenças controladas e sem complicaçõ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51" name="4 Marcador de contenido" descr="Drauzio.jpg"/>
          <p:cNvPicPr/>
          <p:nvPr/>
        </p:nvPicPr>
        <p:blipFill>
          <a:blip r:embed="rId1"/>
          <a:stretch/>
        </p:blipFill>
        <p:spPr>
          <a:xfrm>
            <a:off x="1763640" y="260280"/>
            <a:ext cx="5572080" cy="3240000"/>
          </a:xfrm>
          <a:prstGeom prst="rect">
            <a:avLst/>
          </a:prstGeom>
          <a:ln w="9360">
            <a:solidFill>
              <a:srgbClr val="000000"/>
            </a:solidFill>
            <a:miter/>
          </a:ln>
        </p:spPr>
      </p:pic>
      <p:sp>
        <p:nvSpPr>
          <p:cNvPr id="52" name="3 CuadroTexto"/>
          <p:cNvSpPr/>
          <p:nvPr/>
        </p:nvSpPr>
        <p:spPr>
          <a:xfrm>
            <a:off x="324000" y="3716280"/>
            <a:ext cx="856908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GENÉT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queres saber quanto viverás e como chegarás a essa idade,  recorda os teus pais. A carga genética é fundamental para estabelecer um prognóstico de vida. Quem teve cancer ou enfarte antes dos sessenta, o transmitirá a seus filhos pelos genes e, por isso, estes terão maior probabilidade de desenvolver as mesmas enfermidades. Logicamente o desenvolvimento de uma doença crônica requer a presença de vários fatores, sendo o genético apenas um de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54" name="4 Marcador de contenido" descr="DRAUZI~13.jpg"/>
          <p:cNvPicPr/>
          <p:nvPr/>
        </p:nvPicPr>
        <p:blipFill>
          <a:blip r:embed="rId1"/>
          <a:stretch/>
        </p:blipFill>
        <p:spPr>
          <a:xfrm>
            <a:off x="1763640" y="260280"/>
            <a:ext cx="5832720" cy="3294000"/>
          </a:xfrm>
          <a:prstGeom prst="rect">
            <a:avLst/>
          </a:prstGeom>
          <a:ln w="9360">
            <a:solidFill>
              <a:srgbClr val="000000"/>
            </a:solidFill>
            <a:miter/>
          </a:ln>
        </p:spPr>
      </p:pic>
      <p:sp>
        <p:nvSpPr>
          <p:cNvPr id="55" name="3 CuadroTexto"/>
          <p:cNvSpPr/>
          <p:nvPr/>
        </p:nvSpPr>
        <p:spPr>
          <a:xfrm>
            <a:off x="250920" y="3716280"/>
            <a:ext cx="86421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ÃO HÁ PECADO GRATUI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omos o que comemos" dizem os naturalistas, e não falta razão para isso. Se além de ter uma carga genética desfavorável póes 3 ou 4 colherinhas de açúcar em cada café que tomas, saboreias todas as peles do frango assado e deleita-se com o torresmo de porco, estás convertendo tuas artérias em tubulações entupidas. Não haverá boa circulação, não haverá boa oxigenação o que equivalerá à morte celular ou, dito de outro modo, envelhecimento acelerado e prematu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57" name="3 Marcador de contenido" descr="DRAUZI~13.jpg"/>
          <p:cNvPicPr/>
          <p:nvPr/>
        </p:nvPicPr>
        <p:blipFill>
          <a:blip r:embed="rId1"/>
          <a:stretch/>
        </p:blipFill>
        <p:spPr>
          <a:xfrm>
            <a:off x="1619280" y="260280"/>
            <a:ext cx="5977080" cy="3376800"/>
          </a:xfrm>
          <a:prstGeom prst="rect">
            <a:avLst/>
          </a:prstGeom>
          <a:ln w="9360">
            <a:solidFill>
              <a:srgbClr val="000000"/>
            </a:solidFill>
            <a:miter/>
          </a:ln>
        </p:spPr>
      </p:pic>
      <p:sp>
        <p:nvSpPr>
          <p:cNvPr id="58" name="4 CuadroTexto"/>
          <p:cNvSpPr/>
          <p:nvPr/>
        </p:nvSpPr>
        <p:spPr>
          <a:xfrm>
            <a:off x="826920" y="4437000"/>
            <a:ext cx="7417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m consequência, se queres ter uma velhice saudáve a partir dos 50 anos, cuide da tua alimentação e deixe de comer coisas químicas e de abusar das gorduras… Um bom café da manhã, um bom almoço e um péssimo jantar são a chave para equilibrar teu meio inter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60"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1" name="4 CuadroTexto"/>
          <p:cNvSpPr/>
          <p:nvPr/>
        </p:nvSpPr>
        <p:spPr>
          <a:xfrm>
            <a:off x="539640" y="3500280"/>
            <a:ext cx="79200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VIVA O TRAG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Junto com a dieta está a bebida. Abandona todas as bebidas gasosas. Estas podem ser tomadas pelos jovens, nós não. Todos esses líquidos têm carbonato de sódio, açúcar e cafeina. Na nossa idade estas substâncias prejudicam o  pâncreas e o fígado até desgasta-los. É melhor tomar água, limonada, sucos… Até a cerveja é preferível, já que se faz com água fervida, tem componentes naturais e não contém só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63"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4" name="4 CuadroTexto"/>
          <p:cNvSpPr/>
          <p:nvPr/>
        </p:nvSpPr>
        <p:spPr>
          <a:xfrm>
            <a:off x="611280" y="3645000"/>
            <a:ext cx="784836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outro lado há bastante evidência clínica que demonstra que o consumo moderado de álcool depois dos 50 anos melhora a qualidade de vida, pois tem três efeitos definidos: vasodilatador coronário, diminui o colesterol e é um sedante moderado. Em consequência, e de forma prática, à hora do almoço ou à noite quando chegas a tua casa e não tenha mais que dirigir, tome um gole; também recomendados são o whisky, o vinho tinto e a aguardente p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66"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7" name="4 CuadroTexto"/>
          <p:cNvSpPr/>
          <p:nvPr/>
        </p:nvSpPr>
        <p:spPr>
          <a:xfrm>
            <a:off x="684360" y="3789360"/>
            <a:ext cx="770400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m lugar de tomar nitroglicerina para dilatar as artérias, ou esdtatinas para baixar o colesterol, ou um valium para acalmar-se, consegues tudo isso com um bom trago. E se o fazes com as pessoas que você gosta, o efeito se duplica. Porém, uma advertência: consumo moderado equivale a um ou dois copos, porque se exageras todos os dias, o efeito é exatamente o contrário e te matarás mais rápido que tu pens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0:35:14Z</dcterms:created>
  <dc:creator>X</dc:creator>
  <dc:description/>
  <dc:language>en-US</dc:language>
  <cp:lastModifiedBy>Jose Carlos</cp:lastModifiedBy>
  <dcterms:modified xsi:type="dcterms:W3CDTF">2013-10-11T23:24:50Z</dcterms:modified>
  <cp:revision>23</cp:revision>
  <dc:subject/>
  <dc:title>Diapositiva 1</dc:title>
</cp:coreProperties>
</file>