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-3114360" y="3303360"/>
            <a:ext cx="6480000" cy="250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5684040" y="3208680"/>
            <a:ext cx="6669000" cy="2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 rot="219000">
            <a:off x="4356000" y="3645000"/>
            <a:ext cx="3646440" cy="21873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211640" y="661356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t-BR" sz="800" spc="-1" strike="noStrike">
                <a:solidFill>
                  <a:srgbClr val="ffffff"/>
                </a:solidFill>
                <a:latin typeface="Times New Roman"/>
              </a:rPr>
              <a:t>Colacio.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01g1"/>
          <p:cNvPicPr/>
          <p:nvPr/>
        </p:nvPicPr>
        <p:blipFill>
          <a:blip r:embed="rId8"/>
          <a:stretch/>
        </p:blipFill>
        <p:spPr>
          <a:xfrm>
            <a:off x="250920" y="260280"/>
            <a:ext cx="672840" cy="1646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1" descr="01g1"/>
          <p:cNvPicPr/>
          <p:nvPr/>
        </p:nvPicPr>
        <p:blipFill>
          <a:blip r:embed="rId9"/>
          <a:stretch/>
        </p:blipFill>
        <p:spPr>
          <a:xfrm>
            <a:off x="250920" y="5950080"/>
            <a:ext cx="1646280" cy="672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8" descr="01g1"/>
          <p:cNvPicPr/>
          <p:nvPr/>
        </p:nvPicPr>
        <p:blipFill>
          <a:blip r:embed="rId10"/>
          <a:stretch/>
        </p:blipFill>
        <p:spPr>
          <a:xfrm>
            <a:off x="8172360" y="5013360"/>
            <a:ext cx="673200" cy="16462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7" descr="01g1"/>
          <p:cNvPicPr/>
          <p:nvPr/>
        </p:nvPicPr>
        <p:blipFill>
          <a:blip r:embed="rId11"/>
          <a:stretch/>
        </p:blipFill>
        <p:spPr>
          <a:xfrm>
            <a:off x="7236000" y="260280"/>
            <a:ext cx="1645920" cy="6732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250920" y="228600"/>
            <a:ext cx="8642160" cy="6369120"/>
          </a:xfrm>
          <a:custGeom>
            <a:avLst/>
            <a:gdLst/>
            <a:ahLst/>
            <a:rect l="l" t="t" r="r" b="b"/>
            <a:pathLst>
              <a:path w="6247" h="4132">
                <a:moveTo>
                  <a:pt x="0" y="307"/>
                </a:moveTo>
                <a:lnTo>
                  <a:pt x="352" y="307"/>
                </a:lnTo>
                <a:lnTo>
                  <a:pt x="352" y="0"/>
                </a:lnTo>
                <a:lnTo>
                  <a:pt x="5886" y="0"/>
                </a:lnTo>
                <a:lnTo>
                  <a:pt x="5886" y="307"/>
                </a:lnTo>
                <a:lnTo>
                  <a:pt x="6246" y="307"/>
                </a:lnTo>
                <a:lnTo>
                  <a:pt x="6246" y="3850"/>
                </a:lnTo>
                <a:lnTo>
                  <a:pt x="5886" y="3850"/>
                </a:lnTo>
                <a:lnTo>
                  <a:pt x="5886" y="4131"/>
                </a:lnTo>
                <a:lnTo>
                  <a:pt x="352" y="4131"/>
                </a:lnTo>
                <a:lnTo>
                  <a:pt x="352" y="3850"/>
                </a:lnTo>
                <a:lnTo>
                  <a:pt x="0" y="3850"/>
                </a:lnTo>
                <a:lnTo>
                  <a:pt x="0" y="307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76500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COLACIO. J  SL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APRESEN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2064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olagem automática dos slid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47640" y="765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Quando você cheg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67920" y="6021360"/>
            <a:ext cx="39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utora Texto: Ilze So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6000" y="622440"/>
            <a:ext cx="417672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Verdana"/>
              </a:rPr>
              <a:t>Quando você chega, parece que traz junto a primavera,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Verdana"/>
              </a:rPr>
              <a:t> o mundo se enche de belas cores!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108540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Quando você chega,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minh'alma faz festa e esquece   as dores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891720"/>
            <a:ext cx="4392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Verdana"/>
              </a:rPr>
              <a:t>Quando você chega, o sol ilumina minha janela, meu coração se põe a disparar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Verdana"/>
              </a:rPr>
              <a:t>e quase chego a sufocar!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push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58920" y="548280"/>
            <a:ext cx="4608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Verdana"/>
              </a:rPr>
              <a:t>Quando você chega, as estrelas ficam mais belas, minha pele fica   em chamas e  meu corpo todo reclama,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Verdana"/>
              </a:rPr>
              <a:t>querendo apenas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 am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ff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405720"/>
            <a:ext cx="4249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Verdana"/>
              </a:rPr>
              <a:t>Quando você chega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Verdana"/>
              </a:rPr>
              <a:t>e me aperta em seus braços, num apertado abraço e meus lábios busca para beijar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03280" y="549000"/>
            <a:ext cx="41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É neste instante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que sinto o tempo parar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00000" y="260280"/>
            <a:ext cx="590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tora Texto: Ilze Soa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m d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The End – Earl G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presentação: Colacio.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tato: colacio.j@superig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1/12/2010 - 11:30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8120" y="5516640"/>
            <a:ext cx="744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isite o site:  http://www.ilzesoares.recantodasletras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6:37:44Z</dcterms:created>
  <dc:creator>Colacio.j Slides</dc:creator>
  <dc:description>Autora Texto: Ilze Soares 
Imagem da Internet
Música: The End – Earl Grant
Apresentação: Colacio.j
Contato: colacio.j@superig.com.br
01/12/2010 - 11:30hs</dc:description>
  <dc:language>en-US</dc:language>
  <cp:lastModifiedBy>terminal</cp:lastModifiedBy>
  <dcterms:modified xsi:type="dcterms:W3CDTF">2010-12-29T13:44:13Z</dcterms:modified>
  <cp:revision>11</cp:revision>
  <dc:subject>Apresentação slides</dc:subject>
  <dc:title>Quando você chega - Ilze Soares</dc:title>
</cp:coreProperties>
</file>