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Zez%C3%A9%20Di%20Camargo%20-%20Bela%20Senz%20Anima.wav" ContentType="audio/x-wav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7A2-F77C-45C9-A34E-AC3C225C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D46-405F-481F-9338-07FE9870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38D-3EEF-4B84-8F32-3522C95C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E68-D94A-480E-B27D-3D079019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F7D-0D85-455B-AAB3-2702134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ACB-50ED-45C0-870B-423DF743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2D7-BB70-4714-8E28-042DCF16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E19-C030-4B31-9DD6-471DCB3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EA6-6BBA-43C8-8CE8-B988212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67A-9861-4CBD-A459-C40248B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B39-0EF5-4A10-8D0A-AA65587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29B-A981-4FC9-9963-5E82921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331-E338-4642-B54F-ED5E6BC521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Zez&#233;%20Di%20Camargo%20-%20Bela%20Senz%20Anim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soliver@terra.com.br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3808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TARDE DEMAIS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371600"/>
            <a:ext cx="8076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Conheço uma mulher, já quase cinqüentona, que passou boa parte da sua vida apaixonada pelo primeiro namorado. Eles tiveram um romance caliente lá nos seus 18 anos, depois se separaram e cada um tomou seu rumo. Ele casou e teve filhos, ela casou e teve filhos. Nas raras vezes em que se cruzavam pelas ruas da cidade, cumprimentavam-se, perguntavam como andava a vida de um e de outro, mas nada além disso. A verdade é que ela preservou o sentimento que tinha por ele por muitos anos, mesmo sendo feliz no seu cas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  <p:sndAc>
      <p:stSnd>
        <p:snd r:embed="rId2" name="Zez%C3%A9%20Di%20Camargo%20-%20Bela%20Senz%20Ani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858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ra um amor de estimação. Até que esse amor, tão sem ressonância, tão sem retribuição, tão sem aditivos, um dia evaporou. Perdeu o prazo de validade. Expirou. Dia desses esta mulher recebeu um telefonema. Era ele. Oi, tudo bom?  Há quanto tempo? Trivialidades de quem não se fala há anos. Ela perguntou: o que você conta? Ele respondeu que estava ligando para dizer uma única coisa: eu te amo. Corta. Não teve happy end. Ela agradeceu o telefonema, desligaram e ambos seguiram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45720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Conversando com ela sobre isso, senti sua felicidade e desilusão ao mesmo tempo. Felicidade, logicamente, por ter deixado marcas profundas no coração dele: nem em sonhos ela imaginou que ele também tivesse levado esse sentimento tão adiante. E a tristeza veio da falta de ressonância, mais uma vez. Por que a demora? Por que a falta de sincronia? Como teria sido se ele houvesse dito isso alguns anos antes? Agora já não adiantava. A beleza e a tristeza da vida podem estar em situações como esta: descobrir, tarde demais, que se ama uma pesso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906480"/>
            <a:ext cx="761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Pode acontecer até com quem está ao nosso lado neste instante. Parece que é um amor morno e sem graça, e que se acabar, tanto faz, e só daqui a muitos anos descobrir que nada era mais forte e raro do que este sentimento. Tarde demais é uma expressão cruel. Tarde demais é uma hora morta. Tarde demais é longe à beça. Não é lá que devemos deixar florecer nossas descob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5867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(Martha Medei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-792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Zezé Di Camargo – Bela Senz A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1143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soliver@terra.com.br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44197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325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8:14:43Z</dcterms:created>
  <dc:creator>ssoliver@terra.com.br </dc:creator>
  <dc:description>Música (intérp.): Zezé Di Camargo - Bela Senz Anima  </dc:description>
  <dc:language>en-US</dc:language>
  <cp:lastModifiedBy>Leticia Thompson</cp:lastModifiedBy>
  <dcterms:modified xsi:type="dcterms:W3CDTF">2004-11-02T21:09:26Z</dcterms:modified>
  <cp:revision>6</cp:revision>
  <dc:subject>PPS</dc:subject>
  <dc:title>Tade Demais</dc:title>
</cp:coreProperties>
</file>