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Zez%C3%A9%20Di%20Camargo%20-%20Bela%20Senz%20Anima.wav" ContentType="audio/x-wav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0BD-7D68-495B-9DBB-F64A81D1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02F-A12D-4D26-BC68-70ACE680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F74-D87D-4D2E-8DE1-D3464484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3F4-8003-40CD-98C5-2375F893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5AF-0ABA-4AE5-863E-24E84499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B9C-89FB-4AD7-A957-8FD2DBC7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355-D227-4A6E-A46F-CB5D948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0E4-B7EC-4363-893F-B54F0872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37E-93E4-4417-BF24-218779C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6CA-649E-4C71-946A-34AEE4A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7BE-62C2-4398-B16D-33E7216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627-1A65-4F10-90E4-C43D861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804-3C8B-436A-93C8-61D35115D1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ez&#233;%20Di%20Camargo%20-%20Bela%20Senz%20Anim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3808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TARDE DEMAIS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37160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Conheço uma mulher, já quase cinqüentona, que passou boa parte da sua vida apaixonada pelo primeiro namorado. Eles tiveram um romance caliente lá nos seus 18 anos, depois se separaram e cada um tomou seu rumo. Ele casou e teve filhos, ela casou e teve filhos. Nas raras vezes em que se cruzavam pelas ruas da cidade, cumprimentavam-se, perguntavam como andava a vida de um e de outro, mas nada além disso. A verdade é que ela preservou o sentimento que tinha por ele por muitos anos, mesmo sendo feliz no seu cas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Zez%C3%A9%20Di%20Camargo%20-%20Bela%20Senz%20Ani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858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ra um amor de estimação. Até que esse amor, tão sem ressonância, tão sem retribuição, tão sem aditivos, um dia evaporou. Perdeu o prazo de validade. Expirou. Dia desses esta mulher recebeu um telefonema. Era ele. Oi, tudo bom?  Há quanto tempo? Trivialidades de quem não se fala há anos. Ela perguntou: o que você conta? Ele respondeu que estava ligando para dizer uma única coisa: eu te amo. Corta. Não teve happy end. Ela agradeceu o telefonema, desligaram e ambos seguiram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45720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onversando com ela sobre isso, senti sua felicidade e desilusão ao mesmo tempo. Felicidade, logicamente, por ter deixado marcas profundas no coração dele: nem em sonhos ela imaginou que ele também tivesse levado esse sentimento tão adiante. E a tristeza veio da falta de ressonância, mais uma vez. Por que a demora? Por que a falta de sincronia? Como teria sido se ele houvesse dito isso alguns anos antes? Agora já não adiantava. A beleza e a tristeza da vida podem estar em situações como esta: descobrir, tarde demais, que se ama uma pesso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906480"/>
            <a:ext cx="761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ode acontecer até com quem está ao nosso lado neste instante. Parece que é um amor morno e sem graça, e que se acabar, tanto faz, e só daqui a muitos anos descobrir que nada era mais forte e raro do que este sentimento. Tarde demais é uma expressão cruel. Tarde demais é uma hora morta. Tarde demais é longe à beça. Não é lá que devemos deixar florecer nossas descob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5867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Martha Medei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-79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Zezé Di Camargo – Bela Senz A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1143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4197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325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8:14:43Z</dcterms:created>
  <dc:creator>ssoliver@terra.com.br </dc:creator>
  <dc:description>Música (intérp.): Zezé Di Camargo - Bela Senz Anima  </dc:description>
  <dc:language>en-US</dc:language>
  <cp:lastModifiedBy>Leticia Thompson</cp:lastModifiedBy>
  <dcterms:modified xsi:type="dcterms:W3CDTF">2004-11-02T21:09:26Z</dcterms:modified>
  <cp:revision>6</cp:revision>
  <dc:subject>PPS</dc:subject>
  <dc:title>Tade Demais</dc:title>
</cp:coreProperties>
</file>