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ound00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B51-4609-4D89-9CF0-EFC7570E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87C-CA13-4BAD-A4BA-FFB2CCF9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8E9-10B3-4B73-9AD5-45F5088D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56F-F557-48E8-AE65-89CEB763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A5D-7F85-4002-83CF-5281D70E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101-A398-4316-B925-C1BDC18A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FC5-853F-45FA-99CB-1AA1C0ED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A60-C352-4C52-8328-4A3A8EF0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281-5081-4E6E-AF86-42492F02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036-9F7B-4BAD-B9DF-D4F132C3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287-E6F5-4E5F-837F-8EDCD23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926-B772-4466-8182-7681915E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44B2-6605-41E3-A309-B33A566D9B5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59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Setenta, Quase Set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Alberto Co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-1981080" y="134100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etenta, quase set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caminhos a percor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Quase setenta imposs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de um sonho apenas v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quase setenta plan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em volta para col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nas curvas, encruzilhad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quase setenta peg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que não souberam escol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7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9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9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9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7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38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21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Setenta, quase set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versos perdidos no 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quase setenta proc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de nunca mais encontr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9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7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60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1044720" y="213336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Meia volta, volta e mei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quase setenta a vo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para coisas que se fora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quase setenta janel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portas que irão se fech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8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8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7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59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Setenta vezes set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lágrimas de vão ch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por treze de fever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sepultado, lindo, inteir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sem chances de retorn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8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6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4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Créd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Poema de Alberto Co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Imagens: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Formatação: Cláudia L. Mor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Música de Moacyr Fran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Tema de Bárb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3:21:41Z</dcterms:created>
  <dc:creator>Claudia L. Moraes</dc:creator>
  <dc:description/>
  <dc:language>en-US</dc:language>
  <cp:lastModifiedBy>Claudia</cp:lastModifiedBy>
  <dcterms:modified xsi:type="dcterms:W3CDTF">2012-09-05T01:05:30Z</dcterms:modified>
  <cp:revision>20</cp:revision>
  <dc:subject>Poema de Alberto Cohen</dc:subject>
  <dc:title>Setenta, Quase Setenta</dc:title>
</cp:coreProperties>
</file>