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ound0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57F-24B4-4DF8-8A63-DFBF088E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D42-7CCB-41DE-A610-0E39418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82E-E223-4E23-A9DF-69C31196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140-148A-45EC-8E61-8E461A48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38F-6667-48C5-9DE7-8B24D2C6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26E-3F25-4F01-ADE3-F7B08DBA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943-595C-49E2-B8AA-9F41E4E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7E9-D4BC-4C34-A745-7A69D31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CFE-A9FE-4455-B8C4-6542AB6C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E4A-3826-479D-82B7-8CEC4FA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2D3-1B6E-47E9-AC53-F16B956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325-7A55-44A6-BA73-3AD5B8F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2877-5C4A-42B9-9398-3543B17BBB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Setenta, Quase Set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lberto Co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1981080" y="134100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etenta, quase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caminhos a percor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imposs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 um sonho apenas v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plan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em volta para col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nas curvas, encruzilhad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peg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e não souberam escol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7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9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9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7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8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21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tenta, quase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ersos perdidos no 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proc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e nunca mais encont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6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1044720" y="213336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eia volta, volta e me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a vo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ara coisas que se fora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janel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ortas que irão se fech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8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8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7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59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tenta vezes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ágrimas de vão ch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or treze de fever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pultado, lindo, inteir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m chances de retor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8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6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4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Créd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oema de Alberto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magens: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ormatação: Cláudia L. Mor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úsica de Moacyr Fran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ema de Bár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3:21:41Z</dcterms:created>
  <dc:creator>Claudia L. Moraes</dc:creator>
  <dc:description/>
  <dc:language>en-US</dc:language>
  <cp:lastModifiedBy>Claudia</cp:lastModifiedBy>
  <dcterms:modified xsi:type="dcterms:W3CDTF">2012-09-05T01:05:30Z</dcterms:modified>
  <cp:revision>20</cp:revision>
  <dc:subject>Poema de Alberto Cohen</dc:subject>
  <dc:title>Setenta, Quase Setenta</dc:title>
</cp:coreProperties>
</file>