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Vangelis%20-%20Secret%20World.cut8bits.wav" ContentType="audio/x-wav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C11-08D0-4644-BD65-4E71B432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AF1-E74F-4985-B24B-F954392D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38A-0CB8-42D7-B2FD-4B0CA3DE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BEF-608D-42AE-9D39-04CD179E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897-C661-48A5-AFDA-D78CC79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724-2BE4-4EC2-AFE7-00AD1B48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929-92C2-43E6-BE05-76B2A48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AE3-E3AE-423A-B03B-3AF5E29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59C-488D-46EE-9499-F1F36BD0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02F-F50B-43B1-9693-86476F6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8A2-2C2F-4FC0-9DC8-1A2759F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35B-1FB5-4358-8A06-510D2C58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2F8-3051-46DC-A087-1C5168CE6A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audio" Target="../media/Vangelis%20-%20Secret%20World.cut8bits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685800"/>
            <a:ext cx="681048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O necessário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e o</a:t>
            </a:r>
            <a:endParaRPr b="1" lang="en-US" sz="7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essencial</a:t>
            </a:r>
            <a:endParaRPr b="1" lang="en-US" sz="7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952880"/>
            <a:ext cx="35719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Copperplate Gothic Bold"/>
              </a:rPr>
              <a:t>Jornalista: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Copperplate Gothic Bold"/>
              </a:rPr>
              <a:t>Marcos Rolim</a:t>
            </a:r>
            <a:endParaRPr b="1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  <p:sndAc>
      <p:stSnd>
        <p:snd r:embed="rId12" name="Vangelis%20-%20Secret%20World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b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754200"/>
            <a:ext cx="73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b9a1"/>
                </a:solidFill>
                <a:latin typeface="Copperplate Gothic Light"/>
                <a:ea typeface="Arial"/>
              </a:rPr>
              <a:t>O Carnaval, por certo, não é necessário. Mas, para muitas pessoas, ele é essencial. Essa constatação me permite afirmar que há um abismo entre o que sabemos necessário e o que temos como essencial. Para os humanos, aliás, aquilo que é o mais importante nunca será definido pelo necessário. Com a palavra "necessário" dispomos sobre as coisas que nos parecem básicas de tal forma que elas se aproximam do que imaginamos ser o nosso direito. O essencial, entretanto, nunca mora nesse "andar térre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84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0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3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3352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3b37d"/>
                </a:solidFill>
                <a:latin typeface="Copperplate Gothic Light"/>
                <a:ea typeface="Arial"/>
              </a:rPr>
              <a:t>Ele é projetado por nosso desejo e, por isso, seria melhor descrito como um "não-lugar" a meio caminho entre nossas lembranças e nossas apostas. O essencial é a falta que nos acompanha como uma sombra; uma espécie de mal-estar pelo qual nos descobrimos incompletos e carentes. Há pouco mais de um ano, o psicanalista Contardo Calligaris tratou desse tema em um brilhante depoimento na UFRGS. Para ilustrar suas posições, Contardo contou duas historinhas: primeiro, lembrou que na Índia, durante uma campanha de esterilização em massa, ofereceu-se às pessoas, como "recompensa", a escolha entre uma saca de arroz e um radi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464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5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84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7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778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ab791"/>
                </a:solidFill>
                <a:latin typeface="Copperplate Gothic Light"/>
                <a:ea typeface="Arial"/>
              </a:rPr>
              <a:t>Ao que a grande maioria escolheu o radinho. Uma escolha que não guarda relação com a miséria dos atingidos pelo programa, mas que parece reafirmar a liberdade daqueles submetidos a uma intervenção violenta. O outro exemplo lembrado por Contardo foi o de um campo nazista na Polônia, sem sobreviventes, onde os aliados encontraram vários pedacinhos de papel escondidos pelos presos entre as pedras de seus alojamentos. O que eles teriam escrito? Relatos de seu sofrimento? Mensagens para seus parentes? Não. O que havia nos papéis eram po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434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6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24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b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99072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6b097"/>
                </a:solidFill>
                <a:latin typeface="Copperplate Gothic Light"/>
                <a:ea typeface="Arial"/>
              </a:rPr>
              <a:t>Alguém poderia perguntar: "Poemas em um campo de concentração? Para que serviriam?" De fato, parece supérfluo redigir poemas diante de câmaras de gás. Mas, possivelmente, essa escolha tenha ajudado os presos a resistir à crueldade que consistia em lhes negar os atributos humanos. O que ocorre, de qualquer maneira, é que precisamos de um sentido para as nossas vidas e devemos inventá-lo, sempre, para além daquilo que signifique a reprodução da vida em si me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b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97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b1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68580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6b182"/>
                </a:solidFill>
                <a:latin typeface="Copperplate Gothic Light"/>
                <a:ea typeface="Arial"/>
              </a:rPr>
              <a:t>Fôssemos, apenas, seres da natureza, não saberíamos o que é a infelicidade, nem estaríamos confrontados com a certeza da morte. Mas além da ordem natural da qual emergimos, criamos muitas outras "ordens": religiosas, cosmológicas, políticas, filosóficas, morais, estéticas, amorosas, familiares etc. Nossa liberdade consiste nessa invenção infinita e é aí que se movimenta o essencial que, volta e meia, parece se insinuar em um carinho, em um verso, em uma canção, ou em quaisquer outras coisas, por mais banais que pareçam, para logo nos escapar no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555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8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76212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874"/>
                </a:solidFill>
                <a:latin typeface="Copperplate Gothic Light"/>
                <a:ea typeface="Arial"/>
              </a:rPr>
              <a:t>Retire de alguém essa possibilidade, entretanto, e teremos apenas a lembrança de uma vida digna, ainda que o estritamente necessário esteja atendido. Teoricamente, uma prisão poderia oferecer comida e teto de qualidade; ou saúde e educação. Ninguém em sã consciência, entretanto, optaria por ela, ainda que lhe faltassem todas essas coisas. Talvez, porque sejamos mais propriamente aquilo que sonhamos, afinal. O que torna tudo mais complicado e fascinante; essencial, eu diria</a:t>
            </a:r>
            <a:r>
              <a:rPr b="0" lang="en-US" sz="2400" spc="-1" strike="noStrike">
                <a:solidFill>
                  <a:srgbClr val="000080"/>
                </a:solidFill>
                <a:latin typeface="Microsoft Sans Serif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5b5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94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2c08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5335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2c08e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2c08e"/>
                </a:solidFill>
                <a:latin typeface="Times New Roman"/>
              </a:rPr>
              <a:t>Vangelis - Secret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9810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c08e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c08e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9718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92c08e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914400" y="4876920"/>
            <a:ext cx="190512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c3027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505320" y="4724280"/>
            <a:ext cx="2057400" cy="10670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248520" y="4876920"/>
            <a:ext cx="190476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1c3027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23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800"/>
                            </p:stCondLst>
                            <p:childTnLst>
                              <p:par>
                                <p:cTn id="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825"/>
                            </p:stCondLst>
                            <p:childTnLst>
                              <p:par>
                                <p:cTn id="1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125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625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125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625"/>
                            </p:stCondLst>
                            <p:childTnLst>
                              <p:par>
                                <p:cTn id="1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05:27:40Z</dcterms:created>
  <dc:creator>ssoliver@terra.com.br </dc:creator>
  <dc:description/>
  <dc:language>en-US</dc:language>
  <cp:lastModifiedBy>Leticia Thompson</cp:lastModifiedBy>
  <dcterms:modified xsi:type="dcterms:W3CDTF">2004-11-03T17:30:52Z</dcterms:modified>
  <cp:revision>5</cp:revision>
  <dc:subject>PPS</dc:subject>
  <dc:title>O necessário e o essencial</dc:title>
</cp:coreProperties>
</file>