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Juca%20Chaves%20-%20Caixinha%20Obrigado.wav" ContentType="audio/x-wav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B94-859E-451E-B5F4-4A2D1523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064-DCD5-4385-A5E0-3CFB6C9E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D57-227E-4AF5-AC06-8E90C0E8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C6E-1C7E-499B-A7A3-F15359BC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41C-BF3F-4EFD-B356-BE1506CD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F7D-E93C-4F3F-9893-0B9CCF6F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DC6-E422-4A79-A98D-9E964332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609-3E8B-4116-A312-F9D6AE62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6C9-E283-4C47-BB89-151353D6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6F3-EDCC-4081-82E0-9A42E785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737-8EC1-4D9C-AFE5-7E9B90FF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3CF-87F6-4542-84D2-2AADE21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526F-2921-4A7C-8AD0-702A30BF5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3.png"/><Relationship Id="rId18" Type="http://schemas.openxmlformats.org/officeDocument/2006/relationships/audio" Target="../media/Juca%20Chaves%20-%20Caixinha%20Obrigado.wav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 rock'n'roll, nesta terra é uma doe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o futebol, é o ganha-pão da impre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nça ou não vença, o Brasil é o mai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até da bola, nós já temo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hoje é nome de estádio muni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nacion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35280" y="549360"/>
            <a:ext cx="5184720" cy="4103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9512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medicina está desacred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icilina, já é coisa supe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em curandeiro nesta terra pra chu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io de Janeiro tá pior que Tamba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344000" cy="49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de outro lado, onde está o dele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72360" cy="475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908000" y="404640"/>
            <a:ext cx="5545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.F. PRENDE DELEG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malhão, reunião de depu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É palavrão que só sai pra todo 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20000" cy="503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 um deputado abre a boca, é um aten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a mãe de alguém é quem sofre toda 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fim do mês, Cento e Vinte de orde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Caixinha Obrigado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Juca Chav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VAÇÃO DE 1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DOU ALGUMA COIS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553080" cy="345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843280" y="142920"/>
            <a:ext cx="3097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RCO BRASIL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intenção aqui é mostrar que muitos fatos costumam se repetir na história, como se pode perceber , por quem ouviu esse menino, Juca Chaves, em uma interpretação de sua própria au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76360" y="6093000"/>
            <a:ext cx="216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uca Ch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238880" y="1916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238880" y="3573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26836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70836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29272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0" y="560088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7238880" y="53737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16192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5508720" y="4952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3419640" y="4952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220500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Caixinha Obriga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1476360" y="2708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508720" y="278136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257640" y="549360"/>
            <a:ext cx="2628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GUE O S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640" y="1413000"/>
            <a:ext cx="727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IXE ROLAR A TELA SEM CLICA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7"/>
          <a:stretch/>
        </p:blipFill>
        <p:spPr>
          <a:xfrm>
            <a:off x="3149640" y="2637000"/>
            <a:ext cx="279072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mediocridade é um fato consu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sociedade onde o ar é depra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ido rico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urguesã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spreocup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foi casado com mulher burra, mas b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filho dela é político ou t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ituação do Brasil vai muito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quer ladrão é patente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212000" y="2709000"/>
            <a:ext cx="4464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 fontScale="22000"/>
          </a:bodyPr>
          <a:p>
            <a:pPr marL="75240" indent="-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m policial, quase sempre, é uma i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a condução é artigo raci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4212000" y="2709000"/>
            <a:ext cx="4464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 fontScale="22000"/>
          </a:bodyPr>
          <a:p>
            <a:pPr marL="75240" indent="-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429000" cy="4668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178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ém, ladrão, isso tem pra todo o l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4212000" y="2709000"/>
            <a:ext cx="4464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 fontScale="22000"/>
          </a:bodyPr>
          <a:p>
            <a:pPr marL="75240" indent="-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4:32:01Z</dcterms:created>
  <dc:creator>.</dc:creator>
  <dc:description/>
  <dc:language>en-US</dc:language>
  <cp:lastModifiedBy>Home</cp:lastModifiedBy>
  <dcterms:modified xsi:type="dcterms:W3CDTF">2008-11-11T19:00:11Z</dcterms:modified>
  <cp:revision>3</cp:revision>
  <dc:subject/>
  <dc:title>Slide 1</dc:title>
</cp:coreProperties>
</file>