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Juca%20Chaves%20-%20Caixinha%20Obrigado.wav" ContentType="audio/x-wav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13.jpeg" ContentType="image/jpeg"/>
  <Override PartName="/ppt/media/image7.jpeg" ContentType="image/jpeg"/>
  <Override PartName="/ppt/media/image1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AA49-3583-40BB-B1E6-BFB6E0F04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9A20-9DD6-4F89-A145-4E775029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DFCA-B38E-4424-B6BE-93B7F0208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0A2C-40E4-4D26-A179-C67B34632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B6F6-ECA8-4293-BFE7-5D17C96E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60CC-3723-4340-816C-F3C5F7F9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FB88-B985-49AD-9AE7-E7DE70B0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E06B-749F-4AE8-9FE5-89872BEC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C3FF-9F38-4EE9-B4F0-D4CD67A7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664C-0339-4CF3-888D-629B9689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F846-08DF-4229-B452-C63EA9EC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FD15-B697-47DD-A9A8-38A3FCAA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18F0-D384-4425-B771-3BC9802B3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3.png"/><Relationship Id="rId18" Type="http://schemas.openxmlformats.org/officeDocument/2006/relationships/audio" Target="../media/Juca%20Chaves%20-%20Caixinha%20Obrigado.wav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50560" y="62028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515736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O rock'n'roll, nesta terra é uma doenç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E o futebol, é o ganha-pão da impren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4175640" y="2672280"/>
            <a:ext cx="4464000" cy="36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37000"/>
          </a:bodyPr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11280" y="981000"/>
            <a:ext cx="144000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515736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nça ou não vença, o Brasil é o maio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 até da bola, nós já temos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6200000">
            <a:off x="4175640" y="2672280"/>
            <a:ext cx="4464000" cy="36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37000"/>
          </a:bodyPr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11280" y="981000"/>
            <a:ext cx="144000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515736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e hoje é nome de estádio munici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ixinha, naciona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4175640" y="2672280"/>
            <a:ext cx="4464000" cy="36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37000"/>
          </a:bodyPr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11280" y="981000"/>
            <a:ext cx="144000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635280" y="549360"/>
            <a:ext cx="5184720" cy="4103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2951280" cy="40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515736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medicina está desacredit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nicilina, já é coisa supe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4175640" y="2672280"/>
            <a:ext cx="4464000" cy="36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37000"/>
          </a:bodyPr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11280" y="981000"/>
            <a:ext cx="144000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515736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Tem curandeiro nesta terra pra chuc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Rio de Janeiro tá pior que Tamba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4175640" y="2672280"/>
            <a:ext cx="4464000" cy="36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37000"/>
          </a:bodyPr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11280" y="981000"/>
            <a:ext cx="144000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7344000" cy="493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515736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 de outro lado, onde está o deleg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ixinha, obrigad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4175640" y="2672280"/>
            <a:ext cx="4464000" cy="36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37000"/>
          </a:bodyPr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11280" y="981000"/>
            <a:ext cx="144000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7272360" cy="4751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1908000" y="404640"/>
            <a:ext cx="554544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.F. PRENDE DELEGAD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515736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amalhão, reunião de deput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É palavrão que só sai pra todo l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4175640" y="2672280"/>
            <a:ext cx="4464000" cy="36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37000"/>
          </a:bodyPr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11280" y="981000"/>
            <a:ext cx="144000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20000" cy="503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515736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 um deputado abre a boca, é um atent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 a mãe de alguém é quem sofre toda v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4175640" y="2672280"/>
            <a:ext cx="4464000" cy="36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37000"/>
          </a:bodyPr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11280" y="981000"/>
            <a:ext cx="144000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515736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 fim do mês, Cento e Vinte de orden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ixinha, obrigad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4175640" y="2672280"/>
            <a:ext cx="4464000" cy="36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37000"/>
          </a:bodyPr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11280" y="981000"/>
            <a:ext cx="144000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4076640"/>
            <a:ext cx="9144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Caixinha Obrigado</a:t>
            </a:r>
            <a:br>
              <a:rPr sz="3600"/>
            </a:br>
            <a:r>
              <a:rPr b="1" i="1" lang="en-US" sz="3600" spc="-1" strike="noStrike">
                <a:solidFill>
                  <a:srgbClr val="ffffff"/>
                </a:solidFill>
                <a:latin typeface="Trebuchet MS"/>
              </a:rPr>
              <a:t>Juca Chav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VAÇÃO DE 19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DOU ALGUMA COISA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258920" y="620640"/>
            <a:ext cx="6553080" cy="3456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2843280" y="142920"/>
            <a:ext cx="309708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IRCO BRASIL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5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5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5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5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5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50560" y="2565000"/>
            <a:ext cx="87138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 intenção aqui é mostrar que muitos fatos costumam se repetir na história, como se pode perceber , por quem ouviu esse menino, Juca Chaves, em uma interpretação de sua própria auto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276360" y="6093000"/>
            <a:ext cx="2160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Juca Ch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22050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37893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238880" y="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7238880" y="191628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7238880" y="35733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2268360" y="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3708360" y="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5292720" y="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0" y="5600880"/>
            <a:ext cx="1905120" cy="1257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1"/>
          <a:stretch/>
        </p:blipFill>
        <p:spPr>
          <a:xfrm>
            <a:off x="7238880" y="5373720"/>
            <a:ext cx="1905120" cy="1257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2"/>
          <a:stretch/>
        </p:blipFill>
        <p:spPr>
          <a:xfrm>
            <a:off x="1619280" y="4952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3"/>
          <a:stretch/>
        </p:blipFill>
        <p:spPr>
          <a:xfrm>
            <a:off x="5508720" y="49528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4"/>
          <a:stretch/>
        </p:blipFill>
        <p:spPr>
          <a:xfrm>
            <a:off x="3419640" y="4952880"/>
            <a:ext cx="1904760" cy="1905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68360" y="2205000"/>
            <a:ext cx="42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Caixinha Obrigad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1476360" y="27082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>
            <a:off x="5508720" y="2781360"/>
            <a:ext cx="1904760" cy="1905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3257640" y="549360"/>
            <a:ext cx="262872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IGUE O SO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71640" y="1413000"/>
            <a:ext cx="727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IXE ROLAR A TELA SEM CLICAR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7"/>
          <a:stretch/>
        </p:blipFill>
        <p:spPr>
          <a:xfrm>
            <a:off x="3149640" y="2637000"/>
            <a:ext cx="279072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5280" y="515736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mediocridade é um fato consum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sociedade onde o ar é deprav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515736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ido rico,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burguesã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spreocup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e foi casado com mulher burra, mas b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515736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 filho dela é político ou ta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ixinha, obrigad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515736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situação do Brasil vai muito 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lquer ladrão é patente 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200000">
            <a:off x="4175640" y="2672280"/>
            <a:ext cx="4464000" cy="36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37000"/>
          </a:bodyPr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4212000" y="2709000"/>
            <a:ext cx="4464000" cy="28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rmAutofit fontScale="22000"/>
          </a:bodyPr>
          <a:p>
            <a:pPr marL="75240" indent="-75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515736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m policial, quase sempre, é uma ilus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 a condução é artigo racion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4175640" y="2672280"/>
            <a:ext cx="4464000" cy="36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37000"/>
          </a:bodyPr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4212000" y="2709000"/>
            <a:ext cx="4464000" cy="28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rmAutofit fontScale="22000"/>
          </a:bodyPr>
          <a:p>
            <a:pPr marL="75240" indent="-75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3429000" cy="46688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427640" y="333360"/>
            <a:ext cx="4178160" cy="47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515736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rém, ladrão, isso tem pra todo o lad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ixinha, obrigad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6200000">
            <a:off x="4175640" y="2672280"/>
            <a:ext cx="4464000" cy="36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37000"/>
          </a:bodyPr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5400000">
            <a:off x="4212000" y="2709000"/>
            <a:ext cx="4464000" cy="28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rmAutofit fontScale="22000"/>
          </a:bodyPr>
          <a:p>
            <a:pPr marL="75240" indent="-75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6T04:32:01Z</dcterms:created>
  <dc:creator>.</dc:creator>
  <dc:description/>
  <dc:language>en-US</dc:language>
  <cp:lastModifiedBy>Home</cp:lastModifiedBy>
  <dcterms:modified xsi:type="dcterms:W3CDTF">2008-11-11T19:00:11Z</dcterms:modified>
  <cp:revision>3</cp:revision>
  <dc:subject/>
  <dc:title>Slide 1</dc:title>
</cp:coreProperties>
</file>