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Por%20ti%20-%20Andre%20Sperling%20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audio" Target="../media/Por%20ti%20-%20Andre%20Sperling%20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mailto:bethnorling@globo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"/>
          <p:cNvSpPr txBox="1"/>
          <p:nvPr/>
        </p:nvSpPr>
        <p:spPr>
          <a:xfrm>
            <a:off x="1157400" y="1066680"/>
            <a:ext cx="6829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MANHÃ NÃO EXISTE</a:t>
            </a:r>
            <a:endParaRPr b="0" lang="en-US" sz="4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2838600" y="3174840"/>
            <a:ext cx="3466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tícia Thompson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8000">
    <p:fade thruBlk="true"/>
    <p:sndAc>
      <p:stSnd>
        <p:snd r:embed="rId7" name="Por%20ti%20-%20Andre%20Sperling%20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365040" y="838080"/>
            <a:ext cx="832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s pessoas não são eternas. Pelo menos não 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ida terrena. Elas apenas passam, vivem o te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e lhes é ofertado e retornam à t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inguém pode acrescentar um segundo sequer à sua vida ou à de alguém. Não temos esse poder e quando a hora chega, ela che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s preferimos não pensar nisso. Julgamos que temos todo o tempo do mundo para fazer isso ou aquilo, para recuperar o perdido, para sarar o ferido e restabelecer a pa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4000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5040" y="126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5040" y="954000"/>
            <a:ext cx="832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manhã eu ligo, amanhã eu faço, amanhã peço perdã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manhã me reconcilio, amanhã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o se pudéssemos segurar o amanhã nas nossas mãos! Como se ele fosse chegar por nossa vontade e trazer tudo como ontem ou como hoj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manhã? Hoje é o amanhã de ontem e tudo continua na mesma, porque espera-se pelo amanhã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5040" y="1676520"/>
            <a:ext cx="82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ada um tem sua história e suas histórias. Cada 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a cruz e suas dores, suas alegrias, seus lamentos, seus dissabores, seus ganhos e perdas. É o que nos forma como pessoas, que nos dá a impressão de existir, de fazer parte do universo. E há, assim, como com milhares de outros, relacionamentos quebrados, porque um dia alguém feriu e foi feri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3000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5040" y="1106640"/>
            <a:ext cx="824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ando isso acontece, construímos em volta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sso coração um muro, uma barreira que o outro não pode atravessar. Nos sentimos tão importantes com isso que nem percebemos que esse muro impede o outro de entrar, mas nos impede, a nós, de sair. Nos tornamos prisioneiros, aprisionados nas nossas idéias e mágoas. Não estendemos a mão e recusamos a do outro, caso nos esten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5040" y="1182600"/>
            <a:ext cx="82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amos deixar para amanhã para resolver isso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oje estamos magoados demais, não conseguimos perdoar e não queremos dar o braço a torcer, afinal, não erramos. E eu diria, como Cristo, quem nunca errou, que atire a primeira pedr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manhã não existe. O amanhã, só o conhecemos quando o sol nasce e que o Senhor nos dá aquele dia  a mai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3543" t="4725" r="3543" b="47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5040" y="1447920"/>
            <a:ext cx="839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 o hoje nos é ofertado, por que não viver sem 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 sem muros, em comunhão com o mundo e com Deus? O orgulho? Olhe para ele de cara feia e diga: eu quero é ser feliz e se eu quero, eu vou ser feliz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uros nos impedem de abraçar, de sentir o calor ou as batidas do coração do outro. Nos impedem de dar e de receber, nos transformam em pessoas separadas e isol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8000"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5040" y="1341360"/>
            <a:ext cx="8398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trua, então, com coragem, dessa que só 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randes possuem, esse muro em volta do seu coração e volte a abraçar. Perdoe, mesmo se o perdão não foi solicitado, porque cada qual deve dar conta da sua vida a Deus e a outra pessoa responderá por si mes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berte-se, porque se o amanhã não vier para a outra pessoa, você terá que aprender a conviver com seu coração fechado e terá perdido os melhores anos da sua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8000"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5040" y="1341360"/>
            <a:ext cx="839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rédi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exto: Letícia Thompson – Amanhã não ex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ww.leticiathompson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magens: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úsica: André Sperling – Por 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ormatação: Beth No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-mail: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bethnorling@globo.com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8:43:07Z</dcterms:created>
  <dc:creator>Beth Norling</dc:creator>
  <dc:description/>
  <dc:language>en-US</dc:language>
  <cp:lastModifiedBy>Beth Norling</cp:lastModifiedBy>
  <dcterms:modified xsi:type="dcterms:W3CDTF">2007-03-06T14:16:08Z</dcterms:modified>
  <cp:revision>20</cp:revision>
  <dc:subject/>
  <dc:title>Amanha_nao_existe</dc:title>
</cp:coreProperties>
</file>