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1.jpeg" ContentType="image/jpeg"/>
  <Override PartName="/ppt/media/image6.png" ContentType="image/png"/>
  <Override PartName="/ppt/media/image12.jpeg" ContentType="image/jpeg"/>
  <Override PartName="/ppt/media/image3.png" ContentType="image/png"/>
  <Override PartName="/ppt/media/image7.gif" ContentType="image/gif"/>
  <Override PartName="/ppt/media/champagne_18x12_1012127.wav" ContentType="audio/x-wav"/>
  <Override PartName="/ppt/media/image8.jpeg" ContentType="image/jpeg"/>
  <Override PartName="/ppt/media/image5.png" ContentType="image/png"/>
  <Override PartName="/ppt/media/image2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DB0-7208-4D3B-B487-8ACF4C1F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DBD-4FBF-4A31-9AEC-F283CFC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AE8-6F22-495D-80FD-2D971477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536-6E53-4E7B-8583-C2351244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613-F7D1-43FC-80AA-FD07E880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11C-B0FC-430F-A2EC-4B78D9F1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5EA-F87D-4058-A20B-8C03990B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DCE-1077-4946-BD7A-17B051AF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A5A-B423-4B4F-A65D-9A9399EA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479-2AC5-44BF-837B-0612BF7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96D-F2E7-41F2-933B-E226DF2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3A3-DF1C-4579-AA72-35BAF2F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7473-7CEE-4E73-8ECD-261B4EEF8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audio" Target="../media/champagne_18x12_1012127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8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9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0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1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3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1.jpeg"/><Relationship Id="rId6" Type="http://schemas.openxmlformats.org/officeDocument/2006/relationships/image" Target="../media/image2.gif"/><Relationship Id="rId7" Type="http://schemas.openxmlformats.org/officeDocument/2006/relationships/image" Target="../media/image1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85800"/>
            <a:ext cx="7696080" cy="54864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838080"/>
            <a:ext cx="7391520" cy="518184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49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50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51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52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362320" y="1523880"/>
            <a:ext cx="47149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ESOUROS</a:t>
            </a:r>
            <a:endParaRPr b="0" i="1" lang="en-US" sz="60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4876920"/>
            <a:ext cx="4552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- Letícia Thompson -</a:t>
            </a:r>
            <a:endParaRPr b="0" i="1" lang="en-US" sz="32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18" name="champagne_18x12_101212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64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65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66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67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5120" y="457200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Guardo tesouros escond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m minh’alma de menin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Segredos, tanto conti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Como pérolas no fundo do ocean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78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79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80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81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50840" y="4419720"/>
            <a:ext cx="702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em pensamentos ins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 guardo de me reve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 contenho pra não me entreg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Vidente das minhas 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paixões mal-resolvid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92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93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94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95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473544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Fecho então minh’a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Qual baú esqu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No sótão de pessoas tão só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06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08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09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0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98560" y="4724280"/>
            <a:ext cx="72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as, eis que o sol nasc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 aponta a minha s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promessa de uma vida de c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20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21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22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23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4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2240" y="4648320"/>
            <a:ext cx="73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Assim acordo pr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m meu interior adorm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E me prep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Para uma nova estrad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34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35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36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37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6280" y="4430880"/>
            <a:ext cx="748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Tiro então a po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Dos tesouros esmaeci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Revelando esmeraldas, rubis e diama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Todos feito brilhantes com os q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9a00"/>
                </a:solidFill>
                <a:latin typeface="Arial"/>
              </a:rPr>
              <a:t>Meu coração foi lapi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57200"/>
            <a:ext cx="8153280" cy="594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33520"/>
            <a:ext cx="8001000" cy="5790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85800"/>
            <a:ext cx="5486400" cy="365760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762120"/>
            <a:ext cx="5333760" cy="3504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3" descr=""/>
          <p:cNvPicPr/>
          <p:nvPr/>
        </p:nvPicPr>
        <p:blipFill>
          <a:blip r:embed="rId8"/>
          <a:stretch/>
        </p:blipFill>
        <p:spPr>
          <a:xfrm>
            <a:off x="0" y="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48" name="3.1" descr=""/>
          <p:cNvPicPr/>
          <p:nvPr/>
        </p:nvPicPr>
        <p:blipFill>
          <a:blip r:embed="rId9"/>
          <a:stretch/>
        </p:blipFill>
        <p:spPr>
          <a:xfrm>
            <a:off x="0" y="4789440"/>
            <a:ext cx="21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49" name="3.2" descr=""/>
          <p:cNvPicPr/>
          <p:nvPr/>
        </p:nvPicPr>
        <p:blipFill>
          <a:blip r:embed="rId10"/>
          <a:stretch/>
        </p:blipFill>
        <p:spPr>
          <a:xfrm>
            <a:off x="7075440" y="473220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50" name="3.3" descr=""/>
          <p:cNvPicPr/>
          <p:nvPr/>
        </p:nvPicPr>
        <p:blipFill>
          <a:blip r:embed="rId11"/>
          <a:stretch/>
        </p:blipFill>
        <p:spPr>
          <a:xfrm>
            <a:off x="7075440" y="0"/>
            <a:ext cx="2068560" cy="2125800"/>
          </a:xfrm>
          <a:prstGeom prst="rect">
            <a:avLst/>
          </a:prstGeom>
          <a:ln w="0">
            <a:noFill/>
          </a:ln>
        </p:spPr>
      </p:pic>
      <p:pic>
        <p:nvPicPr>
          <p:cNvPr id="151" name="estrelapisa" descr=""/>
          <p:cNvPicPr/>
          <p:nvPr/>
        </p:nvPicPr>
        <p:blipFill>
          <a:blip r:embed="rId12"/>
          <a:stretch/>
        </p:blipFill>
        <p:spPr>
          <a:xfrm>
            <a:off x="304920" y="304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estrealinha" descr=""/>
          <p:cNvPicPr/>
          <p:nvPr/>
        </p:nvPicPr>
        <p:blipFill>
          <a:blip r:embed="rId13"/>
          <a:stretch/>
        </p:blipFill>
        <p:spPr>
          <a:xfrm>
            <a:off x="8077320" y="304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22440" y="160020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Visite o site: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www.leticiathompson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E-mail: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bethnorling@glob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09a00"/>
                </a:solidFill>
                <a:latin typeface="Arial"/>
              </a:rPr>
              <a:t>Música: Champag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1:48:49Z</dcterms:created>
  <dc:creator>Beth Norling</dc:creator>
  <dc:description/>
  <dc:language>en-US</dc:language>
  <cp:lastModifiedBy>Usuário</cp:lastModifiedBy>
  <dcterms:modified xsi:type="dcterms:W3CDTF">2007-01-09T09:55:33Z</dcterms:modified>
  <cp:revision>3</cp:revision>
  <dc:subject/>
  <dc:title>Tesouros</dc:title>
</cp:coreProperties>
</file>