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1.jpeg" ContentType="image/jpeg"/>
  <Override PartName="/ppt/media/image6.png" ContentType="image/png"/>
  <Override PartName="/ppt/media/image12.jpeg" ContentType="image/jpeg"/>
  <Override PartName="/ppt/media/image3.png" ContentType="image/png"/>
  <Override PartName="/ppt/media/image7.gif" ContentType="image/gif"/>
  <Override PartName="/ppt/media/champagne_18x12_1012127.wav" ContentType="audio/x-wav"/>
  <Override PartName="/ppt/media/image8.jpeg" ContentType="image/jpeg"/>
  <Override PartName="/ppt/media/image5.png" ContentType="image/png"/>
  <Override PartName="/ppt/media/image2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9FB-BC01-4EF1-8C40-DE92B1F4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9F7-2AC3-4618-9EB5-F38A42E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DFC-31A7-4515-9274-2227FFED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2C4-91D8-4BD5-AC53-CDFFBBF6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B4D-D2DF-475E-BD7C-1D507FD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F80-BABD-41E3-B710-E8D63468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11E-10AC-4ED1-A292-FD1F6E11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182-9B65-47D0-8C2F-F7B8C6EA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58C-3D5D-4C2D-B568-71CF6C9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CD2-FF63-4E16-9C34-1984B24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AAC-9412-4F80-8155-8CC8EBB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218-43C6-478D-8321-74E1118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CAE1-99B7-4D74-91AB-650FAF64B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audio" Target="../media/champagne_18x12_1012127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8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9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0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1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3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85800"/>
            <a:ext cx="7696080" cy="54864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838080"/>
            <a:ext cx="7391520" cy="51818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49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50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51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52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362320" y="1523880"/>
            <a:ext cx="47149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ESOUROS</a:t>
            </a:r>
            <a:endParaRPr b="0" i="1" lang="en-US" sz="60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4876920"/>
            <a:ext cx="4552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- Letícia Thompson -</a:t>
            </a:r>
            <a:endParaRPr b="0" i="1" lang="en-US" sz="32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18" name="champagne_18x12_101212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64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65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66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67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5120" y="457200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Guardo tesouros escond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m minh’alma de men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Segredos, tanto conti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Como pérolas no fundo do ocean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78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79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80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81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50840" y="4419720"/>
            <a:ext cx="702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em pensamentos in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 guardo de me reve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 contenho pra não me entreg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Vidente das minhas 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paixões mal-resolvid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92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93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94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95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473544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Fecho então minh’a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Qual baú esqu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No sótão de pessoas tão só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06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08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09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0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98560" y="4724280"/>
            <a:ext cx="72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as, eis que o sol nasc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 aponta a minha s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promessa de uma vida de c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20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21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22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23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4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2240" y="4648320"/>
            <a:ext cx="73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Assim acordo pr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m meu interior adorm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me prep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Para uma nova estrad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34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35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36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37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6280" y="4430880"/>
            <a:ext cx="748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Tiro então a po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Dos tesouros esmaeci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Revelando esmeraldas, rubis e diama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Todos feito brilhantes com os q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u coração foi lapi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48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49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50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51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22440" y="160020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Visite o site: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E-mail: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bethnorling@glob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Música: Champa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1:48:49Z</dcterms:created>
  <dc:creator>Beth Norling</dc:creator>
  <dc:description/>
  <dc:language>en-US</dc:language>
  <cp:lastModifiedBy>Usuário</cp:lastModifiedBy>
  <dcterms:modified xsi:type="dcterms:W3CDTF">2007-01-09T09:55:33Z</dcterms:modified>
  <cp:revision>3</cp:revision>
  <dc:subject/>
  <dc:title>Tesouros</dc:title>
</cp:coreProperties>
</file>