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Make%20It%20With%20You.wav" ContentType="audio/x-wav"/>
  <Override PartName="/ppt/media/image5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336-EB41-48F5-9E1A-3E715509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B0E-A2EF-4FBB-80EA-52B3998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8C4-2F7A-4A31-A527-FF0F953E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F58-5697-4AA6-8D57-93B24BD5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96F-4A7D-4863-8643-C7B0468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7EB-3432-448D-A4B7-A3B28BA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DB7-1D0A-42EB-9294-07065747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E24-1B3B-4463-9F0C-17B817EF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94A-31CC-4DB3-BE96-292B09A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CF5-2D4E-4727-AA9F-B1DE525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3B6-28C7-4F79-ADBE-C1A2C5A0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F44-7CE3-4DEA-9C62-CE9D40B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FAB-894E-4A69-8E35-129DFA86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audio" Target="../media/Make%20It%20With%20You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3280" y="2060640"/>
            <a:ext cx="37436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IXONADA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64000" y="4508640"/>
            <a:ext cx="2524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557360"/>
            <a:ext cx="3763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não tem cérebro, tem cor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pensa, am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respira, 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la não encontra oportunidades para mostrar o seu amor, fab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51480" y="1052640"/>
            <a:ext cx="383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é um ser excepcional, porque el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squece e se perde em si mesma par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ncontrar no ser amado. Ela é capaz de tu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por ele; rouba madrugadas e se faz prisioneira de seus próprios sentimentos. Voluntária, doendo 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484280"/>
            <a:ext cx="396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Louca e santa, menina e mulher, escrava e senhora, ela não vê defeitos e perdoa com a maior fac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trega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canta e ch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Tem sempre o coração que bate depr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51480" y="1700280"/>
            <a:ext cx="3981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dorme, sonh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se alimenta, vive de fant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Quebra distâncias, barreiras e tabus; é capaz de lutar como uma guerreira para obter o seu amor; nunca desi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51480" y="620640"/>
            <a:ext cx="39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gosta de ouvir conselhos, não dá a mínima para o que os outros pensam; ela só conhece uma raz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4560" y="256536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o homem ama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4172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tem olhos que brilham e quase sempre um ar de riso no rosto. É um ser irracional e b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24560" y="4869000"/>
            <a:ext cx="39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 é sempre uma mulher bo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6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7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1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620640"/>
            <a:ext cx="799308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765000"/>
            <a:ext cx="7704000" cy="525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94760" y="1212120"/>
            <a:ext cx="1655640" cy="33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10800000">
            <a:off x="539640" y="519840"/>
            <a:ext cx="165600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>
            <a:off x="6877080" y="5977080"/>
            <a:ext cx="1598760" cy="31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rot="16200000">
            <a:off x="7546320" y="5205960"/>
            <a:ext cx="1742760" cy="347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4600" y="1762200"/>
            <a:ext cx="6010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Texto: Letícia Thompson – Mulher apaix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8"/>
              </a:rPr>
              <a:t>www.leticiathompson.net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Make It With You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1:50:04Z</dcterms:created>
  <dc:creator>Beth Norling</dc:creator>
  <dc:description/>
  <dc:language>en-US</dc:language>
  <cp:lastModifiedBy>Beth Norling</cp:lastModifiedBy>
  <dcterms:modified xsi:type="dcterms:W3CDTF">2007-03-14T22:53:44Z</dcterms:modified>
  <cp:revision>4</cp:revision>
  <dc:subject/>
  <dc:title>Mulher_apaixonada</dc:title>
</cp:coreProperties>
</file>