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ndre%20Rieu%20-%20Salut%20d'Amour%20%201%5B1%5D.07%20cut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895-3994-4E12-881C-3EDD82C7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567-BFC0-4B6C-9521-6B2F4951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CDB-81DE-46F7-A721-82F6FBD9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42D-3DE2-4228-BE22-1929895D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C8A-2331-4DC8-B1B3-85F8B5EE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DF1-7CC3-4C24-A583-97884FF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93C-413B-4CC9-AA5D-8530511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E9C-DE49-4B65-99F8-53B5D6B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2CF-6914-416F-BD88-30237F0C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CC5-979E-4858-B2E1-69900E5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E1A-ED09-4A0B-8564-518BCC0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D6C-17FC-471D-95A0-F364D20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B717-BF4E-44C6-9101-65192FB06C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Rieu%20-%20Salut%20d&apos;Amour%20%201%5B1%5D.07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et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71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21337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554531"/>
                    </a:gs>
                    <a:gs pos="50000">
                      <a:srgbClr val="d79a87"/>
                    </a:gs>
                    <a:gs pos="100000">
                      <a:srgbClr val="55453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 é...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554531"/>
                  </a:gs>
                  <a:gs pos="50000">
                    <a:srgbClr val="d79a87"/>
                  </a:gs>
                  <a:gs pos="100000">
                    <a:srgbClr val="55453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62120" y="4724280"/>
            <a:ext cx="40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b9683"/>
                    </a:gs>
                    <a:gs pos="50000">
                      <a:srgbClr val="85614b"/>
                    </a:gs>
                    <a:gs pos="100000">
                      <a:srgbClr val="cb968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b9683"/>
                  </a:gs>
                  <a:gs pos="50000">
                    <a:srgbClr val="85614b"/>
                  </a:gs>
                  <a:gs pos="100000">
                    <a:srgbClr val="cb968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71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680" y="87804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colocar as necessidades do outro ac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as nossas próprias necessidades, sem que isso nos dimin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verdadeiro amor não cabe em almas pequ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360" y="3581280"/>
            <a:ext cx="77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mor é algo que deve nos enriquecer como s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mor sempre traz, nunca leva, nunca t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“apesar 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72540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não ser correspondido,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ndo, não como um fardo, mas como um comp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 sobreviv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sofrer, porque sofrer amando é mil vezes melhor que sofrer de vazio e soli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8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57312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dificuldades, porque essas podem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tivar a sermos mais fortes e nos ensinar que podemos vencer obstác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distância, porque quando amamos o coração está sempre per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0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386064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, quando necessário, se dar o direito d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ntir zangado e magoado, porque se o amor é Divino, é humano também. Mas amar é ser superior a zangas e mág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1030320"/>
            <a:ext cx="82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colocar o coração em tudo o que faze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s olhos, nas mãos, nas nossas ações. É ver o outro diferente mesmo se ele é igual a todo mundo; é vê-lo especial se ele é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se contentar com um pouco de felicidade quando isso é tudo o que podemos 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72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2205000"/>
            <a:ext cx="816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acreditar quando todos duvidam. É ouv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oz do coração quando nenhuma outra pessoa consegue escu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, finalmente, dar livre-arbítrio ao próprio cor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72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040" y="1628640"/>
            <a:ext cx="816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Texto: Letícia Thompson – Amar é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letciathompson.net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Música: André Rieu – Salut D’Am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2:50:26Z</dcterms:created>
  <dc:creator>Beth Norling</dc:creator>
  <dc:description/>
  <dc:language>en-US</dc:language>
  <cp:lastModifiedBy>Beth Norling</cp:lastModifiedBy>
  <dcterms:modified xsi:type="dcterms:W3CDTF">2007-03-06T11:54:56Z</dcterms:modified>
  <cp:revision>29</cp:revision>
  <dc:subject/>
  <dc:title>Amar e...</dc:title>
</cp:coreProperties>
</file>