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ndre%20Rieu%20-%20Salut%20d'Amour%20%201%5B1%5D.07%20cut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0CF-05C1-4836-BD1F-DE5AC1BC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648-CE90-4FD5-A3EF-74F372AD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6B4-C485-44FE-A10A-824AE01C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E92-1088-4CEB-AA11-40FF07B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362-F973-4E02-88FE-758B4FA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C40-85C1-41C8-B0CC-BEB3E630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682-D185-4EBB-8A60-1CB4285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91F-12C8-49FA-ABA0-2344A314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61B-569E-4C0A-99AD-6282085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921-70F3-43FF-A7DA-FE291A52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4C4-0D41-4506-8811-12B5719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E54-AD7B-40CB-B046-08FB6D6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CEB3-45F2-47CF-AB32-FA233EF5B96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Rieu%20-%20Salut%20d&apos;Amour%20%201%5B1%5D.07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et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71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21337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554531"/>
                    </a:gs>
                    <a:gs pos="50000">
                      <a:srgbClr val="d79a87"/>
                    </a:gs>
                    <a:gs pos="100000">
                      <a:srgbClr val="55453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 é...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554531"/>
                  </a:gs>
                  <a:gs pos="50000">
                    <a:srgbClr val="d79a87"/>
                  </a:gs>
                  <a:gs pos="100000">
                    <a:srgbClr val="55453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62120" y="4724280"/>
            <a:ext cx="40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b9683"/>
                    </a:gs>
                    <a:gs pos="50000">
                      <a:srgbClr val="85614b"/>
                    </a:gs>
                    <a:gs pos="100000">
                      <a:srgbClr val="cb968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b9683"/>
                  </a:gs>
                  <a:gs pos="50000">
                    <a:srgbClr val="85614b"/>
                  </a:gs>
                  <a:gs pos="100000">
                    <a:srgbClr val="cb968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71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680" y="87804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colocar as necessidades do outro ac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as nossas próprias necessidades, sem que isso nos dimin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verdadeiro amor não cabe em almas pequ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360" y="3581280"/>
            <a:ext cx="77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mor é algo que deve nos enriquecer como s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mor sempre traz, nunca leva, nunca t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“apesar 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72540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não ser correspondido, continu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ndo, não como um fardo, mas como um comp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 sobreviv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sofrer, porque sofrer amando é mil vezes melhor que sofrer de vazio e soli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8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57312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dificuldades, porque essas podem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tivar a sermos mais fortes e nos ensinar que podemos vencer obstác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pesar de distância, porque quando amamos o coração está sempre per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05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386064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, quando necessário, se dar o direito d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ntir zangado e magoado, porque se o amor é Divino, é humano também. Mas amar é ser superior a zangas e mág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1030320"/>
            <a:ext cx="82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colocar o coração em tudo o que fazem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s olhos, nas mãos, nas nossas ações. É ver o outro diferente mesmo se ele é igual a todo mundo; é vê-lo especial se ele é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se contentar com um pouco de felicidade quando isso é tudo o que podemos 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72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2205000"/>
            <a:ext cx="816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 acreditar quando todos duvidam. É ouv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oz do coração quando nenhuma outra pessoa consegue escu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mar é, finalmente, dar livre-arbítrio ao próprio cor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72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040" y="1628640"/>
            <a:ext cx="816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Texto: Letícia Thompson – Amar é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letciathompson.net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Música: André Rieu – Salut D’Am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2:50:26Z</dcterms:created>
  <dc:creator>Beth Norling</dc:creator>
  <dc:description/>
  <dc:language>en-US</dc:language>
  <cp:lastModifiedBy>Beth Norling</cp:lastModifiedBy>
  <dcterms:modified xsi:type="dcterms:W3CDTF">2007-03-06T11:54:56Z</dcterms:modified>
  <cp:revision>29</cp:revision>
  <dc:subject/>
  <dc:title>Amar e...</dc:title>
</cp:coreProperties>
</file>