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enya%20-%20far%20and%20away%20theme%20~.wav" ContentType="audio/x-wav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2FB-86E3-4B96-8FCB-FE2179D4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0BA-3FFD-4E34-AB37-72CBAE9C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D4D-A317-42D3-8969-7C6E07D6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A4F-7FCB-4D29-A2A3-F18312DA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991-3162-4729-93EF-DD71CD2F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E9E-DA8A-4F12-B291-2BF67094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E81-78D8-43DD-8AB7-612BBDC8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03B3-48AE-4F9F-A2E7-23DE1BA1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A83E-7798-4BC6-AFDB-58055D8D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743-5E7A-47BC-B470-7245EDD3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ED9A-9799-478C-9EDA-2BD39123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203-C11F-4FDA-A106-3B492A94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4310-0846-4DB1-8F0D-41F5A619F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nya%20-%20far%20and%20away%20theme%20~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unglepor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95480" y="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Músic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06668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Que mistério é este que se junta ao perfume e nos transporta pelo túnel do tempo...                                Que mistério é este que não importa a época em que   foi criada, mas sim o sentimento que transmite a     cada um de nós...</a:t>
            </a:r>
            <a:r>
              <a:rPr b="1" i="1" lang="pt-BR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1" i="1" lang="en-GB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Que mistério é este que ao ouvirmos os primeiros acordes, nossas mentes identificam alguém, uma   época , um dia, um momento, um prazer...                Que mistério é este </a:t>
            </a:r>
            <a:r>
              <a:rPr b="1" i="1" lang="en-GB" sz="2800" spc="-1" strike="noStrike">
                <a:solidFill>
                  <a:srgbClr val="6600ff"/>
                </a:solidFill>
                <a:latin typeface="Times New Roman"/>
                <a:ea typeface="Arial"/>
              </a:rPr>
              <a:t>que nos faz viajar, que nos hipnotiza, que nos </a:t>
            </a:r>
            <a:r>
              <a:rPr b="1" i="1" lang="en-GB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embriaga no momento em             que a evolução da melodia atinge seu</a:t>
            </a:r>
            <a:r>
              <a:rPr b="1" i="1" lang="en-GB" sz="2800" spc="-1" strike="noStrike">
                <a:solidFill>
                  <a:srgbClr val="6600ff"/>
                </a:solidFill>
                <a:latin typeface="Times New Roman"/>
                <a:ea typeface="Arial"/>
              </a:rPr>
              <a:t> ápice..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vert"/>
    <p:sndAc>
      <p:stSnd>
        <p:snd r:embed="rId2" name="enya%20-%20far%20and%20away%20theme%20~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presentaçã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685800"/>
            <a:ext cx="815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Que mistério é este que forma um balé de sonhos à nossa volta, com nuances de uma sobrenatural e interminável viagem...</a:t>
            </a:r>
            <a:r>
              <a:rPr b="1" i="1" lang="en-GB" sz="2800" spc="-1" strike="noStrike">
                <a:solidFill>
                  <a:srgbClr val="333300"/>
                </a:solidFill>
                <a:latin typeface="Times New Roman"/>
                <a:ea typeface="Arial"/>
              </a:rPr>
              <a:t>                                               </a:t>
            </a:r>
            <a:r>
              <a:rPr b="1" i="1" lang="en-GB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Que mistério é este que arranca de dentro do meu coração as palavras que escrevo ao ouvir                esta música ...?                                                              É o mistério da sensibilidade da alma!                     </a:t>
            </a:r>
            <a:r>
              <a:rPr b="1" i="1" lang="en-GB" sz="2800" spc="-1" strike="noStrike">
                <a:solidFill>
                  <a:srgbClr val="333300"/>
                </a:solidFill>
                <a:latin typeface="Times New Roman"/>
                <a:ea typeface="Arial"/>
              </a:rPr>
              <a:t>É o mistério da busca, do desejo, do amor,                 da tristeza, </a:t>
            </a:r>
            <a:r>
              <a:rPr b="1" i="1" lang="en-GB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da saudade</a:t>
            </a:r>
            <a:r>
              <a:rPr b="1" i="1" lang="en-GB" sz="2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i="1" lang="en-GB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da paixão…                                Da emoção, do desespero, da esperança e ... Principalmente  da</a:t>
            </a:r>
            <a:r>
              <a:rPr b="1" i="1" lang="en-GB" sz="2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i="1" lang="en-GB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Paz!</a:t>
            </a:r>
            <a:r>
              <a:rPr b="1" i="1" lang="en-GB" sz="2800" spc="-1" strike="noStrike">
                <a:solidFill>
                  <a:srgbClr val="333300"/>
                </a:solidFill>
                <a:latin typeface="Times New Roman"/>
                <a:ea typeface="Arial"/>
              </a:rPr>
              <a:t> </a:t>
            </a:r>
            <a:r>
              <a:rPr b="1" i="1" lang="en-GB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arging800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609480"/>
            <a:ext cx="8458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Times New Roman"/>
              </a:rPr>
              <a:t>É o mistério que neste momento, com esta melodia me faz imaginar a ânsia de subir um morro numa corrida desenfreada;</a:t>
            </a: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Arial"/>
              </a:rPr>
              <a:t> </a:t>
            </a: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Times New Roman"/>
              </a:rPr>
              <a:t>desesperada para chegar ao topo e ...       Lá do alto com o vento forte</a:t>
            </a: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Arial"/>
              </a:rPr>
              <a:t> </a:t>
            </a: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Times New Roman"/>
              </a:rPr>
              <a:t>batendo em meu rosto que agita minhas roupas esvoaçantes...</a:t>
            </a: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Arial"/>
              </a:rPr>
              <a:t>                     Q</a:t>
            </a: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Times New Roman"/>
              </a:rPr>
              <a:t>uerendo me levar consigo tentando a todo custo tirar este momento</a:t>
            </a: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Arial"/>
              </a:rPr>
              <a:t> </a:t>
            </a: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Times New Roman"/>
              </a:rPr>
              <a:t>mágico e inebriante da minha vida! Aaahhhh... Um momento lindo...                                 Um raro momento que talvez não haja outro!                O momento em que a imaginação ao som desta melodia,</a:t>
            </a: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Arial"/>
              </a:rPr>
              <a:t> </a:t>
            </a: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Times New Roman"/>
              </a:rPr>
              <a:t>une Corpo, Alma e Espírito que se juntam para sonha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5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raia%20ne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525600"/>
            <a:ext cx="8076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525252"/>
                </a:solidFill>
                <a:latin typeface="Times New Roman"/>
                <a:ea typeface="Times New Roman"/>
              </a:rPr>
              <a:t>E, lá de cima bem do alto…                         Contemplar sua majestade o MAR !                      Com todo seu mistério, beleza e grandeza             como esta música… para logo em seguida, cair suavemente ao chão em pranto de emoção</a:t>
            </a:r>
            <a:r>
              <a:rPr b="1" i="1" lang="en-GB" sz="2800" spc="-1" strike="noStrike">
                <a:solidFill>
                  <a:srgbClr val="525252"/>
                </a:solidFill>
                <a:latin typeface="Times New Roman"/>
                <a:ea typeface="Arial"/>
              </a:rPr>
              <a:t>  </a:t>
            </a:r>
            <a:r>
              <a:rPr b="1" i="1" lang="en-GB" sz="2800" spc="-1" strike="noStrike">
                <a:solidFill>
                  <a:srgbClr val="525252"/>
                </a:solidFill>
                <a:latin typeface="Times New Roman"/>
                <a:ea typeface="Times New Roman"/>
              </a:rPr>
              <a:t>adormecer ali mesmo ao som das ondas batendo    nas rochas... </a:t>
            </a:r>
            <a:r>
              <a:rPr b="1" i="1" lang="en-GB" sz="2800" spc="-1" strike="noStrike">
                <a:solidFill>
                  <a:srgbClr val="525252"/>
                </a:solidFill>
                <a:latin typeface="Times New Roman"/>
                <a:ea typeface="Arial"/>
              </a:rPr>
              <a:t>                                                       </a:t>
            </a:r>
            <a:r>
              <a:rPr b="1" i="1" lang="en-GB" sz="2800" spc="-1" strike="noStrike">
                <a:solidFill>
                  <a:srgbClr val="525252"/>
                </a:solidFill>
                <a:latin typeface="Times New Roman"/>
                <a:ea typeface="Times New Roman"/>
              </a:rPr>
              <a:t>Sonhar com a felicidade presente e…                        Só acordar quando realmente a encontrar…</a:t>
            </a:r>
            <a:r>
              <a:rPr b="1" i="1" lang="en-GB" sz="2800" spc="-1" strike="noStrike">
                <a:solidFill>
                  <a:srgbClr val="525252"/>
                </a:solidFill>
                <a:latin typeface="Times New Roman"/>
                <a:ea typeface="Arial"/>
              </a:rPr>
              <a:t> N</a:t>
            </a:r>
            <a:r>
              <a:rPr b="1" i="1" lang="en-GB" sz="2800" spc="-1" strike="noStrike">
                <a:solidFill>
                  <a:srgbClr val="525252"/>
                </a:solidFill>
                <a:latin typeface="Times New Roman"/>
                <a:ea typeface="Times New Roman"/>
              </a:rPr>
              <a:t>um  momento de grande Paz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55627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rilene Laurelli Cypriano</a:t>
            </a:r>
            <a:r>
              <a:rPr b="1" i="1" lang="en-GB" sz="2800" spc="-1" strike="noStrike">
                <a:solidFill>
                  <a:srgbClr val="333333"/>
                </a:solidFill>
                <a:latin typeface="Times New Roman"/>
                <a:ea typeface="HG Mincho Light J"/>
              </a:rPr>
              <a:t> </a:t>
            </a:r>
            <a:r>
              <a:rPr b="1" i="1" lang="en-GB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2af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05120" y="228600"/>
            <a:ext cx="419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2af96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2af96"/>
                </a:solidFill>
                <a:latin typeface="Times New Roman"/>
              </a:rPr>
              <a:t>Enya - Far And Away T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1523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af96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af96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666880"/>
            <a:ext cx="723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b2af96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4419720"/>
            <a:ext cx="70866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2af96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leticiathompson.net</a:t>
            </a:r>
            <a:r>
              <a:rPr b="0" lang="pt-BR" sz="3600" spc="-1" strike="noStrike">
                <a:solidFill>
                  <a:srgbClr val="b2af9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0:02:43Z</dcterms:created>
  <dc:creator>ssoliver@terra.com.br </dc:creator>
  <dc:description>Música - Enya</dc:description>
  <dc:language>en-US</dc:language>
  <cp:lastModifiedBy>Sérgio S. Oliver</cp:lastModifiedBy>
  <dcterms:modified xsi:type="dcterms:W3CDTF">2004-11-18T17:20:48Z</dcterms:modified>
  <cp:revision>4</cp:revision>
  <dc:subject>Poesia</dc:subject>
  <dc:title>A Música</dc:title>
</cp:coreProperties>
</file>