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14C0-6214-4A1A-AAD2-7165EC49B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2C3B-9486-4066-BCED-7F335FDC4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D5A7-1E1C-428C-85AC-D1EF85F3C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3229-5485-4FD1-AA87-002C290ED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E766-F9B1-433E-8575-AE5407C67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3BD8-CEE4-4B00-87ED-74866A713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B8F3-0E9A-478F-A645-653F90F16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A8EE-CCE6-4D3A-B3CF-157269BF7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FA69-E99A-405D-8AD5-6B8E25D50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638E-FBAD-4842-9B34-2643A8846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B020-88C0-439D-8FED-74575DD25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12E9-0E23-4CFD-A167-BB1E21E08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B2E87-6D01-4DFD-A84B-7E9FA81948D0}" type="slidenum">
              <a:rPr b="0" lang="pt-P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700280"/>
            <a:ext cx="9144000" cy="302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Rockwell Extra Bold"/>
              </a:rPr>
              <a:t>DICIONÁRIO AFRICANO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938960" y="2245680"/>
            <a:ext cx="492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Rockwell Extra Bold"/>
              </a:rPr>
              <a:t>COMBUSTÃ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39355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Bradley Hand ITC"/>
              </a:rPr>
              <a:t>Mulher com peito grand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3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3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969560" y="2245680"/>
            <a:ext cx="4871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Rockwell Extra Bold"/>
              </a:rPr>
              <a:t>COMPULSÃ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39355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Bradley Hand ITC"/>
              </a:rPr>
              <a:t>Qualquer pessoa com pulso grand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3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3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187000" y="2245680"/>
            <a:ext cx="4441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Rockwell Extra Bold"/>
              </a:rPr>
              <a:t>DEPRESSÃ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39355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Bradley Hand ITC"/>
              </a:rPr>
              <a:t>Espécie de panela angustiad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3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3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58280" y="2245680"/>
            <a:ext cx="4301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Rockwell Extra Bold"/>
              </a:rPr>
              <a:t>DESTILAD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39355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Bradley Hand ITC"/>
              </a:rPr>
              <a:t>Aquilo que não está do lado de lá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3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3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965600" y="2245680"/>
            <a:ext cx="4887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Rockwell Extra Bold"/>
              </a:rPr>
              <a:t>DETERGENT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39355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Bradley Hand ITC"/>
              </a:rPr>
              <a:t>Acto de se prender indivíduos suspeit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3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3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006720" y="2245680"/>
            <a:ext cx="280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Rockwell Extra Bold"/>
              </a:rPr>
              <a:t>ESFER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39355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Bradley Hand ITC"/>
              </a:rPr>
              <a:t>Animal feroz amansad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3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3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867040" y="2245680"/>
            <a:ext cx="3084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Rockwell Extra Bold"/>
              </a:rPr>
              <a:t>EVENT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935520"/>
            <a:ext cx="9144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Bradley Hand ITC"/>
              </a:rPr>
              <a:t>Constatação de que realmente é vento e não brisa, furacão ou tornado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3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3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820160" y="2245680"/>
            <a:ext cx="5181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Rockwell Extra Bold"/>
              </a:rPr>
              <a:t>FORNECEDO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9355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Bradley Hand ITC"/>
              </a:rPr>
              <a:t>Empresário ao ramo de agradar a masoquista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3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3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385720" y="2245680"/>
            <a:ext cx="4054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Rockwell Extra Bold"/>
              </a:rPr>
              <a:t>GENITÁLI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39355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Bradley Hand ITC"/>
              </a:rPr>
              <a:t>Órgão reprodutor dos italian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3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3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524600" y="2245680"/>
            <a:ext cx="5783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Rockwell Extra Bold"/>
              </a:rPr>
              <a:t>HOMOSSEXUA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393552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Bradley Hand ITC"/>
              </a:rPr>
              <a:t>Detergente utilizado para lavar as partes íntima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3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3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787400" y="2245680"/>
            <a:ext cx="5208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Rockwell Extra Bold"/>
              </a:rPr>
              <a:t>ABREVIATUR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9355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Bradley Hand ITC"/>
              </a:rPr>
              <a:t>acto de se abrir um carr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3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3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045240" y="2245680"/>
            <a:ext cx="2745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Rockwell Extra Bold"/>
              </a:rPr>
              <a:t>LEILÃ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39355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6000" spc="-1" strike="noStrike">
                <a:solidFill>
                  <a:srgbClr val="ffffff"/>
                </a:solidFill>
                <a:latin typeface="Bradley Hand ITC"/>
              </a:rPr>
              <a:t>Leila com mais de 2 metros de altur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3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3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022560" y="2245680"/>
            <a:ext cx="2794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Rockwell Extra Bold"/>
              </a:rPr>
              <a:t>KARM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39355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Bradley Hand ITC"/>
              </a:rPr>
              <a:t>Expressão para evitar o pânic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3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3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999800" y="2245680"/>
            <a:ext cx="484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Rockwell Extra Bold"/>
              </a:rPr>
              <a:t>NOVAMENT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393552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Bradley Hand ITC"/>
              </a:rPr>
              <a:t>Diz-se de indivíduos que renovam a sua maneira de pensa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3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3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521800" y="2245680"/>
            <a:ext cx="3800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Rockwell Extra Bold"/>
              </a:rPr>
              <a:t>OBSCUR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39355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Bradley Hand ITC"/>
              </a:rPr>
              <a:t>Tampão na variedade de cor pret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3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3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96440" y="2245680"/>
            <a:ext cx="4258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Rockwell Extra Bold"/>
              </a:rPr>
              <a:t>PSICOPAT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3935520"/>
            <a:ext cx="9144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Bradley Hand ITC"/>
              </a:rPr>
              <a:t>Veterinário especialista em doenças mentais na fêmea do pat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3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3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550960" y="2245680"/>
            <a:ext cx="3751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Rockwell Extra Bold"/>
              </a:rPr>
              <a:t>QUARTZ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39355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6000" spc="-1" strike="noStrike">
                <a:solidFill>
                  <a:srgbClr val="ffffff"/>
                </a:solidFill>
                <a:latin typeface="Bradley Hand ITC"/>
              </a:rPr>
              <a:t>Partze ou apozentzo dum apartamentz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3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3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097440" y="2245680"/>
            <a:ext cx="2661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Rockwell Extra Bold"/>
              </a:rPr>
              <a:t>RAZÃ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39355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Bradley Hand ITC"/>
              </a:rPr>
              <a:t>Lago muito extenso, porém pouco profund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0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3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3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840040" y="2245680"/>
            <a:ext cx="3179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Rockwell Extra Bold"/>
              </a:rPr>
              <a:t>RODAPÉ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39355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Bradley Hand ITC"/>
              </a:rPr>
              <a:t>Aquele que tinha carro mas agora anda a pé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0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3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3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327040" y="2245680"/>
            <a:ext cx="4211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Rockwell Extra Bold"/>
              </a:rPr>
              <a:t>SEXÓLOG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393552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Bradley Hand ITC"/>
              </a:rPr>
              <a:t>Sexo apressad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0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3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3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599200" y="2245680"/>
            <a:ext cx="3670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Rockwell Extra Bold"/>
              </a:rPr>
              <a:t>SIMPATI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39355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Bradley Hand ITC"/>
              </a:rPr>
              <a:t>Concordando com a irmã da mã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0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3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3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941480" y="2245680"/>
            <a:ext cx="4903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Rockwell Extra Bold"/>
              </a:rPr>
              <a:t>AÇUCAREIR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393552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Bradley Hand ITC"/>
              </a:rPr>
              <a:t>Revendedor de açúcar que vende acima da tabel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3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3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679480" y="2245680"/>
            <a:ext cx="3513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Rockwell Extra Bold"/>
              </a:rPr>
              <a:t>TALENT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39355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Bradley Hand ITC"/>
              </a:rPr>
              <a:t>Característica alentejan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0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3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3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161160" y="2245680"/>
            <a:ext cx="2553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Rockwell Extra Bold"/>
              </a:rPr>
              <a:t>TÍPIC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39355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Bradley Hand ITC"/>
              </a:rPr>
              <a:t>O que o mosquito te faz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0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3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3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049920" y="2245680"/>
            <a:ext cx="2779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Rockwell Extra Bold"/>
              </a:rPr>
              <a:t>TRIGA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39355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Bradley Hand ITC"/>
              </a:rPr>
              <a:t>Cantora baiana elevada ao cub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3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3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786760" y="2245680"/>
            <a:ext cx="3303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Rockwell Extra Bold"/>
              </a:rPr>
              <a:t>VIDENT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39355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Bradley Hand ITC"/>
              </a:rPr>
              <a:t>Dentista falando sobre o seu trabalh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0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3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3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239640" y="2245680"/>
            <a:ext cx="2399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Rockwell Extra Bold"/>
              </a:rPr>
              <a:t>VIÚV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393552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Bradley Hand ITC"/>
              </a:rPr>
              <a:t>Acto de ver uv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0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3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3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785680" y="403920"/>
            <a:ext cx="343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Rockwell Extra Bold"/>
              </a:rPr>
              <a:t>ZUNZU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219384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Bradley Hand ITC"/>
              </a:rPr>
              <a:t>Na fórmula 1, momento em que o espectador percebe que os 2 líderes da prova acabaram de passar à sua frent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0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3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3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096640" y="2245680"/>
            <a:ext cx="4694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Rockwell Extra Bold"/>
              </a:rPr>
              <a:t>ZOOLÓGIC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39355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Bradley Hand ITC"/>
              </a:rPr>
              <a:t>Reunião de animais racionai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fill="hold">
                      <p:stCondLst>
                        <p:cond delay="0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3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3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503800" y="2245680"/>
            <a:ext cx="3783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Rockwell Extra Bold"/>
              </a:rPr>
              <a:t>ALOPATI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9355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Bradley Hand ITC"/>
              </a:rPr>
              <a:t>Dar um telefonema à ti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3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3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659680" y="2245680"/>
            <a:ext cx="347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Rockwell Extra Bold"/>
              </a:rPr>
              <a:t>AMADO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9355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Bradley Hand ITC"/>
              </a:rPr>
              <a:t>O mesmo que masoquist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3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3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432880" y="2245680"/>
            <a:ext cx="3926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Rockwell Extra Bold"/>
              </a:rPr>
              <a:t>BARBICH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93552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6000" spc="-1" strike="noStrike">
                <a:solidFill>
                  <a:srgbClr val="ffffff"/>
                </a:solidFill>
                <a:latin typeface="Bradley Hand ITC"/>
              </a:rPr>
              <a:t>Bar para paneleir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3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3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34160" y="2245680"/>
            <a:ext cx="4329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Rockwell Extra Bold"/>
              </a:rPr>
              <a:t>CAMINHÃ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93552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Bradley Hand ITC"/>
              </a:rPr>
              <a:t>Estrada muito grand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3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3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463120" y="2245680"/>
            <a:ext cx="3873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Rockwell Extra Bold"/>
              </a:rPr>
              <a:t>CANGUR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39355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Bradley Hand ITC"/>
              </a:rPr>
              <a:t>Líder espiritual para cã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3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3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99320" y="2245680"/>
            <a:ext cx="4206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Rockwell Extra Bold"/>
              </a:rPr>
              <a:t>CATÁLOG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39355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6000" spc="-1" strike="noStrike">
                <a:solidFill>
                  <a:srgbClr val="ffffff"/>
                </a:solidFill>
                <a:latin typeface="Bradley Hand ITC"/>
              </a:rPr>
              <a:t>Acto de se apanhar coisas ràpidament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3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3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2T16:01:11Z</dcterms:created>
  <dc:creator>Toshiba Tecra A3</dc:creator>
  <dc:description/>
  <dc:language>en-US</dc:language>
  <cp:lastModifiedBy>Toshiba Tecra A3</cp:lastModifiedBy>
  <dcterms:modified xsi:type="dcterms:W3CDTF">2007-02-25T01:18:01Z</dcterms:modified>
  <cp:revision>4</cp:revision>
  <dc:subject/>
  <dc:title>Diapositivo 1</dc:title>
</cp:coreProperties>
</file>