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D94-A963-43B4-B7F2-883C09BB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693-7E9D-4B34-88C6-AE07E6E7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DEF-2F3D-4CC6-AAF5-9AE46A4D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A11-67D0-49C6-876C-FEBE8D99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E00-A031-40FC-B036-4C465973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CF4-8178-4E5B-AB5D-BCC3EADC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344-1305-4EBE-BDE5-A6A7C54B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0BC-2336-4161-A864-6D8E2450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A5A-26DF-4934-99B3-BFFFA437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428-055D-4FD1-8ACE-631CCCCD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874-B7BA-4052-8C7B-064A0D8B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CE4-80AE-4047-AB1D-69B88D44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B29D-CA4B-4A8E-9E71-7C6BAE9DBA61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00280"/>
            <a:ext cx="91440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Rockwell Extra Bold"/>
              </a:rPr>
              <a:t>DICIONÁRIO AFRICA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38960" y="224568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OMBUST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Mulher com peito gra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69560" y="2245680"/>
            <a:ext cx="487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OMPUL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Qualquer pessoa com pulso gra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87000" y="2245680"/>
            <a:ext cx="444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DEPRES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Espécie de panela angusti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58280" y="2245680"/>
            <a:ext cx="43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DESTIL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quilo que não está do lado de l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65600" y="2245680"/>
            <a:ext cx="488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DETER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cto de se prender indivíduos suspeit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06720" y="2245680"/>
            <a:ext cx="28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ESF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nimal feroz amans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67040" y="2245680"/>
            <a:ext cx="308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EV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9355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Constatação de que realmente é vento e não brisa, furacão ou tornad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20160" y="2245680"/>
            <a:ext cx="51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FORNECE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Empresário ao ramo de agradar a masoquis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85720" y="2245680"/>
            <a:ext cx="405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GENITÁL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Órgão reprodutor dos italia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4600" y="2245680"/>
            <a:ext cx="578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HOMOSSEXU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9355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Detergente utilizado para lavar as partes íntim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87400" y="2245680"/>
            <a:ext cx="52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ABREVIAT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cto de se abrir um car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5240" y="2245680"/>
            <a:ext cx="274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LEIL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Bradley Hand ITC"/>
              </a:rPr>
              <a:t>Leila com mais de 2 metros de alt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22560" y="2245680"/>
            <a:ext cx="279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KAR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Expressão para evitar o pân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99800" y="2245680"/>
            <a:ext cx="484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NOVA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9355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Diz-se de indivíduos que renovam a sua maneira de pens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21800" y="2245680"/>
            <a:ext cx="380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OBSCU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Tampão na variedade de cor pre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96440" y="2245680"/>
            <a:ext cx="42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PSICOPA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355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Veterinário especialista em doenças mentais na fêmea do p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50960" y="2245680"/>
            <a:ext cx="375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QUARTZ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Bradley Hand ITC"/>
              </a:rPr>
              <a:t>Partze ou apozentzo dum apartamentz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97440" y="2245680"/>
            <a:ext cx="266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RAZ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Lago muito extenso, porém pouco prof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40040" y="2245680"/>
            <a:ext cx="317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RODAP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quele que tinha carro mas agora anda a p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27040" y="224568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SEXÓ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3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Sexo apress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99200" y="2245680"/>
            <a:ext cx="367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SIMPAT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Concordando com a irmã da mã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1480" y="2245680"/>
            <a:ext cx="490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AÇUCAREI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9355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Revendedor de açúcar que vende acima da tabe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79480" y="2245680"/>
            <a:ext cx="351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TAL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Característica alenteja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61160" y="2245680"/>
            <a:ext cx="255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TÍP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O que o mosquito te fa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920" y="2245680"/>
            <a:ext cx="277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TRIG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Cantora baiana elevada ao cub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86760" y="2245680"/>
            <a:ext cx="330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VID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Dentista falando sobre o seu trabalh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39640" y="2245680"/>
            <a:ext cx="23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VIÚ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93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cto de ver u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85680" y="40392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ZUNZ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193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Na fórmula 1, momento em que o espectador percebe que os 2 líderes da prova acabaram de passar à sua fr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96640" y="2245680"/>
            <a:ext cx="469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ZOOLÓG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Reunião de animais racion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3800" y="2245680"/>
            <a:ext cx="378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ALOPAT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Dar um telefonema à t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59680" y="2245680"/>
            <a:ext cx="34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AMA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O mesmo que masoquis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32880" y="2245680"/>
            <a:ext cx="392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BARBICH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3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Bradley Hand ITC"/>
              </a:rPr>
              <a:t>Bar para panelei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34160" y="2245680"/>
            <a:ext cx="43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AMINH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93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Estrada muito gra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3120" y="2245680"/>
            <a:ext cx="387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ANGUR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Líder espiritual para cã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99320" y="2245680"/>
            <a:ext cx="420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ATÁ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Bradley Hand ITC"/>
              </a:rPr>
              <a:t>Acto de se apanhar coisas ràpida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01:11Z</dcterms:created>
  <dc:creator>Toshiba Tecra A3</dc:creator>
  <dc:description/>
  <dc:language>en-US</dc:language>
  <cp:lastModifiedBy>Toshiba Tecra A3</cp:lastModifiedBy>
  <dcterms:modified xsi:type="dcterms:W3CDTF">2007-02-25T01:18:01Z</dcterms:modified>
  <cp:revision>4</cp:revision>
  <dc:subject/>
  <dc:title>Diapositivo 1</dc:title>
</cp:coreProperties>
</file>