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media/Love%20Story.wav" ContentType="audio/x-wav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11B-7CC2-4BFE-AE97-CB6BDEB9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A2A-AF90-4A4E-ADDD-7EAAAFCA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040-E294-4818-A828-69A87AC1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A4B0-A32B-4F99-B4BE-A76B0AC1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5C8-D1D6-4A7F-9C63-132A75E8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F20-381E-4BD2-B63E-22768A78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C6D-4E29-4643-9994-1DB7ED67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6651-DC18-4D16-8F62-43772A16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538A-7DBD-41A9-A2E8-C2A10CC4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F55-8247-44A0-B763-EC169E47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3AD-9C78-4482-901C-DC1E8469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86C1-FFBB-4A2D-9B4A-96EED8E3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7216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92E5-1F1A-4A81-BE88-E5D6D6E1AA9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Love%20Story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Imagen" descr="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42" name="Rectângulo 5"/>
          <p:cNvSpPr/>
          <p:nvPr/>
        </p:nvSpPr>
        <p:spPr>
          <a:xfrm>
            <a:off x="0" y="917640"/>
            <a:ext cx="9144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600" spc="-1" strike="noStrike" u="sng">
                <a:solidFill>
                  <a:srgbClr val="ffc000"/>
                </a:solidFill>
                <a:uFillTx/>
                <a:latin typeface="Fossil"/>
              </a:rPr>
              <a:t>PREDIÇÕ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m 8" descr="NOVA PAUTA IV.gif"/>
          <p:cNvPicPr/>
          <p:nvPr/>
        </p:nvPicPr>
        <p:blipFill>
          <a:blip r:embed="rId2"/>
          <a:stretch/>
        </p:blipFill>
        <p:spPr>
          <a:xfrm>
            <a:off x="2050920" y="4086360"/>
            <a:ext cx="5042160" cy="666720"/>
          </a:xfrm>
          <a:prstGeom prst="rect">
            <a:avLst/>
          </a:prstGeom>
          <a:ln w="0">
            <a:noFill/>
          </a:ln>
        </p:spPr>
      </p:pic>
      <p:sp>
        <p:nvSpPr>
          <p:cNvPr id="44" name="Rectângulo 9"/>
          <p:cNvSpPr/>
          <p:nvPr/>
        </p:nvSpPr>
        <p:spPr>
          <a:xfrm>
            <a:off x="0" y="4734000"/>
            <a:ext cx="914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ff0000"/>
                </a:solidFill>
                <a:uFillTx/>
                <a:latin typeface="Fossil"/>
              </a:rPr>
              <a:t>CLICAR SEMP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3" name="Love%20Stor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 Marcador de contenido" descr="4.jpg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58" name="4 CuadroTexto"/>
          <p:cNvSpPr/>
          <p:nvPr/>
        </p:nvSpPr>
        <p:spPr>
          <a:xfrm>
            <a:off x="0" y="519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O homem chegará a Ma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3 CuadroTexto"/>
          <p:cNvSpPr/>
          <p:nvPr/>
        </p:nvSpPr>
        <p:spPr>
          <a:xfrm>
            <a:off x="0" y="1422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O director da Divisão de Sistemas de Exploração Avançada da NASA, Jason Crusan, prevê que os astronautas poderão explorar os remotos vales de Marte graças à capacidade para produzir ar, combustível e água, o que poderá mudar para sempre a exploração espa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3 Marcador de contenido" descr="5.jpg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0" y="34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As decisões não voltarão a ser tomadas por pesso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3 CuadroTexto"/>
          <p:cNvSpPr/>
          <p:nvPr/>
        </p:nvSpPr>
        <p:spPr>
          <a:xfrm>
            <a:off x="0" y="1494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Entre os vaticínios seleccionados está também o de que as grandes decisões empresariais já não serão tomadas por peritos, mas sim por sistemas analíticos predictivos baseados em enormes e volumosas bases de d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3 Marcador de contenido" descr="6.jpg"/>
          <p:cNvPicPr/>
          <p:nvPr/>
        </p:nvPicPr>
        <p:blipFill>
          <a:blip r:embed="rId1"/>
          <a:stretch/>
        </p:blipFill>
        <p:spPr>
          <a:xfrm>
            <a:off x="0" y="1287360"/>
            <a:ext cx="9144000" cy="3861000"/>
          </a:xfrm>
          <a:prstGeom prst="rect">
            <a:avLst/>
          </a:prstGeom>
          <a:ln w="0">
            <a:noFill/>
          </a:ln>
        </p:spPr>
      </p:pic>
      <p:sp>
        <p:nvSpPr>
          <p:cNvPr id="64" name="4 CuadroTexto"/>
          <p:cNvSpPr/>
          <p:nvPr/>
        </p:nvSpPr>
        <p:spPr>
          <a:xfrm>
            <a:off x="0" y="414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Veículos autoconduzidos circularão por todas as v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3 CuadroTexto"/>
          <p:cNvSpPr/>
          <p:nvPr/>
        </p:nvSpPr>
        <p:spPr>
          <a:xfrm>
            <a:off x="0" y="1278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no campo do automóvel, 2020 ficará marcado para sempre, a julgar pelas palavras do vicepresidente executivo da Nissan, que prevê que a empresa venderá automóveis autoconduzidos em grande esca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3 Marcador de contenido" descr="7.jpg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67" name="4 CuadroTexto"/>
          <p:cNvSpPr/>
          <p:nvPr/>
        </p:nvSpPr>
        <p:spPr>
          <a:xfrm>
            <a:off x="0" y="34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Os estudantes serão controlados pelo seu pul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3 CuadroTexto"/>
          <p:cNvSpPr/>
          <p:nvPr/>
        </p:nvSpPr>
        <p:spPr>
          <a:xfrm>
            <a:off x="0" y="10620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Em 2028, os olhos e o pulso de um estudante serão barómetros utilizados pelos professores para determinar se os seus alunos estão ou não aprendendo. Isso é o que augura Terry Heick, ex-professor e director da organização TeachThought.com, que acredita que os mestres medirão as respostas biológicas dos seus estudantes para conhecer como interactuarem com o material educati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3 Marcador de contenido" descr="1.jpg"/>
          <p:cNvPicPr/>
          <p:nvPr/>
        </p:nvPicPr>
        <p:blipFill>
          <a:blip r:embed="rId1"/>
          <a:stretch/>
        </p:blipFill>
        <p:spPr>
          <a:xfrm>
            <a:off x="0" y="1276200"/>
            <a:ext cx="9180360" cy="3872160"/>
          </a:xfrm>
          <a:prstGeom prst="rect">
            <a:avLst/>
          </a:prstGeom>
          <a:ln w="0">
            <a:noFill/>
          </a:ln>
        </p:spPr>
      </p:pic>
      <p:sp>
        <p:nvSpPr>
          <p:cNvPr id="70" name="5 CuadroTexto"/>
          <p:cNvSpPr/>
          <p:nvPr/>
        </p:nvSpPr>
        <p:spPr>
          <a:xfrm>
            <a:off x="0" y="357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O teu melhor amigo será um compu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3 CuadroTexto"/>
          <p:cNvSpPr/>
          <p:nvPr/>
        </p:nvSpPr>
        <p:spPr>
          <a:xfrm>
            <a:off x="0" y="14940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Segundo Steve Wozniak, um dos fundadores da Apple, em 40 anos teremos computadores conscientes, dotados de sentimentos, e de personalidade própria. O teu melhor amigo será um computador. Falarás com ele. Ele olhará para a tua cara e saberá reconhecer o teu estado de ânimo. Conhecerá a tua alma e o teu coração melhor que tudo e to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 Marcador de contenido" descr="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46" name="4 Rectángulo" descr=""/>
          <p:cNvPicPr/>
          <p:nvPr/>
        </p:nvPicPr>
        <p:blipFill>
          <a:blip r:embed="rId2"/>
          <a:stretch/>
        </p:blipFill>
        <p:spPr>
          <a:xfrm>
            <a:off x="4297320" y="2224080"/>
            <a:ext cx="549360" cy="700200"/>
          </a:xfrm>
          <a:prstGeom prst="rect">
            <a:avLst/>
          </a:prstGeom>
          <a:ln w="0">
            <a:noFill/>
          </a:ln>
        </p:spPr>
      </p:pic>
      <p:sp>
        <p:nvSpPr>
          <p:cNvPr id="47" name="5 CuadroTexto"/>
          <p:cNvSpPr/>
          <p:nvPr/>
        </p:nvSpPr>
        <p:spPr>
          <a:xfrm>
            <a:off x="0" y="1601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Os finais de cada ano propiciam balanços e prognósticos futuristas, vindos de grandes visionários do momento, como os que se apresentam segui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3 Marcador de contenido" descr="2.jpg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73" name="4 CuadroTexto"/>
          <p:cNvSpPr/>
          <p:nvPr/>
        </p:nvSpPr>
        <p:spPr>
          <a:xfrm>
            <a:off x="0" y="412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Seremos jovens até à m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3 CuadroTexto"/>
          <p:cNvSpPr/>
          <p:nvPr/>
        </p:nvSpPr>
        <p:spPr>
          <a:xfrm>
            <a:off x="0" y="8460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George Church, genetista de Harvard, acredita que em 2050 teremos conseguido parar o envelhecimento. O ser humano será diferente. Hoje em dia produz-se um gran desperdício do ponto de vista económico: pasamos muito tempo formando-nos e aos 50 anos, quando alcançamos a máxima experiência, o corpo começa a falhar. Isto mudará quando conseguirmos reverter o envelhecimento. Hoje, já se pode inverter o envelhecimento de uma célula em laboratório. Quando conseguirmos fazê-lo no interior do corpo, seremos jovens até à mor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3 Marcador de contenido" descr="3.jpg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76" name="4 CuadroTexto"/>
          <p:cNvSpPr/>
          <p:nvPr/>
        </p:nvSpPr>
        <p:spPr>
          <a:xfrm>
            <a:off x="0" y="250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Aprenderás um idioma trazendo uma aplicação 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teu céreb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3 CuadroTexto"/>
          <p:cNvSpPr/>
          <p:nvPr/>
        </p:nvSpPr>
        <p:spPr>
          <a:xfrm>
            <a:off x="0" y="1349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Evan Henshaw-Plath contribuiu para a criação de uma das maiores revoluções da internet, o Twitter. Segundo ele, em 2050 a Internet estará nas nossas cabeças. Segundo ele, poderemos instalar uma língua nova no cérebro como instalamos uma aplicação no telemóvel. A linha divisória entre pessoas e computadores desaparecerá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3 Marcador de contenido" descr="4.jpg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79" name="4 CuadroTexto"/>
          <p:cNvSpPr/>
          <p:nvPr/>
        </p:nvSpPr>
        <p:spPr>
          <a:xfrm>
            <a:off x="0" y="195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Descobriremos que o cancro tem ligação com doenças infecciosas e as curare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3 CuadroTexto"/>
          <p:cNvSpPr/>
          <p:nvPr/>
        </p:nvSpPr>
        <p:spPr>
          <a:xfrm>
            <a:off x="0" y="6303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Manuel Patarroyo, prémio Príncipe de Astúrias e «pai» da vacina sintética contra a malária disse que trabalharemos até aos 80 anos. Antes enfrentávamos a mortalidade infantil, agora teremos que abordar a prevenção de doenças infecciosas. O prémio Nobel de medicina Harald zur Hausen, que descobriu o vírus da papiloma, afirma que, para o ano 2020, 60 por cento dos cancros estarão associados a doenças infecciosas, como vírus, bactérias, parasitas e fungos. Não sabemos se o cancro será vencido, mas sabemos que teremos controlado muitas doenças infecciosas associadas a e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3 Marcador de contenido" descr="5.jpg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0" y="466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Haverá uma espécie de licença para sermos p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CuadroTexto"/>
          <p:cNvSpPr/>
          <p:nvPr/>
        </p:nvSpPr>
        <p:spPr>
          <a:xfrm>
            <a:off x="0" y="4143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Andy Miah, professor de tecnologias emergentes e director do Instituto de futuros criativos na Escócia, augura que para sermos pais, teremos que superar certas provas. Dentro de dez anos, o homem modificará a sua biologia. Por exemplo, seleccionará os genes dos seus futuros filhos para eliminar a informação genética de certas doenças. Será capaz de aperfeiçoar a espécie humana, de influir na sua evolução. A paternidade será algo muito diferente. Hoje, para adoptar, há que passar uma série de exames impostos pela sociedade. Chegará o dia en que também haverá uma espécie de "exame para ser pai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3 Marcador de contenido" descr="6.jpg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85" name="4 CuadroTexto"/>
          <p:cNvSpPr/>
          <p:nvPr/>
        </p:nvSpPr>
        <p:spPr>
          <a:xfrm>
            <a:off x="0" y="195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O Facebook já não perguntará o que estás pensando. ELe saber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3 CuadroTexto"/>
          <p:cNvSpPr/>
          <p:nvPr/>
        </p:nvSpPr>
        <p:spPr>
          <a:xfrm>
            <a:off x="0" y="113364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A predicão do tecnólogo Javier Sirvent é bastante inquietante. Este perito acredita que a tecnologia controlará as pessonas. Viveremos ligados; não poderemos ir a nenhum lado sem que não se saiba. E isto nos obrigará a sermos bons cidadãos. Hoje já estamos todos geolocalizados. Há 15 anos, quem mais sabia da tua vida era a tua mãe; hoje são o Facebook e o Google. Em 2050, todos saberemos o que fazemos to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 Marcador de contenido" descr="1.jpg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49" name="4 CuadroTexto"/>
          <p:cNvSpPr/>
          <p:nvPr/>
        </p:nvSpPr>
        <p:spPr>
          <a:xfrm>
            <a:off x="0" y="412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O trabalho será feito por comput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3 Marcador de contenido" descr="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8" name="Imagem 5" descr="THE END I.gif"/>
          <p:cNvPicPr/>
          <p:nvPr/>
        </p:nvPicPr>
        <p:blipFill>
          <a:blip r:embed="rId2"/>
          <a:stretch/>
        </p:blipFill>
        <p:spPr>
          <a:xfrm>
            <a:off x="2862360" y="1649520"/>
            <a:ext cx="3419280" cy="1847880"/>
          </a:xfrm>
          <a:prstGeom prst="rect">
            <a:avLst/>
          </a:prstGeom>
          <a:ln w="0">
            <a:noFill/>
          </a:ln>
        </p:spPr>
      </p:pic>
      <p:sp>
        <p:nvSpPr>
          <p:cNvPr id="89" name="Rectângulo 6"/>
          <p:cNvSpPr/>
          <p:nvPr/>
        </p:nvSpPr>
        <p:spPr>
          <a:xfrm>
            <a:off x="0" y="48070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 u="sng">
                <a:solidFill>
                  <a:srgbClr val="000000"/>
                </a:solidFill>
                <a:uFillTx/>
                <a:latin typeface="Fossil"/>
              </a:rPr>
              <a:t>12 de Abril de 20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5 CuadroTexto"/>
          <p:cNvSpPr/>
          <p:nvPr/>
        </p:nvSpPr>
        <p:spPr>
          <a:xfrm>
            <a:off x="0" y="1494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O Washington Post colocou à cabeça das coisas mais interessantes sobre o futuro, que foram ditas nos últimos doze meses, a que dizia que os computadores e a inteligência artificial substituiriam 45 % dos trabalhos que existem nos Estados Uni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 Marcador de contenido" descr="2.jpg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52" name="4 CuadroTexto"/>
          <p:cNvSpPr/>
          <p:nvPr/>
        </p:nvSpPr>
        <p:spPr>
          <a:xfrm>
            <a:off x="0" y="412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Comeremos al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CuadroTexto"/>
          <p:cNvSpPr/>
          <p:nvPr/>
        </p:nvSpPr>
        <p:spPr>
          <a:xfrm>
            <a:off x="0" y="1709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O professor Jason Quinn, da Universidade Estatal do Utah, prognosticou um cultivo massivo de algas para a alimentação e para a produção de combustív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 Marcador de contenido" descr="3.jpg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55" name="4 CuadroTexto"/>
          <p:cNvSpPr/>
          <p:nvPr/>
        </p:nvSpPr>
        <p:spPr>
          <a:xfrm>
            <a:off x="0" y="466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Adeus aos antibió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3 CuadroTexto"/>
          <p:cNvSpPr/>
          <p:nvPr/>
        </p:nvSpPr>
        <p:spPr>
          <a:xfrm>
            <a:off x="0" y="113364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Thomas Frieden, director dos Centros para a Prevenção e Control de Doenças (PCD), afirma que se aproxima uma era "pós antibiótica". Por ano, 2 milhões de pessoas ficarão doentes e, de entre elas, umas 23.000 morrerão por causa de infecções resistentes aos antibióticos, de modo que o uso excessivo destes medicamentos será responsável por este pernicioso efe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21:29:50Z</dcterms:created>
  <dc:creator>PC</dc:creator>
  <dc:description/>
  <dc:language>en-US</dc:language>
  <cp:lastModifiedBy>PC</cp:lastModifiedBy>
  <dcterms:modified xsi:type="dcterms:W3CDTF">2014-04-12T22:37:04Z</dcterms:modified>
  <cp:revision>7</cp:revision>
  <dc:subject/>
  <dc:title>Diapositivo 1</dc:title>
</cp:coreProperties>
</file>