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gif" ContentType="image/gif"/>
  <Override PartName="/ppt/media/image6.png" ContentType="image/png"/>
  <Override PartName="/ppt/media/image7.jpeg" ContentType="image/jpeg"/>
  <Override PartName="/ppt/media/image1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Jhonny%20Mathis%20-%20And%20love%20yoy%20so.wav" ContentType="audio/x-wav"/>
  <Override PartName="/ppt/media/image10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6624-BE44-4E35-B2C4-293EC1DE9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110B-DE67-44DD-8BE0-0A2AFB554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5331-28F3-43C9-BF11-2F9A531B9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300B-0027-4652-A207-22C77533A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40AD-4D55-4991-91E0-3A91C0DB3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5F68-8FAF-46D3-9C18-1FF2B20B1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E2B3-35D7-475F-8F6C-DAE1155F2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69BC-5E94-4DB0-9693-D5630B5FD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114E-3671-43FB-AC3E-9B9338D0F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28F0-9229-462C-9DE7-6B97DC341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670A-AB2D-4EF0-929C-DF5A8B97F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A6E5-EF3B-488C-9270-40FB513C4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5AFCA-A909-4241-B63C-A22E4D5C6B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1.jpeg"/><Relationship Id="rId4" Type="http://schemas.openxmlformats.org/officeDocument/2006/relationships/image" Target="../media/image2.gif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2.gif"/><Relationship Id="rId11" Type="http://schemas.openxmlformats.org/officeDocument/2006/relationships/image" Target="../media/image2.gif"/><Relationship Id="rId12" Type="http://schemas.openxmlformats.org/officeDocument/2006/relationships/image" Target="../media/image2.gif"/><Relationship Id="rId13" Type="http://schemas.openxmlformats.org/officeDocument/2006/relationships/image" Target="../media/image2.gif"/><Relationship Id="rId14" Type="http://schemas.openxmlformats.org/officeDocument/2006/relationships/image" Target="../media/image2.gif"/><Relationship Id="rId15" Type="http://schemas.openxmlformats.org/officeDocument/2006/relationships/image" Target="../media/image2.gif"/><Relationship Id="rId16" Type="http://schemas.openxmlformats.org/officeDocument/2006/relationships/audio" Target="../media/Jhonny%20Mathis%20-%20And%20love%20yoy%20so.wav"/><Relationship Id="rId1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1.jpeg"/><Relationship Id="rId4" Type="http://schemas.openxmlformats.org/officeDocument/2006/relationships/image" Target="../media/image2.gif"/><Relationship Id="rId5" Type="http://schemas.openxmlformats.org/officeDocument/2006/relationships/image" Target="../media/image7.jpe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1.jpeg"/><Relationship Id="rId4" Type="http://schemas.openxmlformats.org/officeDocument/2006/relationships/image" Target="../media/image2.gif"/><Relationship Id="rId5" Type="http://schemas.openxmlformats.org/officeDocument/2006/relationships/image" Target="../media/image8.jpe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1.jpeg"/><Relationship Id="rId4" Type="http://schemas.openxmlformats.org/officeDocument/2006/relationships/image" Target="../media/image2.gif"/><Relationship Id="rId5" Type="http://schemas.openxmlformats.org/officeDocument/2006/relationships/image" Target="../media/image9.jpe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1.jpeg"/><Relationship Id="rId4" Type="http://schemas.openxmlformats.org/officeDocument/2006/relationships/image" Target="../media/image2.gif"/><Relationship Id="rId5" Type="http://schemas.openxmlformats.org/officeDocument/2006/relationships/image" Target="../media/image10.jpe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1.jpeg"/><Relationship Id="rId4" Type="http://schemas.openxmlformats.org/officeDocument/2006/relationships/image" Target="../media/image2.gif"/><Relationship Id="rId5" Type="http://schemas.openxmlformats.org/officeDocument/2006/relationships/image" Target="../media/image11.jpe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1.jpeg"/><Relationship Id="rId4" Type="http://schemas.openxmlformats.org/officeDocument/2006/relationships/image" Target="../media/image2.gif"/><Relationship Id="rId5" Type="http://schemas.openxmlformats.org/officeDocument/2006/relationships/image" Target="../media/image12.jpe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1.jpeg"/><Relationship Id="rId4" Type="http://schemas.openxmlformats.org/officeDocument/2006/relationships/image" Target="../media/image2.gif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hyperlink" Target="http://www.leticiathompson.net/" TargetMode="External"/><Relationship Id="rId10" Type="http://schemas.openxmlformats.org/officeDocument/2006/relationships/hyperlink" Target="mailto:bethnorling@globo.com" TargetMode="External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49360"/>
            <a:ext cx="7921440" cy="5759280"/>
          </a:xfrm>
          <a:custGeom>
            <a:avLst/>
            <a:gdLst>
              <a:gd name="textAreaLeft" fmla="*/ 678600 w 7921440"/>
              <a:gd name="textAreaRight" fmla="*/ 7242840 w 7921440"/>
              <a:gd name="textAreaTop" fmla="*/ 678600 h 5759280"/>
              <a:gd name="textAreaBottom" fmla="*/ 5080680 h 5759280"/>
            </a:gdLst>
            <a:ahLst/>
            <a:rect l="textAreaLeft" t="textAreaTop" r="textAreaRight" b="textAreaBottom"/>
            <a:pathLst>
              <a:path w="29709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6109" y="21600"/>
                </a:lnTo>
                <a:arcTo wR="3600" hR="3600" stAng="10800000" swAng="5400000"/>
                <a:lnTo>
                  <a:pt x="29709" y="3600"/>
                </a:lnTo>
                <a:arcTo wR="3600" hR="3600" stAng="5400000" swAng="5400000"/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84360" y="620640"/>
            <a:ext cx="7775280" cy="5616720"/>
          </a:xfrm>
          <a:custGeom>
            <a:avLst/>
            <a:gdLst>
              <a:gd name="textAreaLeft" fmla="*/ 661680 w 7775280"/>
              <a:gd name="textAreaRight" fmla="*/ 7113600 w 7775280"/>
              <a:gd name="textAreaTop" fmla="*/ 661680 h 5616720"/>
              <a:gd name="textAreaBottom" fmla="*/ 4955040 h 5616720"/>
            </a:gdLst>
            <a:ahLst/>
            <a:rect l="textAreaLeft" t="textAreaTop" r="textAreaRight" b="textAreaBottom"/>
            <a:pathLst>
              <a:path w="2990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6301" y="21600"/>
                </a:lnTo>
                <a:arcTo wR="3600" hR="3600" stAng="10800000" swAng="5400000"/>
                <a:lnTo>
                  <a:pt x="29901" y="3600"/>
                </a:lnTo>
                <a:arcTo wR="3600" hR="3600" stAng="5400000" swAng="5400000"/>
                <a:close/>
              </a:path>
            </a:pathLst>
          </a:custGeom>
          <a:blipFill rotWithShape="0">
            <a:blip r:embed="rId5"/>
            <a:srcRect/>
            <a:stretch/>
          </a:blip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 rot="2619600">
            <a:off x="294840" y="66240"/>
            <a:ext cx="1224000" cy="15908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 rot="1882200">
            <a:off x="7658280" y="5299200"/>
            <a:ext cx="1152360" cy="15904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8"/>
          <a:stretch/>
        </p:blipFill>
        <p:spPr>
          <a:xfrm>
            <a:off x="611280" y="4508640"/>
            <a:ext cx="1704960" cy="17049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9"/>
          <a:stretch/>
        </p:blipFill>
        <p:spPr>
          <a:xfrm>
            <a:off x="6877080" y="620640"/>
            <a:ext cx="1704960" cy="17049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1692360" y="3429000"/>
            <a:ext cx="5495760" cy="127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NÃO É BOM QUE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O HOMEM ESTEJA SÓ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627280" y="5373720"/>
            <a:ext cx="3467160" cy="48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8000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Letícia Thompson</a:t>
            </a:r>
            <a:endParaRPr b="0" i="1" lang="en-US" sz="2800" spc="1" strike="noStrike">
              <a:ln w="9360">
                <a:solidFill>
                  <a:srgbClr val="8000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11280" y="549360"/>
            <a:ext cx="7921440" cy="5759280"/>
          </a:xfrm>
          <a:custGeom>
            <a:avLst/>
            <a:gdLst>
              <a:gd name="textAreaLeft" fmla="*/ 678600 w 7921440"/>
              <a:gd name="textAreaRight" fmla="*/ 7242840 w 7921440"/>
              <a:gd name="textAreaTop" fmla="*/ 678600 h 5759280"/>
              <a:gd name="textAreaBottom" fmla="*/ 5080680 h 5759280"/>
            </a:gdLst>
            <a:ahLst/>
            <a:rect l="textAreaLeft" t="textAreaTop" r="textAreaRight" b="textAreaBottom"/>
            <a:pathLst>
              <a:path w="29709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6109" y="21600"/>
                </a:lnTo>
                <a:arcTo wR="3600" hR="3600" stAng="10800000" swAng="5400000"/>
                <a:lnTo>
                  <a:pt x="29709" y="3600"/>
                </a:lnTo>
                <a:arcTo wR="3600" hR="3600" stAng="5400000" swAng="5400000"/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620640"/>
            <a:ext cx="7775280" cy="5616720"/>
          </a:xfrm>
          <a:custGeom>
            <a:avLst/>
            <a:gdLst>
              <a:gd name="textAreaLeft" fmla="*/ 661680 w 7775280"/>
              <a:gd name="textAreaRight" fmla="*/ 7113600 w 7775280"/>
              <a:gd name="textAreaTop" fmla="*/ 661680 h 5616720"/>
              <a:gd name="textAreaBottom" fmla="*/ 4955040 h 5616720"/>
            </a:gdLst>
            <a:ahLst/>
            <a:rect l="textAreaLeft" t="textAreaTop" r="textAreaRight" b="textAreaBottom"/>
            <a:pathLst>
              <a:path w="2990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6301" y="21600"/>
                </a:lnTo>
                <a:arcTo wR="3600" hR="3600" stAng="10800000" swAng="5400000"/>
                <a:lnTo>
                  <a:pt x="29901" y="3600"/>
                </a:lnTo>
                <a:arcTo wR="3600" hR="3600" stAng="5400000" swAng="5400000"/>
                <a:close/>
              </a:path>
            </a:pathLst>
          </a:custGeom>
          <a:blipFill rotWithShape="0">
            <a:blip r:embed="rId5"/>
            <a:srcRect/>
            <a:stretch/>
          </a:blip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6"/>
          <a:stretch/>
        </p:blipFill>
        <p:spPr>
          <a:xfrm rot="2619600">
            <a:off x="294840" y="66240"/>
            <a:ext cx="1224000" cy="15908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7"/>
          <a:stretch/>
        </p:blipFill>
        <p:spPr>
          <a:xfrm rot="1882200">
            <a:off x="7658280" y="5299200"/>
            <a:ext cx="1152360" cy="15904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8"/>
          <a:stretch/>
        </p:blipFill>
        <p:spPr>
          <a:xfrm>
            <a:off x="611280" y="4508640"/>
            <a:ext cx="1704960" cy="17049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9"/>
          <a:stretch/>
        </p:blipFill>
        <p:spPr>
          <a:xfrm>
            <a:off x="6877080" y="620640"/>
            <a:ext cx="1704960" cy="17049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023840" y="3213000"/>
            <a:ext cx="71485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A mulher faz parte do alicerce do mundo, é flor que foi criada depois que todas as flores já existiam, porque olhando à Sua volta o Senhor nada encontrou que satisfizesse Seu coração para dar ao homem uma companhia. Nem estrelas, nem o infinito, nem os campos e todas as coisas criad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7000">
    <p:wheel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8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11280" y="549360"/>
            <a:ext cx="7921440" cy="5759280"/>
          </a:xfrm>
          <a:custGeom>
            <a:avLst/>
            <a:gdLst>
              <a:gd name="textAreaLeft" fmla="*/ 678600 w 7921440"/>
              <a:gd name="textAreaRight" fmla="*/ 7242840 w 7921440"/>
              <a:gd name="textAreaTop" fmla="*/ 678600 h 5759280"/>
              <a:gd name="textAreaBottom" fmla="*/ 5080680 h 5759280"/>
            </a:gdLst>
            <a:ahLst/>
            <a:rect l="textAreaLeft" t="textAreaTop" r="textAreaRight" b="textAreaBottom"/>
            <a:pathLst>
              <a:path w="29709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6109" y="21600"/>
                </a:lnTo>
                <a:arcTo wR="3600" hR="3600" stAng="10800000" swAng="5400000"/>
                <a:lnTo>
                  <a:pt x="29709" y="3600"/>
                </a:lnTo>
                <a:arcTo wR="3600" hR="3600" stAng="5400000" swAng="5400000"/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620640"/>
            <a:ext cx="7775280" cy="5616720"/>
          </a:xfrm>
          <a:custGeom>
            <a:avLst/>
            <a:gdLst>
              <a:gd name="textAreaLeft" fmla="*/ 661680 w 7775280"/>
              <a:gd name="textAreaRight" fmla="*/ 7113600 w 7775280"/>
              <a:gd name="textAreaTop" fmla="*/ 661680 h 5616720"/>
              <a:gd name="textAreaBottom" fmla="*/ 4955040 h 5616720"/>
            </a:gdLst>
            <a:ahLst/>
            <a:rect l="textAreaLeft" t="textAreaTop" r="textAreaRight" b="textAreaBottom"/>
            <a:pathLst>
              <a:path w="2990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6301" y="21600"/>
                </a:lnTo>
                <a:arcTo wR="3600" hR="3600" stAng="10800000" swAng="5400000"/>
                <a:lnTo>
                  <a:pt x="29901" y="3600"/>
                </a:lnTo>
                <a:arcTo wR="3600" hR="3600" stAng="5400000" swAng="5400000"/>
                <a:close/>
              </a:path>
            </a:pathLst>
          </a:custGeom>
          <a:blipFill rotWithShape="0">
            <a:blip r:embed="rId5"/>
            <a:srcRect/>
            <a:stretch/>
          </a:blip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6"/>
          <a:stretch/>
        </p:blipFill>
        <p:spPr>
          <a:xfrm rot="2619600">
            <a:off x="294840" y="66240"/>
            <a:ext cx="1224000" cy="15908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7"/>
          <a:stretch/>
        </p:blipFill>
        <p:spPr>
          <a:xfrm rot="1882200">
            <a:off x="7658280" y="5299200"/>
            <a:ext cx="1152360" cy="15904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8"/>
          <a:stretch/>
        </p:blipFill>
        <p:spPr>
          <a:xfrm>
            <a:off x="611280" y="4508640"/>
            <a:ext cx="1704960" cy="1704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9"/>
          <a:stretch/>
        </p:blipFill>
        <p:spPr>
          <a:xfrm>
            <a:off x="6877080" y="620640"/>
            <a:ext cx="1704960" cy="17049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095480" y="3429000"/>
            <a:ext cx="6789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E foi com delicadeza, carinho e certamente muito amor que Ele a moldou, sendo inspirado pelo belo que existia, de maneira que estivesse ao lado do homem para que este sentisse que o que faltava nele, ela completa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6000">
    <p:wheel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8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8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8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11280" y="549360"/>
            <a:ext cx="7921440" cy="5759280"/>
          </a:xfrm>
          <a:custGeom>
            <a:avLst/>
            <a:gdLst>
              <a:gd name="textAreaLeft" fmla="*/ 678600 w 7921440"/>
              <a:gd name="textAreaRight" fmla="*/ 7242840 w 7921440"/>
              <a:gd name="textAreaTop" fmla="*/ 678600 h 5759280"/>
              <a:gd name="textAreaBottom" fmla="*/ 5080680 h 5759280"/>
            </a:gdLst>
            <a:ahLst/>
            <a:rect l="textAreaLeft" t="textAreaTop" r="textAreaRight" b="textAreaBottom"/>
            <a:pathLst>
              <a:path w="29709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6109" y="21600"/>
                </a:lnTo>
                <a:arcTo wR="3600" hR="3600" stAng="10800000" swAng="5400000"/>
                <a:lnTo>
                  <a:pt x="29709" y="3600"/>
                </a:lnTo>
                <a:arcTo wR="3600" hR="3600" stAng="5400000" swAng="5400000"/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84360" y="620640"/>
            <a:ext cx="7775280" cy="5616720"/>
          </a:xfrm>
          <a:custGeom>
            <a:avLst/>
            <a:gdLst>
              <a:gd name="textAreaLeft" fmla="*/ 661680 w 7775280"/>
              <a:gd name="textAreaRight" fmla="*/ 7113600 w 7775280"/>
              <a:gd name="textAreaTop" fmla="*/ 661680 h 5616720"/>
              <a:gd name="textAreaBottom" fmla="*/ 4955040 h 5616720"/>
            </a:gdLst>
            <a:ahLst/>
            <a:rect l="textAreaLeft" t="textAreaTop" r="textAreaRight" b="textAreaBottom"/>
            <a:pathLst>
              <a:path w="2990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6301" y="21600"/>
                </a:lnTo>
                <a:arcTo wR="3600" hR="3600" stAng="10800000" swAng="5400000"/>
                <a:lnTo>
                  <a:pt x="29901" y="3600"/>
                </a:lnTo>
                <a:arcTo wR="3600" hR="3600" stAng="5400000" swAng="5400000"/>
                <a:close/>
              </a:path>
            </a:pathLst>
          </a:custGeom>
          <a:blipFill rotWithShape="0">
            <a:blip r:embed="rId5"/>
            <a:srcRect/>
            <a:stretch/>
          </a:blip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6"/>
          <a:stretch/>
        </p:blipFill>
        <p:spPr>
          <a:xfrm rot="2619600">
            <a:off x="294840" y="66240"/>
            <a:ext cx="1224000" cy="15908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7"/>
          <a:stretch/>
        </p:blipFill>
        <p:spPr>
          <a:xfrm rot="1882200">
            <a:off x="7658280" y="5299200"/>
            <a:ext cx="1152360" cy="1590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8"/>
          <a:stretch/>
        </p:blipFill>
        <p:spPr>
          <a:xfrm>
            <a:off x="611280" y="4508640"/>
            <a:ext cx="1704960" cy="17049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9"/>
          <a:stretch/>
        </p:blipFill>
        <p:spPr>
          <a:xfrm>
            <a:off x="6877080" y="620640"/>
            <a:ext cx="1704960" cy="170496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166760" y="3213000"/>
            <a:ext cx="6861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E talvez seja por ter sido o ponto final de toda criação que ela veio assim diferente, voluntária, com uma sensibilidade mais aguçada, um pouco de manha, pensando com o coração, forte o bastante para gerar filhos e dar continuidade ao mund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4000">
    <p:wheel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8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8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8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8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549360"/>
            <a:ext cx="7921440" cy="5759280"/>
          </a:xfrm>
          <a:custGeom>
            <a:avLst/>
            <a:gdLst>
              <a:gd name="textAreaLeft" fmla="*/ 678600 w 7921440"/>
              <a:gd name="textAreaRight" fmla="*/ 7242840 w 7921440"/>
              <a:gd name="textAreaTop" fmla="*/ 678600 h 5759280"/>
              <a:gd name="textAreaBottom" fmla="*/ 5080680 h 5759280"/>
            </a:gdLst>
            <a:ahLst/>
            <a:rect l="textAreaLeft" t="textAreaTop" r="textAreaRight" b="textAreaBottom"/>
            <a:pathLst>
              <a:path w="29709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6109" y="21600"/>
                </a:lnTo>
                <a:arcTo wR="3600" hR="3600" stAng="10800000" swAng="5400000"/>
                <a:lnTo>
                  <a:pt x="29709" y="3600"/>
                </a:lnTo>
                <a:arcTo wR="3600" hR="3600" stAng="5400000" swAng="5400000"/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4360" y="620640"/>
            <a:ext cx="7775280" cy="5616720"/>
          </a:xfrm>
          <a:custGeom>
            <a:avLst/>
            <a:gdLst>
              <a:gd name="textAreaLeft" fmla="*/ 661680 w 7775280"/>
              <a:gd name="textAreaRight" fmla="*/ 7113600 w 7775280"/>
              <a:gd name="textAreaTop" fmla="*/ 661680 h 5616720"/>
              <a:gd name="textAreaBottom" fmla="*/ 4955040 h 5616720"/>
            </a:gdLst>
            <a:ahLst/>
            <a:rect l="textAreaLeft" t="textAreaTop" r="textAreaRight" b="textAreaBottom"/>
            <a:pathLst>
              <a:path w="2990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6301" y="21600"/>
                </a:lnTo>
                <a:arcTo wR="3600" hR="3600" stAng="10800000" swAng="5400000"/>
                <a:lnTo>
                  <a:pt x="29901" y="3600"/>
                </a:lnTo>
                <a:arcTo wR="3600" hR="3600" stAng="5400000" swAng="5400000"/>
                <a:close/>
              </a:path>
            </a:pathLst>
          </a:custGeom>
          <a:blipFill rotWithShape="0">
            <a:blip r:embed="rId5"/>
            <a:srcRect/>
            <a:stretch/>
          </a:blip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6"/>
          <a:stretch/>
        </p:blipFill>
        <p:spPr>
          <a:xfrm rot="2619600">
            <a:off x="294840" y="66240"/>
            <a:ext cx="1224000" cy="15908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7"/>
          <a:stretch/>
        </p:blipFill>
        <p:spPr>
          <a:xfrm rot="1882200">
            <a:off x="7658280" y="5299200"/>
            <a:ext cx="1152360" cy="15904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8"/>
          <a:stretch/>
        </p:blipFill>
        <p:spPr>
          <a:xfrm>
            <a:off x="611280" y="4508640"/>
            <a:ext cx="1704960" cy="17049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9"/>
          <a:stretch/>
        </p:blipFill>
        <p:spPr>
          <a:xfrm>
            <a:off x="6877080" y="620640"/>
            <a:ext cx="1704960" cy="17049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095480" y="3789360"/>
            <a:ext cx="7221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Imperfeita tanto quanto se pode ser, construiu e constrói a história, ora trazendo perdição, ora a salvação, mas sempre e sempre caminhando na busca de um lugar que lhe foi dado por direito desde o iníc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4000">
    <p:wheel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8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8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8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11280" y="549360"/>
            <a:ext cx="7921440" cy="5759280"/>
          </a:xfrm>
          <a:custGeom>
            <a:avLst/>
            <a:gdLst>
              <a:gd name="textAreaLeft" fmla="*/ 678600 w 7921440"/>
              <a:gd name="textAreaRight" fmla="*/ 7242840 w 7921440"/>
              <a:gd name="textAreaTop" fmla="*/ 678600 h 5759280"/>
              <a:gd name="textAreaBottom" fmla="*/ 5080680 h 5759280"/>
            </a:gdLst>
            <a:ahLst/>
            <a:rect l="textAreaLeft" t="textAreaTop" r="textAreaRight" b="textAreaBottom"/>
            <a:pathLst>
              <a:path w="29709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6109" y="21600"/>
                </a:lnTo>
                <a:arcTo wR="3600" hR="3600" stAng="10800000" swAng="5400000"/>
                <a:lnTo>
                  <a:pt x="29709" y="3600"/>
                </a:lnTo>
                <a:arcTo wR="3600" hR="3600" stAng="5400000" swAng="5400000"/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84360" y="620640"/>
            <a:ext cx="7775280" cy="5616720"/>
          </a:xfrm>
          <a:custGeom>
            <a:avLst/>
            <a:gdLst>
              <a:gd name="textAreaLeft" fmla="*/ 661680 w 7775280"/>
              <a:gd name="textAreaRight" fmla="*/ 7113600 w 7775280"/>
              <a:gd name="textAreaTop" fmla="*/ 661680 h 5616720"/>
              <a:gd name="textAreaBottom" fmla="*/ 4955040 h 5616720"/>
            </a:gdLst>
            <a:ahLst/>
            <a:rect l="textAreaLeft" t="textAreaTop" r="textAreaRight" b="textAreaBottom"/>
            <a:pathLst>
              <a:path w="2990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6301" y="21600"/>
                </a:lnTo>
                <a:arcTo wR="3600" hR="3600" stAng="10800000" swAng="5400000"/>
                <a:lnTo>
                  <a:pt x="29901" y="3600"/>
                </a:lnTo>
                <a:arcTo wR="3600" hR="3600" stAng="5400000" swAng="5400000"/>
                <a:close/>
              </a:path>
            </a:pathLst>
          </a:custGeom>
          <a:blipFill rotWithShape="0">
            <a:blip r:embed="rId5"/>
            <a:srcRect/>
            <a:stretch/>
          </a:blip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6"/>
          <a:stretch/>
        </p:blipFill>
        <p:spPr>
          <a:xfrm rot="2619600">
            <a:off x="294840" y="66240"/>
            <a:ext cx="1224000" cy="15908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7"/>
          <a:stretch/>
        </p:blipFill>
        <p:spPr>
          <a:xfrm rot="1882200">
            <a:off x="7658280" y="5299200"/>
            <a:ext cx="1152360" cy="15904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8"/>
          <a:stretch/>
        </p:blipFill>
        <p:spPr>
          <a:xfrm>
            <a:off x="611280" y="4508640"/>
            <a:ext cx="1704960" cy="17049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9"/>
          <a:stretch/>
        </p:blipFill>
        <p:spPr>
          <a:xfrm>
            <a:off x="6877080" y="620640"/>
            <a:ext cx="1704960" cy="17049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023840" y="3141720"/>
            <a:ext cx="7148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a50021"/>
                </a:solidFill>
                <a:latin typeface="Arial"/>
              </a:rPr>
              <a:t>Maliciosa, consegue o que quer com doçura, como as flores que atraem as abelhas mais avisadas, deixando à elas no final a impressão de serem as grandes e fortes vencedor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a50021"/>
                </a:solidFill>
                <a:latin typeface="Arial"/>
              </a:rPr>
              <a:t>E ela ainda ri... com o peito cheio de ternura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4000">
    <p:wheel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8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11280" y="549360"/>
            <a:ext cx="7921440" cy="5759280"/>
          </a:xfrm>
          <a:custGeom>
            <a:avLst/>
            <a:gdLst>
              <a:gd name="textAreaLeft" fmla="*/ 678600 w 7921440"/>
              <a:gd name="textAreaRight" fmla="*/ 7242840 w 7921440"/>
              <a:gd name="textAreaTop" fmla="*/ 678600 h 5759280"/>
              <a:gd name="textAreaBottom" fmla="*/ 5080680 h 5759280"/>
            </a:gdLst>
            <a:ahLst/>
            <a:rect l="textAreaLeft" t="textAreaTop" r="textAreaRight" b="textAreaBottom"/>
            <a:pathLst>
              <a:path w="29709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6109" y="21600"/>
                </a:lnTo>
                <a:arcTo wR="3600" hR="3600" stAng="10800000" swAng="5400000"/>
                <a:lnTo>
                  <a:pt x="29709" y="3600"/>
                </a:lnTo>
                <a:arcTo wR="3600" hR="3600" stAng="5400000" swAng="5400000"/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84360" y="620640"/>
            <a:ext cx="7775280" cy="5616720"/>
          </a:xfrm>
          <a:custGeom>
            <a:avLst/>
            <a:gdLst>
              <a:gd name="textAreaLeft" fmla="*/ 661680 w 7775280"/>
              <a:gd name="textAreaRight" fmla="*/ 7113600 w 7775280"/>
              <a:gd name="textAreaTop" fmla="*/ 661680 h 5616720"/>
              <a:gd name="textAreaBottom" fmla="*/ 4955040 h 5616720"/>
            </a:gdLst>
            <a:ahLst/>
            <a:rect l="textAreaLeft" t="textAreaTop" r="textAreaRight" b="textAreaBottom"/>
            <a:pathLst>
              <a:path w="2990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6301" y="21600"/>
                </a:lnTo>
                <a:arcTo wR="3600" hR="3600" stAng="10800000" swAng="5400000"/>
                <a:lnTo>
                  <a:pt x="29901" y="3600"/>
                </a:lnTo>
                <a:arcTo wR="3600" hR="3600" stAng="5400000" swAng="5400000"/>
                <a:close/>
              </a:path>
            </a:pathLst>
          </a:custGeom>
          <a:blipFill rotWithShape="0">
            <a:blip r:embed="rId5"/>
            <a:srcRect/>
            <a:stretch/>
          </a:blip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6"/>
          <a:stretch/>
        </p:blipFill>
        <p:spPr>
          <a:xfrm rot="2619600">
            <a:off x="294840" y="66240"/>
            <a:ext cx="1224000" cy="15908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 rot="1882200">
            <a:off x="7658280" y="5299200"/>
            <a:ext cx="1152360" cy="15904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8"/>
          <a:stretch/>
        </p:blipFill>
        <p:spPr>
          <a:xfrm>
            <a:off x="611280" y="4508640"/>
            <a:ext cx="1704960" cy="17049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9"/>
          <a:stretch/>
        </p:blipFill>
        <p:spPr>
          <a:xfrm>
            <a:off x="6877080" y="620640"/>
            <a:ext cx="1704960" cy="17049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095480" y="3860640"/>
            <a:ext cx="7076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Pérola reconstruída à poder de dores, ela encanta o mundo, resgata sonhos perdidos e traz esperança à terra a cada grito, cada raio de luz que vai espalhando, prometendo à terra um novo amanhã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4000">
    <p:wheel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8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8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8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8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11280" y="549360"/>
            <a:ext cx="7921440" cy="5759280"/>
          </a:xfrm>
          <a:custGeom>
            <a:avLst/>
            <a:gdLst>
              <a:gd name="textAreaLeft" fmla="*/ 678600 w 7921440"/>
              <a:gd name="textAreaRight" fmla="*/ 7242840 w 7921440"/>
              <a:gd name="textAreaTop" fmla="*/ 678600 h 5759280"/>
              <a:gd name="textAreaBottom" fmla="*/ 5080680 h 5759280"/>
            </a:gdLst>
            <a:ahLst/>
            <a:rect l="textAreaLeft" t="textAreaTop" r="textAreaRight" b="textAreaBottom"/>
            <a:pathLst>
              <a:path w="29709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6109" y="21600"/>
                </a:lnTo>
                <a:arcTo wR="3600" hR="3600" stAng="10800000" swAng="5400000"/>
                <a:lnTo>
                  <a:pt x="29709" y="3600"/>
                </a:lnTo>
                <a:arcTo wR="3600" hR="3600" stAng="5400000" swAng="5400000"/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84360" y="620640"/>
            <a:ext cx="7775280" cy="5616720"/>
          </a:xfrm>
          <a:custGeom>
            <a:avLst/>
            <a:gdLst>
              <a:gd name="textAreaLeft" fmla="*/ 661680 w 7775280"/>
              <a:gd name="textAreaRight" fmla="*/ 7113600 w 7775280"/>
              <a:gd name="textAreaTop" fmla="*/ 661680 h 5616720"/>
              <a:gd name="textAreaBottom" fmla="*/ 4955040 h 5616720"/>
            </a:gdLst>
            <a:ahLst/>
            <a:rect l="textAreaLeft" t="textAreaTop" r="textAreaRight" b="textAreaBottom"/>
            <a:pathLst>
              <a:path w="2990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6301" y="21600"/>
                </a:lnTo>
                <a:arcTo wR="3600" hR="3600" stAng="10800000" swAng="5400000"/>
                <a:lnTo>
                  <a:pt x="29901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75465e"/>
              </a:gs>
              <a:gs pos="50000">
                <a:srgbClr val="ff99cc"/>
              </a:gs>
              <a:gs pos="100000">
                <a:srgbClr val="75465e"/>
              </a:gs>
            </a:gsLst>
            <a:lin ang="13500000"/>
          </a:gra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 rot="2619600">
            <a:off x="294840" y="66240"/>
            <a:ext cx="1224000" cy="15908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6"/>
          <a:stretch/>
        </p:blipFill>
        <p:spPr>
          <a:xfrm rot="1882200">
            <a:off x="7658280" y="5299200"/>
            <a:ext cx="1152360" cy="15904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7"/>
          <a:stretch/>
        </p:blipFill>
        <p:spPr>
          <a:xfrm>
            <a:off x="611280" y="4508640"/>
            <a:ext cx="1704960" cy="17049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8"/>
          <a:stretch/>
        </p:blipFill>
        <p:spPr>
          <a:xfrm>
            <a:off x="6877080" y="620640"/>
            <a:ext cx="1704960" cy="17049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527120" y="1773360"/>
            <a:ext cx="61405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a50021"/>
                </a:solidFill>
                <a:latin typeface="Arial"/>
              </a:rPr>
              <a:t>Crédit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a50021"/>
                </a:solidFill>
                <a:latin typeface="Arial"/>
              </a:rPr>
              <a:t>Texto: Letícia Thompson – Não é bom que o homem esteja só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a50021"/>
                </a:solidFill>
                <a:uFillTx/>
                <a:latin typeface="Arial"/>
                <a:hlinkClick r:id="rId9"/>
              </a:rPr>
              <a:t>www.leticiathompson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a50021"/>
                </a:solidFill>
                <a:latin typeface="Arial"/>
              </a:rPr>
              <a:t>Imagens: 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a50021"/>
                </a:solidFill>
                <a:latin typeface="Arial"/>
              </a:rPr>
              <a:t>Música: </a:t>
            </a: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Johnny Mathis – And love you 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a50021"/>
                </a:solidFill>
                <a:latin typeface="Arial"/>
              </a:rPr>
              <a:t>Formatação: Beth Nor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a50021"/>
                </a:solidFill>
                <a:latin typeface="Arial"/>
              </a:rPr>
              <a:t>E-mail: </a:t>
            </a:r>
            <a:r>
              <a:rPr b="0" lang="pt-BR" sz="2000" spc="-1" strike="noStrike" u="sng">
                <a:solidFill>
                  <a:srgbClr val="a50021"/>
                </a:solidFill>
                <a:uFillTx/>
                <a:latin typeface="Arial"/>
                <a:hlinkClick r:id="rId10"/>
              </a:rPr>
              <a:t>bethnorling@globo.com</a:t>
            </a:r>
            <a:r>
              <a:rPr b="1" lang="pt-BR" sz="2000" spc="-1" strike="noStrike">
                <a:solidFill>
                  <a:srgbClr val="a50021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4000">
    <p:wheel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7T11:33:23Z</dcterms:created>
  <dc:creator>Beth Norling</dc:creator>
  <dc:description/>
  <dc:language>en-US</dc:language>
  <cp:lastModifiedBy>Beth Norling</cp:lastModifiedBy>
  <dcterms:modified xsi:type="dcterms:W3CDTF">2007-03-07T12:40:22Z</dcterms:modified>
  <cp:revision>5</cp:revision>
  <dc:subject/>
  <dc:title>Nao_e_bom_que_o_homem_esteja_so</dc:title>
</cp:coreProperties>
</file>