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Jhonny%20Mathis%20-%20And%20love%20yoy%20so.wav" ContentType="audio/x-wav"/>
  <Override PartName="/ppt/media/image10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D55D-F722-43F9-A707-B95FFABE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C9E-C150-42D4-8F50-437725AC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BE1-6721-49B0-86CB-57355F51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C79-7C13-44DA-A827-0CA0677A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CD5-F79E-4B4C-BC4A-94A5355A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26A-4713-4000-A4CD-19B542FE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321-26F9-4635-AAB9-FB3E2F16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3DE-1DE2-4AF0-B5EE-55B75CD6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A57-C92F-4C70-AC01-C8DA2B87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1D8-A298-4785-9D3C-C17526C2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0D9-DD14-4BFE-A941-1ECCA81A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9614-F0D4-4D07-A2CD-F795CE1C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BCC3-04C8-46A6-9B3D-A3651ACCD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audio" Target="../media/Jhonny%20Mathis%20-%20And%20love%20yoy%20so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7.jpe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8.jpe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9.jpe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0.jpe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1.jpe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2.jpe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hyperlink" Target="http://www.leticiathompson.net/" TargetMode="External"/><Relationship Id="rId10" Type="http://schemas.openxmlformats.org/officeDocument/2006/relationships/hyperlink" Target="mailto:bethnorling@globo.com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49360"/>
            <a:ext cx="7921440" cy="5759280"/>
          </a:xfrm>
          <a:custGeom>
            <a:avLst/>
            <a:gdLst>
              <a:gd name="textAreaLeft" fmla="*/ 678600 w 7921440"/>
              <a:gd name="textAreaRight" fmla="*/ 7242840 w 792144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297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09" y="21600"/>
                </a:lnTo>
                <a:arcTo wR="3600" hR="3600" stAng="10800000" swAng="5400000"/>
                <a:lnTo>
                  <a:pt x="2970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620640"/>
            <a:ext cx="7775280" cy="5616720"/>
          </a:xfrm>
          <a:custGeom>
            <a:avLst/>
            <a:gdLst>
              <a:gd name="textAreaLeft" fmla="*/ 661680 w 7775280"/>
              <a:gd name="textAreaRight" fmla="*/ 7113600 w 777528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99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301" y="21600"/>
                </a:lnTo>
                <a:arcTo wR="3600" hR="3600" stAng="10800000" swAng="5400000"/>
                <a:lnTo>
                  <a:pt x="29901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2619600">
            <a:off x="294840" y="66240"/>
            <a:ext cx="1224000" cy="1590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rot="1882200">
            <a:off x="7658280" y="5299200"/>
            <a:ext cx="1152360" cy="1590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877080" y="62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692360" y="3429000"/>
            <a:ext cx="54957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ÃO É BOM QUE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 HOMEM ESTEJA SÓ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27280" y="5373720"/>
            <a:ext cx="34671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549360"/>
            <a:ext cx="7921440" cy="5759280"/>
          </a:xfrm>
          <a:custGeom>
            <a:avLst/>
            <a:gdLst>
              <a:gd name="textAreaLeft" fmla="*/ 678600 w 7921440"/>
              <a:gd name="textAreaRight" fmla="*/ 7242840 w 792144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297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09" y="21600"/>
                </a:lnTo>
                <a:arcTo wR="3600" hR="3600" stAng="10800000" swAng="5400000"/>
                <a:lnTo>
                  <a:pt x="2970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620640"/>
            <a:ext cx="7775280" cy="5616720"/>
          </a:xfrm>
          <a:custGeom>
            <a:avLst/>
            <a:gdLst>
              <a:gd name="textAreaLeft" fmla="*/ 661680 w 7775280"/>
              <a:gd name="textAreaRight" fmla="*/ 7113600 w 777528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99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301" y="21600"/>
                </a:lnTo>
                <a:arcTo wR="3600" hR="3600" stAng="10800000" swAng="5400000"/>
                <a:lnTo>
                  <a:pt x="29901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 rot="2619600">
            <a:off x="294840" y="66240"/>
            <a:ext cx="1224000" cy="1590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 rot="1882200">
            <a:off x="7658280" y="5299200"/>
            <a:ext cx="1152360" cy="1590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877080" y="62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23840" y="3213000"/>
            <a:ext cx="714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A mulher faz parte do alicerce do mundo, é flor que foi criada depois que todas as flores já existiam, porque olhando à Sua volta o Senhor nada encontrou que satisfizesse Seu coração para dar ao homem uma companhia. Nem estrelas, nem o infinito, nem os campos e todas as coisas cr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wheel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549360"/>
            <a:ext cx="7921440" cy="5759280"/>
          </a:xfrm>
          <a:custGeom>
            <a:avLst/>
            <a:gdLst>
              <a:gd name="textAreaLeft" fmla="*/ 678600 w 7921440"/>
              <a:gd name="textAreaRight" fmla="*/ 7242840 w 792144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297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09" y="21600"/>
                </a:lnTo>
                <a:arcTo wR="3600" hR="3600" stAng="10800000" swAng="5400000"/>
                <a:lnTo>
                  <a:pt x="2970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620640"/>
            <a:ext cx="7775280" cy="5616720"/>
          </a:xfrm>
          <a:custGeom>
            <a:avLst/>
            <a:gdLst>
              <a:gd name="textAreaLeft" fmla="*/ 661680 w 7775280"/>
              <a:gd name="textAreaRight" fmla="*/ 7113600 w 777528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99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301" y="21600"/>
                </a:lnTo>
                <a:arcTo wR="3600" hR="3600" stAng="10800000" swAng="5400000"/>
                <a:lnTo>
                  <a:pt x="29901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 rot="2619600">
            <a:off x="294840" y="66240"/>
            <a:ext cx="1224000" cy="1590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 rot="1882200">
            <a:off x="7658280" y="5299200"/>
            <a:ext cx="1152360" cy="1590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6877080" y="62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95480" y="3429000"/>
            <a:ext cx="678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 foi com delicadeza, carinho e certamente muito amor que Ele a moldou, sendo inspirado pelo belo que existia, de maneira que estivesse ao lado do homem para que este sentisse que o que faltava nele, ela comple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549360"/>
            <a:ext cx="7921440" cy="5759280"/>
          </a:xfrm>
          <a:custGeom>
            <a:avLst/>
            <a:gdLst>
              <a:gd name="textAreaLeft" fmla="*/ 678600 w 7921440"/>
              <a:gd name="textAreaRight" fmla="*/ 7242840 w 792144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297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09" y="21600"/>
                </a:lnTo>
                <a:arcTo wR="3600" hR="3600" stAng="10800000" swAng="5400000"/>
                <a:lnTo>
                  <a:pt x="2970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620640"/>
            <a:ext cx="7775280" cy="5616720"/>
          </a:xfrm>
          <a:custGeom>
            <a:avLst/>
            <a:gdLst>
              <a:gd name="textAreaLeft" fmla="*/ 661680 w 7775280"/>
              <a:gd name="textAreaRight" fmla="*/ 7113600 w 777528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99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301" y="21600"/>
                </a:lnTo>
                <a:arcTo wR="3600" hR="3600" stAng="10800000" swAng="5400000"/>
                <a:lnTo>
                  <a:pt x="29901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 rot="2619600">
            <a:off x="294840" y="66240"/>
            <a:ext cx="1224000" cy="1590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 rot="1882200">
            <a:off x="7658280" y="5299200"/>
            <a:ext cx="1152360" cy="1590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6877080" y="62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66760" y="3213000"/>
            <a:ext cx="686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 talvez seja por ter sido o ponto final de toda criação que ela veio assim diferente, voluntária, com uma sensibilidade mais aguçada, um pouco de manha, pensando com o coração, forte o bastante para gerar filhos e dar continuidade ao mu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wheel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49360"/>
            <a:ext cx="7921440" cy="5759280"/>
          </a:xfrm>
          <a:custGeom>
            <a:avLst/>
            <a:gdLst>
              <a:gd name="textAreaLeft" fmla="*/ 678600 w 7921440"/>
              <a:gd name="textAreaRight" fmla="*/ 7242840 w 792144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297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09" y="21600"/>
                </a:lnTo>
                <a:arcTo wR="3600" hR="3600" stAng="10800000" swAng="5400000"/>
                <a:lnTo>
                  <a:pt x="2970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620640"/>
            <a:ext cx="7775280" cy="5616720"/>
          </a:xfrm>
          <a:custGeom>
            <a:avLst/>
            <a:gdLst>
              <a:gd name="textAreaLeft" fmla="*/ 661680 w 7775280"/>
              <a:gd name="textAreaRight" fmla="*/ 7113600 w 777528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99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301" y="21600"/>
                </a:lnTo>
                <a:arcTo wR="3600" hR="3600" stAng="10800000" swAng="5400000"/>
                <a:lnTo>
                  <a:pt x="29901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 rot="2619600">
            <a:off x="294840" y="66240"/>
            <a:ext cx="1224000" cy="1590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 rot="1882200">
            <a:off x="7658280" y="5299200"/>
            <a:ext cx="1152360" cy="1590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6877080" y="62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95480" y="3789360"/>
            <a:ext cx="722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mperfeita tanto quanto se pode ser, construiu e constrói a história, ora trazendo perdição, ora a salvação, mas sempre e sempre caminhando na busca de um lugar que lhe foi dado por direito desde o iní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549360"/>
            <a:ext cx="7921440" cy="5759280"/>
          </a:xfrm>
          <a:custGeom>
            <a:avLst/>
            <a:gdLst>
              <a:gd name="textAreaLeft" fmla="*/ 678600 w 7921440"/>
              <a:gd name="textAreaRight" fmla="*/ 7242840 w 792144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297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09" y="21600"/>
                </a:lnTo>
                <a:arcTo wR="3600" hR="3600" stAng="10800000" swAng="5400000"/>
                <a:lnTo>
                  <a:pt x="2970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620640"/>
            <a:ext cx="7775280" cy="5616720"/>
          </a:xfrm>
          <a:custGeom>
            <a:avLst/>
            <a:gdLst>
              <a:gd name="textAreaLeft" fmla="*/ 661680 w 7775280"/>
              <a:gd name="textAreaRight" fmla="*/ 7113600 w 777528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99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301" y="21600"/>
                </a:lnTo>
                <a:arcTo wR="3600" hR="3600" stAng="10800000" swAng="5400000"/>
                <a:lnTo>
                  <a:pt x="29901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 rot="2619600">
            <a:off x="294840" y="66240"/>
            <a:ext cx="1224000" cy="1590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 rot="1882200">
            <a:off x="7658280" y="5299200"/>
            <a:ext cx="1152360" cy="1590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6877080" y="62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23840" y="3141720"/>
            <a:ext cx="714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50021"/>
                </a:solidFill>
                <a:latin typeface="Arial"/>
              </a:rPr>
              <a:t>Maliciosa, consegue o que quer com doçura, como as flores que atraem as abelhas mais avisadas, deixando à elas no final a impressão de serem as grandes e fortes venced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50021"/>
                </a:solidFill>
                <a:latin typeface="Arial"/>
              </a:rPr>
              <a:t>E ela ainda ri... com o peito cheio de ternur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wheel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549360"/>
            <a:ext cx="7921440" cy="5759280"/>
          </a:xfrm>
          <a:custGeom>
            <a:avLst/>
            <a:gdLst>
              <a:gd name="textAreaLeft" fmla="*/ 678600 w 7921440"/>
              <a:gd name="textAreaRight" fmla="*/ 7242840 w 792144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297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09" y="21600"/>
                </a:lnTo>
                <a:arcTo wR="3600" hR="3600" stAng="10800000" swAng="5400000"/>
                <a:lnTo>
                  <a:pt x="2970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620640"/>
            <a:ext cx="7775280" cy="5616720"/>
          </a:xfrm>
          <a:custGeom>
            <a:avLst/>
            <a:gdLst>
              <a:gd name="textAreaLeft" fmla="*/ 661680 w 7775280"/>
              <a:gd name="textAreaRight" fmla="*/ 7113600 w 777528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99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301" y="21600"/>
                </a:lnTo>
                <a:arcTo wR="3600" hR="3600" stAng="10800000" swAng="5400000"/>
                <a:lnTo>
                  <a:pt x="29901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 rot="2619600">
            <a:off x="294840" y="66240"/>
            <a:ext cx="1224000" cy="159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 rot="1882200">
            <a:off x="7658280" y="5299200"/>
            <a:ext cx="1152360" cy="1590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6877080" y="62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95480" y="3860640"/>
            <a:ext cx="70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Pérola reconstruída à poder de dores, ela encanta o mundo, resgata sonhos perdidos e traz esperança à terra a cada grito, cada raio de luz que vai espalhando, prometendo à terra um novo amanhã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wheel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549360"/>
            <a:ext cx="7921440" cy="5759280"/>
          </a:xfrm>
          <a:custGeom>
            <a:avLst/>
            <a:gdLst>
              <a:gd name="textAreaLeft" fmla="*/ 678600 w 7921440"/>
              <a:gd name="textAreaRight" fmla="*/ 7242840 w 792144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297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109" y="21600"/>
                </a:lnTo>
                <a:arcTo wR="3600" hR="3600" stAng="10800000" swAng="5400000"/>
                <a:lnTo>
                  <a:pt x="29709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620640"/>
            <a:ext cx="7775280" cy="5616720"/>
          </a:xfrm>
          <a:custGeom>
            <a:avLst/>
            <a:gdLst>
              <a:gd name="textAreaLeft" fmla="*/ 661680 w 7775280"/>
              <a:gd name="textAreaRight" fmla="*/ 7113600 w 777528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299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301" y="21600"/>
                </a:lnTo>
                <a:arcTo wR="3600" hR="3600" stAng="10800000" swAng="5400000"/>
                <a:lnTo>
                  <a:pt x="2990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135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 rot="2619600">
            <a:off x="294840" y="66240"/>
            <a:ext cx="1224000" cy="1590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 rot="1882200">
            <a:off x="7658280" y="5299200"/>
            <a:ext cx="1152360" cy="1590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6877080" y="62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7120" y="1773360"/>
            <a:ext cx="6140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Arial"/>
              </a:rPr>
              <a:t>Texto: Letícia Thompson – Não é bom que o homem esteja só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a50021"/>
                </a:solidFill>
                <a:uFillTx/>
                <a:latin typeface="Arial"/>
                <a:hlinkClick r:id="rId9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Arial"/>
              </a:rPr>
              <a:t>Música: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Johnny Mathis – And love you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Arial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Arial"/>
              </a:rPr>
              <a:t>E-mail: </a:t>
            </a:r>
            <a:r>
              <a:rPr b="0" lang="pt-BR" sz="2000" spc="-1" strike="noStrike" u="sng">
                <a:solidFill>
                  <a:srgbClr val="a50021"/>
                </a:solidFill>
                <a:uFillTx/>
                <a:latin typeface="Arial"/>
                <a:hlinkClick r:id="rId10"/>
              </a:rPr>
              <a:t>bethnorling@globo.com</a:t>
            </a:r>
            <a:r>
              <a:rPr b="1" lang="pt-BR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wheel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1:33:23Z</dcterms:created>
  <dc:creator>Beth Norling</dc:creator>
  <dc:description/>
  <dc:language>en-US</dc:language>
  <cp:lastModifiedBy>Beth Norling</cp:lastModifiedBy>
  <dcterms:modified xsi:type="dcterms:W3CDTF">2007-03-07T12:40:22Z</dcterms:modified>
  <cp:revision>5</cp:revision>
  <dc:subject/>
  <dc:title>Nao_e_bom_que_o_homem_esteja_so</dc:title>
</cp:coreProperties>
</file>