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migo%20_Yanni%20So%20Long%20My%20Friend%201.44%20cut16bits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EE6-2CF2-40C7-BD7C-F96CE075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B7B-70EC-488A-B41B-AB35997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707-2BA9-41CF-8940-D7331035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A93-819F-4FC2-A580-83E1473B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165-29E1-4795-87EF-B5CED13A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18D-661A-4314-99CA-965EFC74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CBA-F88F-4719-85CD-0AD6307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498-A1C1-42C8-BC92-A427A2F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415-8271-4907-8547-5FE54DC1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C40-29DF-439C-9834-5083BF8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6F6-B63C-42BF-985B-DA72CC4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5C3-7E58-4919-8A22-6C9A8C3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B086-648F-4071-88BB-0798FB4FE9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migo%20_Yanni%20So%20Long%20My%20Friend%201.44%20cut16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685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osso Me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81080"/>
            <a:ext cx="6324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osso medo mais profundo não é o de sermos inadequados.                                   Nosso medo mais profundo é que somos poderosos além de qualquer medida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É a nossa luz, não as nossas trevas, o que mais nos apav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  <p:sndAc>
      <p:stSnd>
        <p:snd r:embed="rId2" name="amigo%20_Yanni%20So%20Long%20My%20Friend%201.44%20cut16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609480"/>
            <a:ext cx="495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ós nos perguntamos:                                       Quem sou eu para ser Brilhante,               Maravilhoso, Talentoso e Fabuloso?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a realidade, quem é você para não ser?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Você é filho do Universo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Você se fazer de pequeno não ajuda 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6920" y="380880"/>
            <a:ext cx="4038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ão há iluminação em se encolher, para que os outros não se sintam inseguros quando estão perto de você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 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ascemos para manifestar a glória do Universo que está dentro de nós. Não está apenas em um de nós: está em todos nós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80880"/>
            <a:ext cx="4953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conforme deixamos nossa própria luz brilhar, inconscientemente damos às outras pessoas permissão para fazer o mesmo.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 </a:t>
            </a: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conforme nos libertamos do nosso medo, nossa presença, automaticamente, libera os outros.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867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</a:rPr>
              <a:t>(Nelson Mande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1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2286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Yanni  – So Long My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1447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59092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26708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4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4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25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8:05:22Z</dcterms:created>
  <dc:creator>ssoliver@terra.com.br </dc:creator>
  <dc:description/>
  <dc:language>en-US</dc:language>
  <cp:lastModifiedBy>Leticia Thompson</cp:lastModifiedBy>
  <dcterms:modified xsi:type="dcterms:W3CDTF">2004-11-03T18:26:19Z</dcterms:modified>
  <cp:revision>9</cp:revision>
  <dc:subject/>
  <dc:title>nosso medo pps</dc:title>
</cp:coreProperties>
</file>