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migo%20_Yanni%20So%20Long%20My%20Friend%201.44%20cut16bits.wav" ContentType="audio/x-wav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300D-8E53-4B3B-BED1-4658B50DB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B41F-E4F4-4CFF-927E-33ADC720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A1C0-6846-47DD-9245-078C96DA8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1561-8F06-4446-A352-5D85E7853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93B6-2577-4B9B-A092-AD3FB10D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DF20-51A4-4725-A29D-17655FAB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E851-0B7C-472D-97E8-DCF30089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4472-B372-4838-92A0-4EA5926C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9F3B-F81D-4EC4-B2D8-3A5AF981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B7F2-435A-4316-B5CB-0BFCE5AB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04C1-3312-49C7-85AB-A3787BE5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2EE9-C8CA-4C82-B318-A67A3FF9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F316-5054-4CCE-B7AF-6B1B954CD64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migo%20_Yanni%20So%20Long%20My%20Friend%201.44%20cut16bit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eticiathompson.net/" TargetMode="External"/><Relationship Id="rId2" Type="http://schemas.openxmlformats.org/officeDocument/2006/relationships/hyperlink" Target="http://www.leticiathompson.net/" TargetMode="External"/><Relationship Id="rId3" Type="http://schemas.openxmlformats.org/officeDocument/2006/relationships/hyperlink" Target="http://www.leticiathompson.net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62320" y="68580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Nosso Med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1981080"/>
            <a:ext cx="63248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Nosso medo mais profundo não é o de sermos inadequados.                                   Nosso medo mais profundo é que somos poderosos além de qualquer medida.</a:t>
            </a: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  </a:t>
            </a: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É a nossa luz, não as nossas trevas, o que mais nos apav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9000">
    <p:randomBar dir="vert"/>
    <p:sndAc>
      <p:stSnd>
        <p:snd r:embed="rId2" name="amigo%20_Yanni%20So%20Long%20My%20Friend%201.44%20cut16bit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9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609480"/>
            <a:ext cx="4952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Nós nos perguntamos:                                       Quem sou eu para ser Brilhante,               Maravilhoso, Talentoso e Fabuloso?</a:t>
            </a: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  </a:t>
            </a: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Na realidade, quem é você para não ser?</a:t>
            </a: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  </a:t>
            </a: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Você é filho do Universo.</a:t>
            </a: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Você se fazer de pequeno não ajuda o mu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9000">
    <p:randomBar dir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876920" y="380880"/>
            <a:ext cx="4038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Não há iluminação em se encolher, para que os outros não se sintam inseguros quando estão perto de você.</a:t>
            </a: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  </a:t>
            </a: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Nascemos para manifestar a glória do Universo que está dentro de nós. Não está apenas em um de nós: está em todos nós.</a:t>
            </a: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9000">
    <p:randomBa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380880"/>
            <a:ext cx="49532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E conforme deixamos nossa própria luz brilhar, inconscientemente damos às outras pessoas permissão para fazer o mesmo.</a:t>
            </a: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  </a:t>
            </a: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E conforme nos libertamos do nosso medo, nossa presença, automaticamente, libera os outros."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58672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</a:rPr>
              <a:t>(Nelson Mande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9000">
    <p:randomBar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11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cc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3880" y="22860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00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00"/>
                </a:solidFill>
                <a:latin typeface="Times New Roman"/>
              </a:rPr>
              <a:t>Yanni  – So Long My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33720" y="144792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2590920"/>
            <a:ext cx="761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cccc00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4267080"/>
            <a:ext cx="70866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cc00"/>
                </a:solidFill>
                <a:latin typeface="Times New Roman"/>
              </a:rPr>
              <a:t>Visite o 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eticiathompson.net</a:t>
            </a: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9000"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400"/>
                            </p:stCondLst>
                            <p:childTnLst>
                              <p:par>
                                <p:cTn id="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7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425"/>
                            </p:stCondLst>
                            <p:childTnLst>
                              <p:par>
                                <p:cTn id="5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725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4T08:05:22Z</dcterms:created>
  <dc:creator>ssoliver@terra.com.br </dc:creator>
  <dc:description/>
  <dc:language>en-US</dc:language>
  <cp:lastModifiedBy>Leticia Thompson</cp:lastModifiedBy>
  <dcterms:modified xsi:type="dcterms:W3CDTF">2004-11-03T18:26:19Z</dcterms:modified>
  <cp:revision>9</cp:revision>
  <dc:subject/>
  <dc:title>nosso medo pps</dc:title>
</cp:coreProperties>
</file>