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Valdir%20Azevedo%20-%20As%20Rosas%20Nao%20falam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904E-9B70-43DB-B71C-FCC934F6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0600-B4FE-44E0-B778-D1EA0E45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BFE-D180-4629-8B20-4AFEB5A4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238B-60E9-4FB0-A95F-92A1EB53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0B3-1649-4B7F-84ED-87D8B726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BD4-D4FD-4E0A-98A6-7CD95AD6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8EF8-9134-40D9-B9FE-D23A4E16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282-7977-422A-B2B2-45811575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083-5A9E-4919-AA03-BAA3C5F2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266C-9FFC-4737-9179-FC3ACE9E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F7EE-0B10-4D76-9FDD-4DAB49F1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2CF-3F97-4294-AD69-17AC0564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E361-B165-4493-9D03-FD1BCCC7C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image" Target="../media/image3.gif"/><Relationship Id="rId28" Type="http://schemas.openxmlformats.org/officeDocument/2006/relationships/audio" Target="../media/Valdir%20Azevedo%20-%20As%20Rosas%20Nao%20falam.wav"/><Relationship Id="rId2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hyperlink" Target="mailto:contact@leticiathompson.net" TargetMode="External"/><Relationship Id="rId23" Type="http://schemas.openxmlformats.org/officeDocument/2006/relationships/hyperlink" Target="http://www.leticiathompson.net/" TargetMode="External"/><Relationship Id="rId24" Type="http://schemas.openxmlformats.org/officeDocument/2006/relationships/hyperlink" Target="mailto:marlick@ig.com.br" TargetMode="External"/><Relationship Id="rId2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403280" y="1557360"/>
            <a:ext cx="6264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2"/>
                  <a:srcRect/>
                  <a:stretch/>
                </a:blipFill>
                <a:latin typeface="comic"/>
              </a:rPr>
              <a:t>O amor não mor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3"/>
                <a:srcRect/>
                <a:stretch/>
              </a:blipFill>
              <a:latin typeface="comic"/>
              <a:ea typeface="comic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700360" y="3860640"/>
            <a:ext cx="371484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4"/>
                  <a:srcRect/>
                  <a:stretch/>
                </a:blipFill>
                <a:latin typeface="Eras Medium ITC"/>
              </a:rPr>
              <a:t>Letícia Thompson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5"/>
                <a:srcRect/>
                <a:stretch/>
              </a:blipFill>
              <a:latin typeface="Eras Medium ITC"/>
              <a:ea typeface="Eras Medium ITC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88000" y="5084640"/>
            <a:ext cx="905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6"/>
                  <a:srcRect/>
                  <a:stretch/>
                </a:blipFill>
                <a:latin typeface="comic"/>
              </a:rPr>
              <a:t>So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7"/>
                <a:srcRect/>
                <a:stretch/>
              </a:blipFill>
              <a:latin typeface="comic"/>
              <a:ea typeface="comic"/>
            </a:endParaRPr>
          </a:p>
        </p:txBody>
      </p:sp>
    </p:spTree>
  </p:cSld>
  <p:transition spd="slow">
    <p:comb dir="horz"/>
    <p:sndAc>
      <p:stSnd>
        <p:snd r:embed="rId28" name="Valdir%20Azevedo%20-%20As%20Rosas%20Nao%20falam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2276640"/>
            <a:ext cx="69976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O amor não morre. Ele se cansa mui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vezes. Ele se refugia em algum recanto 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alma tentando se esconder do tédio que m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os relaciona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39840" y="1413000"/>
            <a:ext cx="6610320" cy="48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Não é preciso confundir fadiga com desam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O amor ama. Quem ama, ama sempre. 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desaparece é a musicalidade do sent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A causa? O cotidiano, o fazer as mes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coisas, o fato de não haver mais mistéri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de não haver mais como surpreender o out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São mesmices: mesmos carinhos, mes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palavras, mesmas horas... o outro já sab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Falta magia. Falta o inesper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1197000"/>
            <a:ext cx="718524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O fato de não se ter mais nada a conquist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mostra o fim do caminho. Nada mais a fa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Muitas pessoas se acomodam e tentam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concentrar em outras coisas, atividades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muitas vezes não têm nada a ver 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relacionamentos. Outras procuram aventu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Elas querem, a todo custo, se redescobr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vivas; querem reencontrar o que julg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perdido: o prazer da paixão, o susto do co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batendo apressado diante de alguém,o so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perdido em sonhos intermináveis e desej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infin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39840" y="1773360"/>
            <a:ext cx="63752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Não é possível uma vida sem amor. Ou 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amor adormeci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Se você ama alguém, desperte o amor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dorme! Vez ou outra, faça al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extraordinário. Faça loucuras, com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flores, ofereça um jantar, ponha um no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perfum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11120" y="1916280"/>
            <a:ext cx="65185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Não permita que o amor durma enqua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você está acordado sem saber o que faz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da vida. Reconquiste! Acredi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reconquistar é uma tarefa muito mais ár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do que conquistar, pois vai exigir 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esforço muito maior. M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sabe de uma cois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Vale a pena! Vale muito a pen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41040" y="1216080"/>
            <a:ext cx="5269320" cy="60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réd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E-mail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contact@leticiathompson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ite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ww.leticiathompson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Música: As rosas não f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aldir Azeve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ormatação: </a:t>
            </a:r>
            <a:r>
              <a:rPr b="1" i="1" lang="en-US" sz="4400" spc="-1" strike="noStrike">
                <a:solidFill>
                  <a:srgbClr val="990000"/>
                </a:solidFill>
                <a:latin typeface="Monotype Corsiva"/>
              </a:rPr>
              <a:t>Marli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marlick@ig.com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Respeite os crédi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23:23:04Z</dcterms:created>
  <dc:creator>Marli                marlick@ig.com.br</dc:creator>
  <dc:description>Autora: Letícia thompson - não retirar e nem modificar os créditos.</dc:description>
  <dc:language>en-US</dc:language>
  <cp:lastModifiedBy>One</cp:lastModifiedBy>
  <dcterms:modified xsi:type="dcterms:W3CDTF">2007-03-14T19:53:06Z</dcterms:modified>
  <cp:revision>3</cp:revision>
  <dc:subject/>
  <dc:title>O amor não morre.pps.marli</dc:title>
</cp:coreProperties>
</file>