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Valdir%20Azevedo%20-%20As%20Rosas%20Nao%20falam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543-6EA9-4B69-BA02-D0A4CAA1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5AD-495F-4F59-B84B-053FE166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015-5C86-41D6-8922-E0D5124B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079-C76A-41B9-8AA4-B4070E7A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8CD-4379-451F-9309-4A847757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3C9-2E89-4906-A762-4ABF4995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5AB-E986-4AED-8782-DA0B7ABE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3D3-F741-47A2-8E44-133BE970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48A-024A-4C78-B90C-433B594B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C5D-BE74-400C-A44D-134D928F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57D-B4AB-4049-ABEA-BA71FC10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3B2-D3D8-400E-AB50-04128FB9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0695-1957-4585-9A57-0A6750408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audio" Target="../media/Valdir%20Azevedo%20-%20As%20Rosas%20Nao%20falam.wav"/><Relationship Id="rId2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hyperlink" Target="mailto:contact@leticiathompson.net" TargetMode="External"/><Relationship Id="rId23" Type="http://schemas.openxmlformats.org/officeDocument/2006/relationships/hyperlink" Target="http://www.leticiathompson.net/" TargetMode="External"/><Relationship Id="rId24" Type="http://schemas.openxmlformats.org/officeDocument/2006/relationships/hyperlink" Target="mailto:marlick@ig.com.br" TargetMode="External"/><Relationship Id="rId2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03280" y="1557360"/>
            <a:ext cx="6264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2"/>
                  <a:srcRect/>
                  <a:stretch/>
                </a:blipFill>
                <a:latin typeface="comic"/>
              </a:rPr>
              <a:t>O amor não mor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3"/>
                <a:srcRect/>
                <a:stretch/>
              </a:blipFill>
              <a:latin typeface="comic"/>
              <a:ea typeface="comic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700360" y="3860640"/>
            <a:ext cx="371484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stretch/>
                </a:blipFill>
                <a:latin typeface="Eras Medium ITC"/>
              </a:rPr>
              <a:t>Letícia Thompson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stretch/>
              </a:blipFill>
              <a:latin typeface="Eras Medium ITC"/>
              <a:ea typeface="Eras Medium IT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88000" y="5084640"/>
            <a:ext cx="905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stretch/>
                </a:blipFill>
                <a:latin typeface="comic"/>
              </a:rPr>
              <a:t>So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stretch/>
              </a:blipFill>
              <a:latin typeface="comic"/>
              <a:ea typeface="comic"/>
            </a:endParaRPr>
          </a:p>
        </p:txBody>
      </p:sp>
    </p:spTree>
  </p:cSld>
  <p:transition spd="slow">
    <p:comb dir="horz"/>
    <p:sndAc>
      <p:stSnd>
        <p:snd r:embed="rId28" name="Valdir%20Azevedo%20-%20As%20Rosas%20Nao%20fala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2276640"/>
            <a:ext cx="69976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O amor não morre. Ele se cansa mui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vezes. Ele se refugia em algum recanto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alma tentando se esconder do tédio que m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os relacion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39840" y="1413000"/>
            <a:ext cx="661032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Não é preciso confundir fadiga com desam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O amor ama. Quem ama, ama sempre. 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esaparece é a musicalidade do sent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A causa? O cotidiano, o fazer as mes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coisas, o fato de não haver mais mistéri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e não haver mais como surpreender o out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São mesmices: mesmos carinhos, mes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palavras, mesmas horas... o outro já sab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Falta magia. Falta o inespe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1197000"/>
            <a:ext cx="718524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O fato de não se ter mais nada a conquis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mostra o fim do caminho. Nada mais a fa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Muitas pessoas se acomodam e tentam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concentrar em outras coisas, atividades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muitas vezes não têm nada a ver 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relacionamentos. Outras procuram aventu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Elas querem, a todo custo, se redescobr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vivas; querem reencontrar o que julg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perdido: o prazer da paixão, o susto do c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batendo apressado diante de alguém,o s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perdido em sonhos intermináveis e dese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infin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39840" y="1773360"/>
            <a:ext cx="63752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Não é possível uma vida sem amor. Ou 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amor adormec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Se você ama alguém, desperte o amor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orme! Vez ou outra, faça al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extraordinário. Faça loucuras, com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flores, ofereça um jantar, ponha um no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perfum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11120" y="1916280"/>
            <a:ext cx="65185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Não permita que o amor durma enqua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você está acordado sem saber o que faz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a vida. Reconquiste! Acredi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reconquistar é uma tarefa muito mais ár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do que conquistar, pois vai exigir 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esforço muito maior. M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sabe de uma cois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entury"/>
              </a:rPr>
              <a:t>Vale a pena! Vale muito a pen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197000"/>
            <a:ext cx="1214280" cy="121428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1214280" cy="121428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8720" y="0"/>
            <a:ext cx="1214280" cy="121428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29720" y="0"/>
            <a:ext cx="1214280" cy="121428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2720" y="0"/>
            <a:ext cx="1214280" cy="121428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437000"/>
            <a:ext cx="1214280" cy="1214640"/>
          </a:xfrm>
          <a:prstGeom prst="diamond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5643720"/>
            <a:ext cx="1214640" cy="1214280"/>
          </a:xfrm>
          <a:prstGeom prst="diamond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643720"/>
            <a:ext cx="1214280" cy="1214280"/>
          </a:xfrm>
          <a:prstGeom prst="diamond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781360"/>
            <a:ext cx="1214280" cy="1214280"/>
          </a:xfrm>
          <a:prstGeom prst="diamond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5643720"/>
            <a:ext cx="1214640" cy="1214280"/>
          </a:xfrm>
          <a:prstGeom prst="diamond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29720" y="5643720"/>
            <a:ext cx="1214280" cy="1214280"/>
          </a:xfrm>
          <a:prstGeom prst="diamond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5643720"/>
            <a:ext cx="1214280" cy="1214280"/>
          </a:xfrm>
          <a:prstGeom prst="diamond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5643720"/>
            <a:ext cx="1214280" cy="1214280"/>
          </a:xfrm>
          <a:prstGeom prst="diamond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29720" y="4437000"/>
            <a:ext cx="1214280" cy="1214640"/>
          </a:xfrm>
          <a:prstGeom prst="diamond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9720" y="1268280"/>
            <a:ext cx="1214280" cy="1214640"/>
          </a:xfrm>
          <a:prstGeom prst="diamond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9720" y="2852640"/>
            <a:ext cx="1214280" cy="1214640"/>
          </a:xfrm>
          <a:prstGeom prst="diamond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24360" y="0"/>
            <a:ext cx="1214280" cy="1214280"/>
          </a:xfrm>
          <a:prstGeom prst="diamond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5643720"/>
            <a:ext cx="1214280" cy="1214280"/>
          </a:xfrm>
          <a:prstGeom prst="diamond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0"/>
            <a:ext cx="1214640" cy="1214280"/>
          </a:xfrm>
          <a:prstGeom prst="diamond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11280" y="0"/>
            <a:ext cx="1214640" cy="1214280"/>
          </a:xfrm>
          <a:prstGeom prst="diamond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1268280"/>
            <a:ext cx="6697800" cy="43214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rnd" w="633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41040" y="1216080"/>
            <a:ext cx="5269320" cy="60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éd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E-mail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contact@leticiathompson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ite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leticiathompson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úsica: As rosas não f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aldir Azeve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matação: </a:t>
            </a:r>
            <a:r>
              <a:rPr b="1" i="1" lang="en-US" sz="4400" spc="-1" strike="noStrike">
                <a:solidFill>
                  <a:srgbClr val="990000"/>
                </a:solidFill>
                <a:latin typeface="Monotype Corsiva"/>
              </a:rPr>
              <a:t>Marli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marlick@ig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Respeite os crédi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23:23:04Z</dcterms:created>
  <dc:creator>Marli                marlick@ig.com.br</dc:creator>
  <dc:description>Autora: Letícia thompson - não retirar e nem modificar os créditos.</dc:description>
  <dc:language>en-US</dc:language>
  <cp:lastModifiedBy>One</cp:lastModifiedBy>
  <dcterms:modified xsi:type="dcterms:W3CDTF">2007-03-14T19:53:06Z</dcterms:modified>
  <cp:revision>3</cp:revision>
  <dc:subject/>
  <dc:title>O amor não morre.pps.marli</dc:title>
</cp:coreProperties>
</file>