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Hino%20Nacional%20Brasileiro.wav" ContentType="audio/x-wav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EBE87-9D79-46FC-A580-112115870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869F0-06E2-4E7A-A7CD-F262B8911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76FEA-ACE7-4828-AD80-E1C1A0476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64CB8-D926-46EE-9CF5-7295535A5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17BFB-CB61-4627-AF68-8D08FEBCA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3F637-F3D3-4B41-B3CD-FD3C95ABE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2D92D-B279-4C29-A836-5182B933A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3CBDC-0868-4B7F-9DE4-1FF79B997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58AC7-E330-40BB-B091-056B40378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F69A9-508F-4452-90CE-3DABF17EE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5FBF5-69E3-4775-9370-275738B2F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E3704-5C1E-4D4E-9B14-C1888C698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F749F-1892-4720-B672-96E8D997D67F}" type="slidenum">
              <a:rPr b="0" lang="pt-B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Hino%20Nacional%20Brasileiro.wav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4643280" y="68580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050920" y="1773360"/>
            <a:ext cx="53294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6000" spc="-1" strike="noStrike">
                <a:solidFill>
                  <a:srgbClr val="000000"/>
                </a:solidFill>
                <a:latin typeface="Monotype Corsiva"/>
              </a:rPr>
              <a:t>HINO NACIONAL PATROCINADO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796000" y="609300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(aguardar a introduçã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28000">
    <p:wipe dir="d"/>
    <p:sndAc>
      <p:stSnd>
        <p:snd r:embed="rId2" name="Hino%20Nacional%20Brasileiro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643280" y="68580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2916360" y="333360"/>
            <a:ext cx="2817720" cy="6191280"/>
          </a:xfrm>
          <a:prstGeom prst="rect">
            <a:avLst/>
          </a:prstGeom>
          <a:ln w="0">
            <a:noFill/>
          </a:ln>
        </p:spPr>
      </p:pic>
    </p:spTree>
  </p:cSld>
  <p:transition advTm="83000">
    <p:wipe dir="d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643280" y="6858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1000">
    <p:zoom dir="in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" dur="1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2T13:36:54Z</dcterms:created>
  <dc:creator>Renato Bertoldi Simões</dc:creator>
  <dc:description/>
  <dc:language>en-US</dc:language>
  <cp:lastModifiedBy>Marcio</cp:lastModifiedBy>
  <dcterms:modified xsi:type="dcterms:W3CDTF">2006-02-28T22:04:51Z</dcterms:modified>
  <cp:revision>38</cp:revision>
  <dc:subject/>
  <dc:title>ESSE GOLPE BILIONÁRIO VAI SER FINANCIADO POR TODOS NÓS!</dc:title>
</cp:coreProperties>
</file>