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ino%20Nacional%20Brasileiro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B98-9F05-4600-AB73-CCB1852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C21-8877-4A78-B652-190D2339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E26-0BDD-4498-9D10-FF131AB9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DCC-DF6B-4CAA-92CC-E87D740B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F33-1B03-4C5C-90C0-2AE52FB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8B5-8D71-433B-93C8-A23E3B0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ADE-C2F5-4783-90DD-B35C707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95B-51E8-4482-9AA6-3B0BD6B6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B5B-0587-4C5A-B71F-3F2AA679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6A9-5F5F-4FDC-8801-D8E2810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D68-B805-453A-AA51-72E885D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5F4-628B-4E7A-BFF1-EC94D8C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2A11-E0D9-4F0D-93DC-CAA4849B666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ino%20Nacional%20Brasileiro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1773360"/>
            <a:ext cx="53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Monotype Corsiva"/>
              </a:rPr>
              <a:t>HINO NACIONAL PATROCINAD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guardar a introduçã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wipe dir="d"/>
    <p:sndAc>
      <p:stSnd>
        <p:snd r:embed="rId2" name="Hino%20Nacional%20Brasilei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2817720" cy="6191280"/>
          </a:xfrm>
          <a:prstGeom prst="rect">
            <a:avLst/>
          </a:prstGeom>
          <a:ln w="0">
            <a:noFill/>
          </a:ln>
        </p:spPr>
      </p:pic>
    </p:spTree>
  </p:cSld>
  <p:transition advTm="83000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3:36:54Z</dcterms:created>
  <dc:creator>Renato Bertoldi Simões</dc:creator>
  <dc:description/>
  <dc:language>en-US</dc:language>
  <cp:lastModifiedBy>Marcio</cp:lastModifiedBy>
  <dcterms:modified xsi:type="dcterms:W3CDTF">2006-02-28T22:04:51Z</dcterms:modified>
  <cp:revision>38</cp:revision>
  <dc:subject/>
  <dc:title>ESSE GOLPE BILIONÁRIO VAI SER FINANCIADO POR TODOS NÓS!</dc:title>
</cp:coreProperties>
</file>