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ExtractFromCD1%20-%20Track16.cut.wav" ContentType="audio/x-wav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248E-51A2-4AF3-8DD1-8F75AACED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5F26-97BC-45FA-801A-4EB9FFE8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51AC-4D8D-4508-B242-2B829D7A1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6C82-CC42-4737-AA31-EF16D4C9B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C989-E685-4489-BF60-CAA5B62E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7D25-9CAC-4985-9F82-7B6EF035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B918-F8A6-449C-A208-85534CE1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4501-0610-4CE3-9D94-58F3F0FD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311F-78E7-4E83-BC59-6724CAB1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7448-B3EB-4CB7-B8A2-F057D87F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8C6B-09BF-4C9D-A268-381AA25E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2B38-BEE6-4C5C-AD4B-BB642FC2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53C8-8AF2-4362-B7F9-334852DC1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ExtractFromCD1%20-%20Track16.cut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eticiathompson.net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9ab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de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09680" y="2286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9ab91"/>
                </a:solidFill>
                <a:latin typeface="Copperplate Gothic Light"/>
                <a:ea typeface="Times New Roman"/>
              </a:rPr>
              <a:t>Senhor morado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7238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a9ab91"/>
                </a:solidFill>
                <a:latin typeface="Copperplate Gothic Light"/>
                <a:ea typeface="Times New Roman"/>
              </a:rPr>
              <a:t>Gostaríamos de informar que o contrato de aluguel que acordamos há bilhões de anos atrás, está vencendo. Precisamos renová-lo, porém temos que acertar alguns pontos fundamentais: Você precisa pagar a conta de energia. Está muito alta! Como você gasta tanto? Antes eu fornecia água em abundância, hoje não disponho mais desta quantidade. Precisamos renegociar o u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3000">
    <p:randomBar dir="vert"/>
    <p:sndAc>
      <p:stSnd>
        <p:snd r:embed="rId2" name="ExtractFromCD1%20-%20Track16.cut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b3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unsetfo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38080" y="533520"/>
            <a:ext cx="7696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b39b"/>
                </a:solidFill>
                <a:latin typeface="Copperplate Gothic Light"/>
                <a:ea typeface="Times New Roman"/>
              </a:rPr>
              <a:t>Porque alguns na casa comem o suficiente e outros estão morrendo de fome, se o quintal é tão grande?    Se cuidar bem da terra vai ter alimento para todos! Você cortou as árvores que dão sombra, ar e equilíbrio. O sol está muito quente e o calor aumentou. Você precisa replantar novamente! Todos os bichos e as plantas do imenso jardim devem ser cuidados e preservados. Procurei alguns animais, e não os encontrei. Sei que quando aluguei a casa eles existiam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0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b3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143000" y="1143000"/>
            <a:ext cx="6858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1b39b"/>
                </a:solidFill>
                <a:latin typeface="Copperplate Gothic Light"/>
                <a:ea typeface="Times New Roman"/>
              </a:rPr>
              <a:t>Precisam verificar que cores estranhas estão no céu! Não vejo o azul! Por falar em lixo, que sujeira hein??? Encontrei objetos estranhos pelo caminho! Isopor, pneus, plásticos... Não vi os peixes que moram nos rios e lagos.Vocês pescaram todos?                                              Onde estã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8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laneta%20terra4" descr=""/>
          <p:cNvPicPr/>
          <p:nvPr/>
        </p:nvPicPr>
        <p:blipFill>
          <a:blip r:embed="rId1"/>
          <a:stretch/>
        </p:blipFill>
        <p:spPr>
          <a:xfrm>
            <a:off x="1397160" y="254160"/>
            <a:ext cx="6349680" cy="6349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1066680"/>
            <a:ext cx="8153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b39b"/>
                </a:solidFill>
                <a:latin typeface="Copperplate Gothic Light"/>
                <a:ea typeface="Times New Roman"/>
              </a:rPr>
              <a:t>Bom, é hora de conversarmos.                             Preciso saber se você ainda quer morar aqui. Caso afirmativo, o que você pode fazer para cumprir o contrato?</a:t>
            </a:r>
            <a:br>
              <a:rPr sz="2800"/>
            </a:br>
            <a:r>
              <a:rPr b="1" lang="en-US" sz="2800" spc="-1" strike="noStrike">
                <a:solidFill>
                  <a:srgbClr val="b1b39b"/>
                </a:solidFill>
                <a:latin typeface="Copperplate Gothic Light"/>
                <a:ea typeface="Times New Roman"/>
              </a:rPr>
              <a:t>Gostaria de você sempre comigo, mas tudo tem um limite. Você pode mudar?</a:t>
            </a:r>
            <a:br>
              <a:rPr sz="2800"/>
            </a:br>
            <a:r>
              <a:rPr b="1" lang="en-US" sz="2800" spc="-1" strike="noStrike">
                <a:solidFill>
                  <a:srgbClr val="b1b39b"/>
                </a:solidFill>
                <a:latin typeface="Copperplate Gothic Light"/>
                <a:ea typeface="Times New Roman"/>
              </a:rPr>
              <a:t>Aguardo respostas e atitudes.</a:t>
            </a:r>
            <a:br>
              <a:rPr sz="2800"/>
            </a:br>
            <a:r>
              <a:rPr b="1" lang="en-US" sz="2800" spc="-1" strike="noStrike">
                <a:solidFill>
                  <a:srgbClr val="b1b39b"/>
                </a:solidFill>
                <a:latin typeface="Copperplate Gothic Light"/>
                <a:ea typeface="Times New Roman"/>
              </a:rPr>
              <a:t>Sua casa - "A Terra"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533412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1b39b"/>
                </a:solidFill>
                <a:latin typeface="Copperplate Gothic Light"/>
                <a:ea typeface="Times New Roman"/>
              </a:rPr>
              <a:t>(Desconheço a autor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b1b39b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14400" y="22860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1b39b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1b39b"/>
                </a:solidFill>
                <a:latin typeface="Times New Roman"/>
              </a:rPr>
              <a:t>Zezé Di Camargo &amp; Luciano:  Deus Salve a Amé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1600200"/>
            <a:ext cx="2895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b39b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b39b"/>
                </a:solidFill>
                <a:latin typeface="Times New Roman"/>
              </a:rPr>
              <a:t>Sérgio S. Olivei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297180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b1b39b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419720"/>
            <a:ext cx="78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b1b39b"/>
                </a:solidFill>
                <a:latin typeface="Times New Roman"/>
              </a:rPr>
              <a:t>Visite o Si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leticiathompson.net</a:t>
            </a:r>
            <a:r>
              <a:rPr b="0" lang="pt-BR" sz="3200" spc="-1" strike="noStrike">
                <a:solidFill>
                  <a:srgbClr val="b1b39b"/>
                </a:solidFill>
                <a:latin typeface="Times New Roman"/>
              </a:rPr>
              <a:t>  </a:t>
            </a:r>
            <a:r>
              <a:rPr b="1" i="1" lang="pt-BR" sz="3200" spc="-1" strike="noStrike">
                <a:solidFill>
                  <a:srgbClr val="001e1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soliver@terra.com.br </dc:creator>
  <dc:description/>
  <dc:language>en-US</dc:language>
  <cp:lastModifiedBy>Sérgio S. Oliver</cp:lastModifiedBy>
  <dcterms:modified xsi:type="dcterms:W3CDTF">2004-11-18T17:22:14Z</dcterms:modified>
  <cp:revision>9</cp:revision>
  <dc:subject/>
  <dc:title>A terra</dc:title>
</cp:coreProperties>
</file>