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ExtractFromCD1%20-%20Track16.cut.wav" ContentType="audio/x-wav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CAF-2CAE-4E4D-8B63-9974281B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AAA-A175-45AA-8CFF-CE97FCD2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78A-C822-4CFC-93BC-A5A9617B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EF9-0314-42E8-AC34-945687E6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ADA-8F1D-471B-BC31-8AFD93F6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D32-20CD-4ECC-9A85-14E0042E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8E4-8BA7-4943-9BC9-E875DFDE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133-96DA-4072-A0A3-DB552861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FBE-4113-4241-BDEC-9A178F04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3FC-B865-4737-B831-393230FB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BC2-2593-4B30-88D4-F6B3F1E0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E56-E604-4612-98A8-4A9DD87D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82A8-0C2E-4AA2-A4F6-A3CB19CFD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tractFromCD1%20-%20Track16.cu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ticiathompson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ab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2286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ab91"/>
                </a:solidFill>
                <a:latin typeface="Copperplate Gothic Light"/>
                <a:ea typeface="Times New Roman"/>
              </a:rPr>
              <a:t>Senhor morad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7238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a9ab91"/>
                </a:solidFill>
                <a:latin typeface="Copperplate Gothic Light"/>
                <a:ea typeface="Times New Roman"/>
              </a:rPr>
              <a:t>Gostaríamos de informar que o contrato de aluguel que acordamos há bilhões de anos atrás, está vencendo. Precisamos renová-lo, porém temos que acertar alguns pontos fundamentais: Você precisa pagar a conta de energia. Está muito alta! Como você gasta tanto? Antes eu fornecia água em abundância, hoje não disponho mais desta quantidade. Precisamos renegociar o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3000">
    <p:randomBar dir="vert"/>
    <p:sndAc>
      <p:stSnd>
        <p:snd r:embed="rId2" name="ExtractFromCD1%20-%20Track16.cu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b3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unsetfo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533520"/>
            <a:ext cx="7696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Porque alguns na casa comem o suficiente e outros estão morrendo de fome, se o quintal é tão grande?    Se cuidar bem da terra vai ter alimento para todos! Você cortou as árvores que dão sombra, ar e equilíbrio. O sol está muito quente e o calor aumentou. Você precisa replantar novamente! Todos os bichos e as plantas do imenso jardim devem ser cuidados e preservados. Procurei alguns animais, e não os encontrei. Sei que quando aluguei a casa eles existiam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b3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43000" y="1143000"/>
            <a:ext cx="68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Precisam verificar que cores estranhas estão no céu! Não vejo o azul! Por falar em lixo, que sujeira hein??? Encontrei objetos estranhos pelo caminho! Isopor, pneus, plásticos... Não vi os peixes que moram nos rios e lagos.Vocês pescaram todos?                                              Onde estã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8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laneta%20terra4" descr=""/>
          <p:cNvPicPr/>
          <p:nvPr/>
        </p:nvPicPr>
        <p:blipFill>
          <a:blip r:embed="rId1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066680"/>
            <a:ext cx="815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Bom, é hora de conversarmos.                             Preciso saber se você ainda quer morar aqui. Caso afirmativo, o que você pode fazer para cumprir o contrato?</a:t>
            </a:r>
            <a:br>
              <a:rPr sz="2800"/>
            </a:br>
            <a:r>
              <a:rPr b="1" lang="en-US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Gostaria de você sempre comigo, mas tudo tem um limite. Você pode mudar?</a:t>
            </a:r>
            <a:br>
              <a:rPr sz="2800"/>
            </a:br>
            <a:r>
              <a:rPr b="1" lang="en-US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Aguardo respostas e atitudes.</a:t>
            </a:r>
            <a:br>
              <a:rPr sz="2800"/>
            </a:br>
            <a:r>
              <a:rPr b="1" lang="en-US" sz="28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Sua casa - "A Terra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53341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b39b"/>
                </a:solidFill>
                <a:latin typeface="Copperplate Gothic Light"/>
                <a:ea typeface="Times New Roman"/>
              </a:rPr>
              <a:t>(Desconheço a auto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b1b39b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2286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1b39b"/>
                </a:solidFill>
                <a:latin typeface="Times New Roman"/>
              </a:rPr>
              <a:t>Mús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1b39b"/>
                </a:solidFill>
                <a:latin typeface="Times New Roman"/>
              </a:rPr>
              <a:t>Zezé Di Camargo &amp; Luciano:  Deus Salve a Am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60020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39b"/>
                </a:solidFill>
                <a:latin typeface="Times New Roman"/>
              </a:rPr>
              <a:t>Elabo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b39b"/>
                </a:solidFill>
                <a:latin typeface="Times New Roman"/>
              </a:rPr>
              <a:t>Sérgio S. Oliv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97180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b1b39b"/>
                </a:solidFill>
                <a:latin typeface="Times New Roman"/>
              </a:rPr>
              <a:t>ssoliver@terra.com.b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4197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1b39b"/>
                </a:solidFill>
                <a:latin typeface="Times New Roman"/>
              </a:rPr>
              <a:t>Visite o 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leticiathompson.net</a:t>
            </a:r>
            <a:r>
              <a:rPr b="0" lang="pt-BR" sz="3200" spc="-1" strike="noStrike">
                <a:solidFill>
                  <a:srgbClr val="b1b39b"/>
                </a:solidFill>
                <a:latin typeface="Times New Roman"/>
              </a:rPr>
              <a:t>  </a:t>
            </a:r>
            <a:r>
              <a:rPr b="1" i="1" lang="pt-BR" sz="3200" spc="-1" strike="noStrike">
                <a:solidFill>
                  <a:srgbClr val="001e1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soliver@terra.com.br </dc:creator>
  <dc:description/>
  <dc:language>en-US</dc:language>
  <cp:lastModifiedBy>Sérgio S. Oliver</cp:lastModifiedBy>
  <dcterms:modified xsi:type="dcterms:W3CDTF">2004-11-18T17:22:14Z</dcterms:modified>
  <cp:revision>9</cp:revision>
  <dc:subject/>
  <dc:title>A terra</dc:title>
</cp:coreProperties>
</file>