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Make%20It%20With%20You.wav" ContentType="audio/x-wav"/>
  <Override PartName="/ppt/media/image5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C76-D6A8-4AE5-B261-0C47A7BA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2FF-DE6E-4E02-8833-07BC4D18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843-1F65-4F08-AE3E-2000E2ED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B69-9306-4839-AAD4-EB9C8D91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612-F295-4798-904A-FE84DB05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D27-231B-42C1-B1F1-085F5A37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FD3-F23E-44BF-BB32-6274AA7B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EEB-1D93-4EAB-9A72-8F529336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824-711C-48DC-8A0C-6B811E1D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906-E7E9-4462-BB56-D539D35C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2CD-D6C1-4C06-BBB7-ED772BAA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DE8-E647-480F-A055-05A8F16A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579F-3727-4640-A5AE-C3BD5BFFE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audio" Target="../media/Make%20It%20With%20You.wav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5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6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7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8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hyperlink" Target="http://www.leticiathompson.net/" TargetMode="External"/><Relationship Id="rId19" Type="http://schemas.openxmlformats.org/officeDocument/2006/relationships/hyperlink" Target="mailto:bethnorling@globo.com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3280" y="2060640"/>
            <a:ext cx="37436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LHER</a:t>
            </a:r>
            <a:endParaRPr b="0" i="1" lang="en-US" sz="40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PAIXONADA</a:t>
            </a:r>
            <a:endParaRPr b="0" i="1" lang="en-US" sz="40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64000" y="4508640"/>
            <a:ext cx="25243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3333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9360">
                <a:solidFill>
                  <a:srgbClr val="333300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24560" y="1557360"/>
            <a:ext cx="37638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Uma mulher apaixonada não tem cérebro, tem coraçã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la não pensa, am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não respira, 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Se ela não encontra oportunidades para mostrar o seu amor, fab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51480" y="1052640"/>
            <a:ext cx="383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Uma mulher apaixonada é um ser excepcional, porque ela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squece e se perde em si mesma para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ncontrar no ser amado. Ela é capaz de tu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por ele; rouba madrugadas e se faz prisioneira de seus próprios sentimentos. Voluntária, doendo e fel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1484280"/>
            <a:ext cx="3960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Louca e santa, menina e mulher, escrava e senhora, ela não vê defeitos e perdoa com a maior facil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Se entrega tot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Se encanta e ch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Tem sempre o coração que bate depre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51480" y="1700280"/>
            <a:ext cx="3981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Não dorme, sonh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não se alimenta, vive de fanta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Quebra distâncias, barreiras e tabus; é capaz de lutar como uma guerreira para obter o seu amor; nunca desi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620640"/>
            <a:ext cx="381636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765000"/>
            <a:ext cx="3527280" cy="5256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2843280" y="5950080"/>
            <a:ext cx="1555560" cy="309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5"/>
          <a:stretch/>
        </p:blipFill>
        <p:spPr>
          <a:xfrm rot="16200000">
            <a:off x="3574800" y="5289120"/>
            <a:ext cx="1413000" cy="282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6"/>
          <a:stretch/>
        </p:blipFill>
        <p:spPr>
          <a:xfrm rot="5400000">
            <a:off x="-96840" y="1114560"/>
            <a:ext cx="1411200" cy="280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7"/>
          <a:stretch/>
        </p:blipFill>
        <p:spPr>
          <a:xfrm rot="10800000">
            <a:off x="539640" y="548640"/>
            <a:ext cx="1511280" cy="299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51480" y="620640"/>
            <a:ext cx="398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la não gosta de ouvir conselhos, não dá a mínima para o que os outros pensam; ela só conhece uma razã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4560" y="256536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o homem amad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14172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Ela tem olhos que brilham e quase sempre um ar de riso no rosto. É um ser irracional e b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24560" y="4869000"/>
            <a:ext cx="39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Uma mulher apaixonada  é sempre uma mulher boni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60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700"/>
                            </p:stCondLst>
                            <p:childTnLst>
                              <p:par>
                                <p:cTn id="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710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b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620640"/>
            <a:ext cx="7993080" cy="554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765000"/>
            <a:ext cx="7704000" cy="5256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 rot="5400000">
            <a:off x="-90000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 rot="10800000">
            <a:off x="6896160" y="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 rot="16200000">
            <a:off x="7796160" y="90000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 rot="16200000">
            <a:off x="7796160" y="55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689616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>
            <a:off x="0" y="641016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 rot="5400000">
            <a:off x="-900000" y="5192640"/>
            <a:ext cx="2247840" cy="447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4"/>
          <a:stretch/>
        </p:blipFill>
        <p:spPr>
          <a:xfrm rot="5400000">
            <a:off x="-194760" y="1212120"/>
            <a:ext cx="1655640" cy="330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5"/>
          <a:stretch/>
        </p:blipFill>
        <p:spPr>
          <a:xfrm rot="10800000">
            <a:off x="539640" y="519840"/>
            <a:ext cx="1656000" cy="328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6"/>
          <a:stretch/>
        </p:blipFill>
        <p:spPr>
          <a:xfrm>
            <a:off x="6877080" y="5977080"/>
            <a:ext cx="1598760" cy="318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7"/>
          <a:stretch/>
        </p:blipFill>
        <p:spPr>
          <a:xfrm rot="16200000">
            <a:off x="7546320" y="5205960"/>
            <a:ext cx="1742760" cy="347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14600" y="1762200"/>
            <a:ext cx="60102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Texto: Letícia Thompson – Mulher apaix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dbecd4"/>
                </a:solidFill>
                <a:uFillTx/>
                <a:latin typeface="Verdana"/>
                <a:hlinkClick r:id="rId18"/>
              </a:rPr>
              <a:t>www.leticiathompson.net</a:t>
            </a: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Música: </a:t>
            </a:r>
            <a:r>
              <a:rPr b="1" lang="en-US" sz="2000" spc="-1" strike="noStrike">
                <a:solidFill>
                  <a:srgbClr val="cfebcd"/>
                </a:solidFill>
                <a:latin typeface="Verdana"/>
              </a:rPr>
              <a:t>Make It With You</a:t>
            </a: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dbecd4"/>
                </a:solidFill>
                <a:uFillTx/>
                <a:latin typeface="Verdana"/>
                <a:hlinkClick r:id="rId19"/>
              </a:rPr>
              <a:t>bethnorling@globo.com</a:t>
            </a:r>
            <a:r>
              <a:rPr b="1" lang="pt-BR" sz="2000" spc="-1" strike="noStrike">
                <a:solidFill>
                  <a:srgbClr val="cfebc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21:50:04Z</dcterms:created>
  <dc:creator>Beth Norling</dc:creator>
  <dc:description/>
  <dc:language>en-US</dc:language>
  <cp:lastModifiedBy>Beth Norling</cp:lastModifiedBy>
  <dcterms:modified xsi:type="dcterms:W3CDTF">2007-03-14T22:53:44Z</dcterms:modified>
  <cp:revision>4</cp:revision>
  <dc:subject/>
  <dc:title>Mulher_apaixonada</dc:title>
</cp:coreProperties>
</file>