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Make%20It%20With%20You.wav" ContentType="audio/x-wav"/>
  <Override PartName="/ppt/media/image5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9A4D-2490-442E-BDE5-A77C8E042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1593-4F82-4C36-8758-5BBE461A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BDAD-7D31-42A9-ABD5-38387B51B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C1AC-01AC-449E-A748-541323F28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ADF1-10B5-41C5-8A98-A7FE3503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B285-335C-46FE-84E4-13C4A0CE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5340-FB7C-443F-94C3-CF881B67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C658-33D0-48EE-90CC-B7C6A0E9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58F6-B0B1-43D1-9820-9CA34264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094F-E237-4F00-836E-45F819C4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E692-6D1B-4B7C-984E-84514009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2FAB-6B5D-4924-8691-6E3F247E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b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161F-BD94-4E1A-B5E2-A5CE41139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3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audio" Target="../media/Make%20It%20With%20You.wav"/><Relationship Id="rId2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5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6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7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8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9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1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hyperlink" Target="http://www.leticiathompson.net/" TargetMode="External"/><Relationship Id="rId19" Type="http://schemas.openxmlformats.org/officeDocument/2006/relationships/hyperlink" Target="mailto:bethnorling@globo.com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b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620640"/>
            <a:ext cx="3816360" cy="5545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765000"/>
            <a:ext cx="3527280" cy="5256360"/>
          </a:xfrm>
          <a:prstGeom prst="rect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 rot="10800000">
            <a:off x="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 rot="5400000">
            <a:off x="-90000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 rot="10800000">
            <a:off x="689616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 rot="16200000">
            <a:off x="779616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 rot="16200000">
            <a:off x="7796160" y="55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689616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 rot="5400000">
            <a:off x="-900000" y="519264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2843280" y="5950080"/>
            <a:ext cx="1555560" cy="309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 rot="16200000">
            <a:off x="3574800" y="5289120"/>
            <a:ext cx="1413000" cy="282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 rot="5400000">
            <a:off x="-96840" y="1114560"/>
            <a:ext cx="1411200" cy="28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 rot="10800000">
            <a:off x="539640" y="548640"/>
            <a:ext cx="1511280" cy="299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643280" y="2060640"/>
            <a:ext cx="374364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3333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ULHER</a:t>
            </a:r>
            <a:endParaRPr b="0" i="1" lang="en-US" sz="4000" spc="1" strike="noStrike">
              <a:ln w="9360">
                <a:solidFill>
                  <a:srgbClr val="3333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3333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PAIXONADA</a:t>
            </a:r>
            <a:endParaRPr b="0" i="1" lang="en-US" sz="4000" spc="1" strike="noStrike">
              <a:ln w="9360">
                <a:solidFill>
                  <a:srgbClr val="3333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364000" y="4508640"/>
            <a:ext cx="25243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3333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000" spc="1" strike="noStrike">
              <a:ln w="9360">
                <a:solidFill>
                  <a:srgbClr val="333300"/>
                </a:solidFill>
                <a:miter/>
              </a:ln>
              <a:blipFill rotWithShape="0">
                <a:blip r:embed="rId2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b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620640"/>
            <a:ext cx="3816360" cy="5545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765000"/>
            <a:ext cx="3527280" cy="5256360"/>
          </a:xfrm>
          <a:prstGeom prst="rect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 rot="10800000">
            <a:off x="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 rot="5400000">
            <a:off x="-90000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 rot="10800000">
            <a:off x="689616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 rot="16200000">
            <a:off x="779616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 rot="16200000">
            <a:off x="7796160" y="55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1"/>
          <a:stretch/>
        </p:blipFill>
        <p:spPr>
          <a:xfrm>
            <a:off x="689616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2"/>
          <a:stretch/>
        </p:blipFill>
        <p:spPr>
          <a:xfrm>
            <a:off x="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3"/>
          <a:stretch/>
        </p:blipFill>
        <p:spPr>
          <a:xfrm rot="5400000">
            <a:off x="-900000" y="519264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4"/>
          <a:stretch/>
        </p:blipFill>
        <p:spPr>
          <a:xfrm>
            <a:off x="2843280" y="5950080"/>
            <a:ext cx="1555560" cy="309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5"/>
          <a:stretch/>
        </p:blipFill>
        <p:spPr>
          <a:xfrm rot="16200000">
            <a:off x="3574800" y="5289120"/>
            <a:ext cx="1413000" cy="282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6"/>
          <a:stretch/>
        </p:blipFill>
        <p:spPr>
          <a:xfrm rot="5400000">
            <a:off x="-96840" y="1114560"/>
            <a:ext cx="1411200" cy="280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7"/>
          <a:stretch/>
        </p:blipFill>
        <p:spPr>
          <a:xfrm rot="10800000">
            <a:off x="539640" y="548640"/>
            <a:ext cx="1511280" cy="2998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624560" y="1557360"/>
            <a:ext cx="376380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Uma mulher apaixonada não tem cérebro, tem coraçã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ela não pensa, am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não respira, 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Se ela não encontra oportunidades para mostrar o seu amor, fabr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b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620640"/>
            <a:ext cx="3816360" cy="5545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765000"/>
            <a:ext cx="3527280" cy="5256360"/>
          </a:xfrm>
          <a:prstGeom prst="rect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 rot="10800000">
            <a:off x="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 rot="5400000">
            <a:off x="-90000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 rot="10800000">
            <a:off x="689616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9"/>
          <a:stretch/>
        </p:blipFill>
        <p:spPr>
          <a:xfrm rot="16200000">
            <a:off x="779616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0"/>
          <a:stretch/>
        </p:blipFill>
        <p:spPr>
          <a:xfrm rot="16200000">
            <a:off x="7796160" y="55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1"/>
          <a:stretch/>
        </p:blipFill>
        <p:spPr>
          <a:xfrm>
            <a:off x="689616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2"/>
          <a:stretch/>
        </p:blipFill>
        <p:spPr>
          <a:xfrm>
            <a:off x="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3"/>
          <a:stretch/>
        </p:blipFill>
        <p:spPr>
          <a:xfrm rot="5400000">
            <a:off x="-900000" y="519264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4"/>
          <a:stretch/>
        </p:blipFill>
        <p:spPr>
          <a:xfrm>
            <a:off x="2843280" y="5950080"/>
            <a:ext cx="1555560" cy="309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5"/>
          <a:stretch/>
        </p:blipFill>
        <p:spPr>
          <a:xfrm rot="16200000">
            <a:off x="3574800" y="5289120"/>
            <a:ext cx="1413000" cy="282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6"/>
          <a:stretch/>
        </p:blipFill>
        <p:spPr>
          <a:xfrm rot="5400000">
            <a:off x="-96840" y="1114560"/>
            <a:ext cx="1411200" cy="280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7"/>
          <a:stretch/>
        </p:blipFill>
        <p:spPr>
          <a:xfrm rot="10800000">
            <a:off x="539640" y="548640"/>
            <a:ext cx="1511280" cy="299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551480" y="1052640"/>
            <a:ext cx="3836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Uma mulher apaixonada é um ser excepcional, porque ela 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esquece e se perde em si mesma para 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encontrar no ser amado. Ela é capaz de tu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por ele; rouba madrugadas e se faz prisioneira de seus próprios sentimentos. Voluntária, doendo e feli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circl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b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620640"/>
            <a:ext cx="3816360" cy="5545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765000"/>
            <a:ext cx="3527280" cy="5256360"/>
          </a:xfrm>
          <a:prstGeom prst="rect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 rot="10800000">
            <a:off x="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 rot="5400000">
            <a:off x="-90000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 rot="10800000">
            <a:off x="689616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 rot="16200000">
            <a:off x="779616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0"/>
          <a:stretch/>
        </p:blipFill>
        <p:spPr>
          <a:xfrm rot="16200000">
            <a:off x="7796160" y="55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1"/>
          <a:stretch/>
        </p:blipFill>
        <p:spPr>
          <a:xfrm>
            <a:off x="689616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2"/>
          <a:stretch/>
        </p:blipFill>
        <p:spPr>
          <a:xfrm>
            <a:off x="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3"/>
          <a:stretch/>
        </p:blipFill>
        <p:spPr>
          <a:xfrm rot="5400000">
            <a:off x="-900000" y="519264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4"/>
          <a:stretch/>
        </p:blipFill>
        <p:spPr>
          <a:xfrm>
            <a:off x="2843280" y="5950080"/>
            <a:ext cx="1555560" cy="309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5"/>
          <a:stretch/>
        </p:blipFill>
        <p:spPr>
          <a:xfrm rot="16200000">
            <a:off x="3574800" y="5289120"/>
            <a:ext cx="1413000" cy="282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6"/>
          <a:stretch/>
        </p:blipFill>
        <p:spPr>
          <a:xfrm rot="5400000">
            <a:off x="-96840" y="1114560"/>
            <a:ext cx="1411200" cy="280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7"/>
          <a:stretch/>
        </p:blipFill>
        <p:spPr>
          <a:xfrm rot="10800000">
            <a:off x="539640" y="548640"/>
            <a:ext cx="1511280" cy="299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572000" y="1484280"/>
            <a:ext cx="39607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Louca e santa, menina e mulher, escrava e senhora, ela não vê defeitos e perdoa com a maior facilida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Se entrega total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Se encanta e ch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Tem sempre o coração que bate depres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b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620640"/>
            <a:ext cx="3816360" cy="5545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765000"/>
            <a:ext cx="3527280" cy="5256360"/>
          </a:xfrm>
          <a:prstGeom prst="rect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 rot="10800000">
            <a:off x="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 rot="5400000">
            <a:off x="-90000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 rot="10800000">
            <a:off x="689616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9"/>
          <a:stretch/>
        </p:blipFill>
        <p:spPr>
          <a:xfrm rot="16200000">
            <a:off x="779616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0"/>
          <a:stretch/>
        </p:blipFill>
        <p:spPr>
          <a:xfrm rot="16200000">
            <a:off x="7796160" y="55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1"/>
          <a:stretch/>
        </p:blipFill>
        <p:spPr>
          <a:xfrm>
            <a:off x="689616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2"/>
          <a:stretch/>
        </p:blipFill>
        <p:spPr>
          <a:xfrm>
            <a:off x="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3"/>
          <a:stretch/>
        </p:blipFill>
        <p:spPr>
          <a:xfrm rot="5400000">
            <a:off x="-900000" y="519264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4"/>
          <a:stretch/>
        </p:blipFill>
        <p:spPr>
          <a:xfrm>
            <a:off x="2843280" y="5950080"/>
            <a:ext cx="1555560" cy="309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5"/>
          <a:stretch/>
        </p:blipFill>
        <p:spPr>
          <a:xfrm rot="16200000">
            <a:off x="3574800" y="5289120"/>
            <a:ext cx="1413000" cy="282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6"/>
          <a:stretch/>
        </p:blipFill>
        <p:spPr>
          <a:xfrm rot="5400000">
            <a:off x="-96840" y="1114560"/>
            <a:ext cx="1411200" cy="280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7"/>
          <a:stretch/>
        </p:blipFill>
        <p:spPr>
          <a:xfrm rot="10800000">
            <a:off x="539640" y="548640"/>
            <a:ext cx="1511280" cy="299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51480" y="1700280"/>
            <a:ext cx="39812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Não dorme, sonh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não se alimenta, vive de fantas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Quebra distâncias, barreiras e tabus; é capaz de lutar como uma guerreira para obter o seu amor; nunca desi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b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620640"/>
            <a:ext cx="3816360" cy="5545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765000"/>
            <a:ext cx="3527280" cy="5256360"/>
          </a:xfrm>
          <a:prstGeom prst="rect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 rot="10800000">
            <a:off x="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 rot="5400000">
            <a:off x="-90000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 rot="10800000">
            <a:off x="689616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9"/>
          <a:stretch/>
        </p:blipFill>
        <p:spPr>
          <a:xfrm rot="16200000">
            <a:off x="779616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0"/>
          <a:stretch/>
        </p:blipFill>
        <p:spPr>
          <a:xfrm rot="16200000">
            <a:off x="7796160" y="55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1"/>
          <a:stretch/>
        </p:blipFill>
        <p:spPr>
          <a:xfrm>
            <a:off x="689616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2"/>
          <a:stretch/>
        </p:blipFill>
        <p:spPr>
          <a:xfrm>
            <a:off x="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3"/>
          <a:stretch/>
        </p:blipFill>
        <p:spPr>
          <a:xfrm rot="5400000">
            <a:off x="-900000" y="519264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4"/>
          <a:stretch/>
        </p:blipFill>
        <p:spPr>
          <a:xfrm>
            <a:off x="2843280" y="5950080"/>
            <a:ext cx="1555560" cy="309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5"/>
          <a:stretch/>
        </p:blipFill>
        <p:spPr>
          <a:xfrm rot="16200000">
            <a:off x="3574800" y="5289120"/>
            <a:ext cx="1413000" cy="2822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6"/>
          <a:stretch/>
        </p:blipFill>
        <p:spPr>
          <a:xfrm rot="5400000">
            <a:off x="-96840" y="1114560"/>
            <a:ext cx="1411200" cy="280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7"/>
          <a:stretch/>
        </p:blipFill>
        <p:spPr>
          <a:xfrm rot="10800000">
            <a:off x="539640" y="548640"/>
            <a:ext cx="1511280" cy="299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551480" y="620640"/>
            <a:ext cx="398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Ela não gosta de ouvir conselhos, não dá a mínima para o que os outros pensam; ela só conhece uma razã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24560" y="2565360"/>
            <a:ext cx="38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o homem amad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3141720"/>
            <a:ext cx="40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Ela tem olhos que brilham e quase sempre um ar de riso no rosto. É um ser irracional e be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24560" y="4869000"/>
            <a:ext cx="390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Uma mulher apaixonada  é sempre uma mulher bonit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4000">
    <p:circl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8600"/>
                            </p:stCondLst>
                            <p:childTnLst>
                              <p:par>
                                <p:cTn id="48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700"/>
                            </p:stCondLst>
                            <p:childTnLst>
                              <p:par>
                                <p:cTn id="5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7100"/>
                            </p:stCondLst>
                            <p:childTnLst>
                              <p:par>
                                <p:cTn id="61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b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620640"/>
            <a:ext cx="7993080" cy="5545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765000"/>
            <a:ext cx="7704000" cy="5256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 rot="10800000">
            <a:off x="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 rot="5400000">
            <a:off x="-90000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8"/>
          <a:stretch/>
        </p:blipFill>
        <p:spPr>
          <a:xfrm rot="10800000">
            <a:off x="689616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9"/>
          <a:stretch/>
        </p:blipFill>
        <p:spPr>
          <a:xfrm rot="16200000">
            <a:off x="779616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0"/>
          <a:stretch/>
        </p:blipFill>
        <p:spPr>
          <a:xfrm rot="16200000">
            <a:off x="7796160" y="55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1"/>
          <a:stretch/>
        </p:blipFill>
        <p:spPr>
          <a:xfrm>
            <a:off x="689616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2"/>
          <a:stretch/>
        </p:blipFill>
        <p:spPr>
          <a:xfrm>
            <a:off x="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3"/>
          <a:stretch/>
        </p:blipFill>
        <p:spPr>
          <a:xfrm rot="5400000">
            <a:off x="-900000" y="519264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4"/>
          <a:stretch/>
        </p:blipFill>
        <p:spPr>
          <a:xfrm rot="5400000">
            <a:off x="-194760" y="1212120"/>
            <a:ext cx="1655640" cy="330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5"/>
          <a:stretch/>
        </p:blipFill>
        <p:spPr>
          <a:xfrm rot="10800000">
            <a:off x="539640" y="519840"/>
            <a:ext cx="1656000" cy="3286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6"/>
          <a:stretch/>
        </p:blipFill>
        <p:spPr>
          <a:xfrm>
            <a:off x="6877080" y="5977080"/>
            <a:ext cx="1598760" cy="3189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7"/>
          <a:stretch/>
        </p:blipFill>
        <p:spPr>
          <a:xfrm rot="16200000">
            <a:off x="7546320" y="5205960"/>
            <a:ext cx="1742760" cy="3474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614600" y="1762200"/>
            <a:ext cx="601020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febcd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febcd"/>
                </a:solidFill>
                <a:latin typeface="Verdana"/>
              </a:rPr>
              <a:t>Texto: Letícia Thompson – Mulher apaixo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dbecd4"/>
                </a:solidFill>
                <a:uFillTx/>
                <a:latin typeface="Verdana"/>
                <a:hlinkClick r:id="rId18"/>
              </a:rPr>
              <a:t>www.leticiathompson.net</a:t>
            </a:r>
            <a:r>
              <a:rPr b="1" lang="pt-BR" sz="2000" spc="-1" strike="noStrike">
                <a:solidFill>
                  <a:srgbClr val="cfebcd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febcd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febcd"/>
                </a:solidFill>
                <a:latin typeface="Verdana"/>
              </a:rPr>
              <a:t>Música: </a:t>
            </a: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Make It With You</a:t>
            </a:r>
            <a:r>
              <a:rPr b="1" lang="pt-BR" sz="2000" spc="-1" strike="noStrike">
                <a:solidFill>
                  <a:srgbClr val="cfebcd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febcd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febcd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dbecd4"/>
                </a:solidFill>
                <a:uFillTx/>
                <a:latin typeface="Verdana"/>
                <a:hlinkClick r:id="rId19"/>
              </a:rPr>
              <a:t>bethnorling@globo.com</a:t>
            </a:r>
            <a:r>
              <a:rPr b="1" lang="pt-BR" sz="2000" spc="-1" strike="noStrike">
                <a:solidFill>
                  <a:srgbClr val="cfebcd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21:50:04Z</dcterms:created>
  <dc:creator>Beth Norling</dc:creator>
  <dc:description/>
  <dc:language>en-US</dc:language>
  <cp:lastModifiedBy>Beth Norling</cp:lastModifiedBy>
  <dcterms:modified xsi:type="dcterms:W3CDTF">2007-03-14T22:53:44Z</dcterms:modified>
  <cp:revision>4</cp:revision>
  <dc:subject/>
  <dc:title>Mulher_apaixonada</dc:title>
</cp:coreProperties>
</file>