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andrea%20Bocellli%20-%20Ave%20Maria%20no%20morro.wav" ContentType="audio/x-wav"/>
  <Override PartName="/ppt/media/image14.jpeg" ContentType="image/jpeg"/>
  <Override PartName="/ppt/media/image3.png" ContentType="image/png"/>
  <Override PartName="/ppt/media/image17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BA5-3E1D-40A0-A925-69DD05B9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533-4DD1-4180-9B26-F8A2FED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4FC-8885-405F-BC41-2D5ED978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10D-4697-4720-BBDD-480C2DE9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86E-910C-42C8-907E-15921CEB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0CA-6445-486B-8D25-1B73DB7B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30C-AB7E-4C2A-9841-DED4661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081-E13D-467D-BC38-8A367276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AAE-DAB9-4B01-B7EF-C48CD5A1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E2D-8962-4DE3-B9E1-EE841438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414-2445-4AFB-9E47-16092A0C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163-5A49-4C09-8C41-B0F1B6A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66C2-CBE9-4285-BC94-B4D944955A7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audio" Target="../media/andrea%20Bocellli%20-%20Ave%20Maria%20no%20morro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4" descr="0104071024f.jpg"/>
          <p:cNvPicPr/>
          <p:nvPr/>
        </p:nvPicPr>
        <p:blipFill>
          <a:blip r:embed="rId1"/>
          <a:srcRect l="0" t="0" r="0" b="135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m 4" descr="!VOANDO.GIF"/>
          <p:cNvPicPr/>
          <p:nvPr/>
        </p:nvPicPr>
        <p:blipFill>
          <a:blip r:embed="rId2"/>
          <a:stretch/>
        </p:blipFill>
        <p:spPr>
          <a:xfrm>
            <a:off x="2700360" y="126828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43" name="Imagem 4" descr="!VOANDO.GIF"/>
          <p:cNvPicPr/>
          <p:nvPr/>
        </p:nvPicPr>
        <p:blipFill>
          <a:blip r:embed="rId3"/>
          <a:stretch/>
        </p:blipFill>
        <p:spPr>
          <a:xfrm>
            <a:off x="1979640" y="90792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44" name="Retângulo 4" descr=""/>
          <p:cNvPicPr/>
          <p:nvPr/>
        </p:nvPicPr>
        <p:blipFill>
          <a:blip r:embed="rId4"/>
          <a:stretch/>
        </p:blipFill>
        <p:spPr>
          <a:xfrm>
            <a:off x="450720" y="5297400"/>
            <a:ext cx="8236080" cy="154152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5"/>
          <p:cNvSpPr/>
          <p:nvPr/>
        </p:nvSpPr>
        <p:spPr>
          <a:xfrm>
            <a:off x="6887520" y="63086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c000"/>
                </a:solidFill>
                <a:latin typeface="Arial"/>
              </a:rPr>
              <a:t>Semi-auto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  <p:sndAc>
      <p:stSnd>
        <p:snd r:embed="rId5" name="andrea%20Bocellli%20-%20Ave%20Maria%20no%20morr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4" descr="1327945712P95J7al.jpg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2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u tive que aceitar que todos os meus bens foram-me confiados por emprésti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que não me pertenciam e que eram tão fugazes quanto fugaz era a minha própria existência na TERRA. Eu tive que aceitar que os bens ficariam para uso de outras pessoas, quando eu já não estiver por aqui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Espaço Reservado para Conteúdo 3" descr="1232608236hZ1gtvd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2"/>
          <p:cNvSpPr/>
          <p:nvPr/>
        </p:nvSpPr>
        <p:spPr>
          <a:xfrm>
            <a:off x="0" y="26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Monotype Corsiva"/>
              </a:rPr>
              <a:t>Eu tive que aceitar que o que eu chamava de “minha casa” era só um teto temporário que, mais dia menos dia, seria o abrigo terreno de outra famí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Monotype Corsiva"/>
              </a:rPr>
              <a:t>Eu tive que aceitar que o meu apego às coisas só apressaria ainda mais a minha despedida e a minha part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295301788U2vF6P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ítulo 1"/>
          <p:cNvSpPr/>
          <p:nvPr/>
        </p:nvSpPr>
        <p:spPr>
          <a:xfrm>
            <a:off x="4572000" y="0"/>
            <a:ext cx="457200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Monotype Corsiva"/>
              </a:rPr>
              <a:t>Eu tive que aceitar que os meus animais de estimação, a árvore que eu plantei,   as minhas flores e as minhas aves      eram mortais, não me pertenciam!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Foi difícil, mas eu tive que  ace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1317185474kqtTgX6.jpg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64" name="CaixaDeTexto 5"/>
          <p:cNvSpPr/>
          <p:nvPr/>
        </p:nvSpPr>
        <p:spPr>
          <a:xfrm>
            <a:off x="0" y="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Eu tive que aceitar as minhas fragilidades, os meus limites, a minha condição de ser mortal, de ser atingível, de ser perecível. Eu tive que aceitar para não pere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1000imagens (2).jpg"/>
          <p:cNvPicPr/>
          <p:nvPr/>
        </p:nvPicPr>
        <p:blipFill>
          <a:blip r:embed="rId1"/>
          <a:srcRect l="0" t="0" r="0" b="12493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66" name="CaixaDeTexto 2"/>
          <p:cNvSpPr/>
          <p:nvPr/>
        </p:nvSpPr>
        <p:spPr>
          <a:xfrm>
            <a:off x="0" y="260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u tive que aceitar que a VIDA sempre continuaria com ou sem mim e que o mundo  em pouco tempo me esquec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4" descr="get-attachment (5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Eu me rendi e aceitei que eu tinha que ace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Aceitei para deixar de sofrer, para lançar fora o meu orgul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a minha prepotência e para voltar à simplicidade da Naturez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que trata a todos da mesma maneira, sem favorit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3" descr="get-attachment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2"/>
          <p:cNvSpPr/>
          <p:nvPr/>
        </p:nvSpPr>
        <p:spPr>
          <a:xfrm>
            <a:off x="0" y="263700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Humildemente, eu te confesso que foi prec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fazer cessar umas guerras dentro de m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1" descr="1000image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Imagem 3" descr="!VOANDO.GIF"/>
          <p:cNvPicPr/>
          <p:nvPr/>
        </p:nvPicPr>
        <p:blipFill>
          <a:blip r:embed="rId2"/>
          <a:stretch/>
        </p:blipFill>
        <p:spPr>
          <a:xfrm>
            <a:off x="1042920" y="40464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73" name="Imagem 3" descr="!VOANDO.GIF"/>
          <p:cNvPicPr/>
          <p:nvPr/>
        </p:nvPicPr>
        <p:blipFill>
          <a:blip r:embed="rId3"/>
          <a:stretch/>
        </p:blipFill>
        <p:spPr>
          <a:xfrm>
            <a:off x="3059280" y="1557360"/>
            <a:ext cx="3238200" cy="851040"/>
          </a:xfrm>
          <a:prstGeom prst="rect">
            <a:avLst/>
          </a:prstGeom>
          <a:ln w="0">
            <a:noFill/>
          </a:ln>
        </p:spPr>
      </p:pic>
      <p:pic>
        <p:nvPicPr>
          <p:cNvPr id="74" name="Imagem 3" descr="!VOANDO.GIF"/>
          <p:cNvPicPr/>
          <p:nvPr/>
        </p:nvPicPr>
        <p:blipFill>
          <a:blip r:embed="rId4"/>
          <a:stretch/>
        </p:blipFill>
        <p:spPr>
          <a:xfrm>
            <a:off x="3635280" y="549360"/>
            <a:ext cx="3238560" cy="85068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2"/>
          <p:cNvSpPr/>
          <p:nvPr/>
        </p:nvSpPr>
        <p:spPr>
          <a:xfrm>
            <a:off x="0" y="69228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Eu tive que me desarmar e abrir os meus braç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para receber e aceitar a minha tão sonhada Paz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2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m11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272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4" descr="0104071024f.jpg"/>
          <p:cNvPicPr/>
          <p:nvPr/>
        </p:nvPicPr>
        <p:blipFill>
          <a:blip r:embed="rId1"/>
          <a:srcRect l="0" t="0" r="0" b="135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!VOANDO.GIF"/>
          <p:cNvPicPr/>
          <p:nvPr/>
        </p:nvPicPr>
        <p:blipFill>
          <a:blip r:embed="rId2"/>
          <a:stretch/>
        </p:blipFill>
        <p:spPr>
          <a:xfrm>
            <a:off x="3492360" y="112536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79" name="Imagem 3" descr="!VOANDO.GIF"/>
          <p:cNvPicPr/>
          <p:nvPr/>
        </p:nvPicPr>
        <p:blipFill>
          <a:blip r:embed="rId3"/>
          <a:stretch/>
        </p:blipFill>
        <p:spPr>
          <a:xfrm>
            <a:off x="1042920" y="40464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80" name="Imagem 3" descr="!VOANDO.GIF"/>
          <p:cNvPicPr/>
          <p:nvPr/>
        </p:nvPicPr>
        <p:blipFill>
          <a:blip r:embed="rId4"/>
          <a:stretch/>
        </p:blipFill>
        <p:spPr>
          <a:xfrm>
            <a:off x="900000" y="620640"/>
            <a:ext cx="3238560" cy="851040"/>
          </a:xfrm>
          <a:prstGeom prst="rect">
            <a:avLst/>
          </a:prstGeom>
          <a:ln w="0">
            <a:noFill/>
          </a:ln>
        </p:spPr>
      </p:pic>
      <p:pic>
        <p:nvPicPr>
          <p:cNvPr id="81" name="Imagem 3" descr="!VOANDO.GIF"/>
          <p:cNvPicPr/>
          <p:nvPr/>
        </p:nvPicPr>
        <p:blipFill>
          <a:blip r:embed="rId5"/>
          <a:stretch/>
        </p:blipFill>
        <p:spPr>
          <a:xfrm>
            <a:off x="2771640" y="549360"/>
            <a:ext cx="3238560" cy="850680"/>
          </a:xfrm>
          <a:prstGeom prst="rect">
            <a:avLst/>
          </a:prstGeom>
          <a:ln w="0">
            <a:noFill/>
          </a:ln>
        </p:spPr>
      </p:pic>
      <p:pic>
        <p:nvPicPr>
          <p:cNvPr id="82" name="Imagem 3" descr="!VOANDO.GIF"/>
          <p:cNvPicPr/>
          <p:nvPr/>
        </p:nvPicPr>
        <p:blipFill>
          <a:blip r:embed="rId6"/>
          <a:stretch/>
        </p:blipFill>
        <p:spPr>
          <a:xfrm>
            <a:off x="1474920" y="836640"/>
            <a:ext cx="3238200" cy="851040"/>
          </a:xfrm>
          <a:prstGeom prst="rect">
            <a:avLst/>
          </a:prstGeom>
          <a:ln w="0">
            <a:noFill/>
          </a:ln>
        </p:spPr>
      </p:pic>
      <p:pic>
        <p:nvPicPr>
          <p:cNvPr id="83" name="Imagem 3" descr="!VOANDO.GIF"/>
          <p:cNvPicPr/>
          <p:nvPr/>
        </p:nvPicPr>
        <p:blipFill>
          <a:blip r:embed="rId7"/>
          <a:stretch/>
        </p:blipFill>
        <p:spPr>
          <a:xfrm>
            <a:off x="1763640" y="1413000"/>
            <a:ext cx="3238560" cy="850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539317_381688038520080_311491168873101_1238304_1741722892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547957_381290125226538_311491168873101_1237294_1788266396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86" name="CaixaDeTexto 2"/>
          <p:cNvSpPr/>
          <p:nvPr/>
        </p:nvSpPr>
        <p:spPr>
          <a:xfrm>
            <a:off x="1042920" y="4005360"/>
            <a:ext cx="55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Texto- Silvia Schm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Imagens: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Música: Ave-Maria do Mo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Interpretaçã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Monotype Corsiva"/>
              </a:rPr>
              <a:t>Andrea Bocelli  / Luciano  Pavaro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2" descr="543087_387707534584797_311491168873101_1257475_97230449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CaixaDeTexto 2"/>
          <p:cNvSpPr/>
          <p:nvPr/>
        </p:nvSpPr>
        <p:spPr>
          <a:xfrm>
            <a:off x="5828760" y="189000"/>
            <a:ext cx="201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0" spc="-1" strike="noStrike">
                <a:solidFill>
                  <a:srgbClr val="c00000"/>
                </a:solidFill>
                <a:latin typeface="Baskerville Old Face"/>
              </a:rPr>
              <a:t>F I 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_Segunda Partição\Gifs\Flor do Lis2.gif"/>
          <p:cNvPicPr/>
          <p:nvPr/>
        </p:nvPicPr>
        <p:blipFill>
          <a:blip r:embed="rId2"/>
          <a:stretch/>
        </p:blipFill>
        <p:spPr>
          <a:xfrm>
            <a:off x="7093080" y="5732640"/>
            <a:ext cx="971280" cy="971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2" descr="580764_387811507907733_311491168873101_1257839_1206312018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577207_386815364674014_311491168873101_1255139_1082025814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7" descr="get-attachment (7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ool%20HQ%20nature%20wallpapers%20(1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Imagem104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3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u tive que aceitar, que eu viera ao mundo, para fazer algo por e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para tentar dar-lhe o melhor de mim, deixar rastos posi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de minha passagem e, em dado momento, partir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4" descr="get-attachment (5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2"/>
          <p:cNvSpPr/>
          <p:nvPr/>
        </p:nvSpPr>
        <p:spPr>
          <a:xfrm>
            <a:off x="4643280" y="5229360"/>
            <a:ext cx="45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onotype Corsiva"/>
              </a:rPr>
              <a:t>Eu tive que aceitar, que o meu corpo nunca fora imortal, que ele envelhecerá e, um dia, se acab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orest%20mountain%20and%20lake-454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2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u tive que aceitar que os meus pais não durariam para sempre e que meus filhos, pouco a pouco, escolheriam os seus caminhos e prosseguiriam a sua caminhada     sem mim. Eu tive que aceitar que eles não eram meus, como eu supunh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Monotype Corsiva"/>
              </a:rPr>
              <a:t>e que a liberdade de ir e vir é um direito deles também</a:t>
            </a:r>
            <a:r>
              <a:rPr b="1" lang="pt-BR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3:18:06Z</dcterms:created>
  <dc:creator>Marilia</dc:creator>
  <dc:description/>
  <dc:language>en-US</dc:language>
  <cp:lastModifiedBy>Lenovo User</cp:lastModifiedBy>
  <dcterms:modified xsi:type="dcterms:W3CDTF">2013-05-12T16:35:09Z</dcterms:modified>
  <cp:revision>20</cp:revision>
  <dc:subject/>
  <dc:title>Slide 1</dc:title>
</cp:coreProperties>
</file>