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andrea%20Bocellli%20-%20Ave%20Maria%20no%20morro.wav" ContentType="audio/x-wav"/>
  <Override PartName="/ppt/media/image14.jpeg" ContentType="image/jpeg"/>
  <Override PartName="/ppt/media/image3.png" ContentType="image/png"/>
  <Override PartName="/ppt/media/image17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E79-99DA-439A-8971-114B129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02C-3944-4591-A74C-4B29533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AD0-2B82-4555-A4CF-C4DE89FE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BF0-E695-4F43-BA2E-B023E81C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80D-71B1-4B94-814E-A486D20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4C-A115-4961-A3B6-92752D15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6C4-59BC-423C-B6B9-4697F745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EC8-A87A-40C7-AAFE-322DA1C7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9A2-21BE-4D93-83F3-2F031C5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711-3773-4A79-94D9-4490496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27E-A964-40DC-9067-7488276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7ED-A2DD-41D9-A8A1-8E53EE6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621-1ABC-45F4-9063-456D633D012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audio" Target="../media/andrea%20Bocellli%20-%20Ave%20Maria%20no%20morr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4" descr="0104071024f.jpg"/>
          <p:cNvPicPr/>
          <p:nvPr/>
        </p:nvPicPr>
        <p:blipFill>
          <a:blip r:embed="rId1"/>
          <a:srcRect l="0" t="0" r="0" b="13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4" descr="!VOANDO.GIF"/>
          <p:cNvPicPr/>
          <p:nvPr/>
        </p:nvPicPr>
        <p:blipFill>
          <a:blip r:embed="rId2"/>
          <a:stretch/>
        </p:blipFill>
        <p:spPr>
          <a:xfrm>
            <a:off x="2700360" y="126828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43" name="Imagem 4" descr="!VOANDO.GIF"/>
          <p:cNvPicPr/>
          <p:nvPr/>
        </p:nvPicPr>
        <p:blipFill>
          <a:blip r:embed="rId3"/>
          <a:stretch/>
        </p:blipFill>
        <p:spPr>
          <a:xfrm>
            <a:off x="1979640" y="90792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4" descr=""/>
          <p:cNvPicPr/>
          <p:nvPr/>
        </p:nvPicPr>
        <p:blipFill>
          <a:blip r:embed="rId4"/>
          <a:stretch/>
        </p:blipFill>
        <p:spPr>
          <a:xfrm>
            <a:off x="450720" y="5297400"/>
            <a:ext cx="8236080" cy="15415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5"/>
          <p:cNvSpPr/>
          <p:nvPr/>
        </p:nvSpPr>
        <p:spPr>
          <a:xfrm>
            <a:off x="6887520" y="63086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"/>
              </a:rPr>
              <a:t>Semi-au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  <p:sndAc>
      <p:stSnd>
        <p:snd r:embed="rId5" name="andrea%20Bocellli%20-%20Ave%20Maria%20no%20mor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4" descr="1327945712P95J7al.jpg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2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todos os meus bens foram-me confiados por emprést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que não me pertenciam e que eram tão fugazes quanto fugaz era a minha própria existência na TERRA. Eu tive que aceitar que os bens ficariam para uso de outras pessoas, quando eu já não estiver por aqui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ço Reservado para Conteúdo 3" descr="1232608236hZ1gtvd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0" y="26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Monotype Corsiva"/>
              </a:rPr>
              <a:t>Eu tive que aceitar que o que eu chamava de “minha casa” era só um teto temporário que, mais dia menos dia, seria o abrigo terreno de outra famí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Monotype Corsiva"/>
              </a:rPr>
              <a:t>Eu tive que aceitar que o meu apego às coisas só apressaria ainda mais a minha despedida e a minha par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295301788U2vF6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ítulo 1"/>
          <p:cNvSpPr/>
          <p:nvPr/>
        </p:nvSpPr>
        <p:spPr>
          <a:xfrm>
            <a:off x="4572000" y="0"/>
            <a:ext cx="4572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Monotype Corsiva"/>
              </a:rPr>
              <a:t>Eu tive que aceitar que os meus animais de estimação, a árvore que eu plantei,   as minhas flores e as minhas aves      eram mortais, não me pertenciam!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Foi difícil, mas eu tive que  ac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1317185474kqtTgX6.jpg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5"/>
          <p:cNvSpPr/>
          <p:nvPr/>
        </p:nvSpPr>
        <p:spPr>
          <a:xfrm>
            <a:off x="0" y="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Eu tive que aceitar as minhas fragilidades, os meus limites, a minha condição de ser mortal, de ser atingível, de ser perecível. Eu tive que aceitar para não pere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1000imagens (2).jpg"/>
          <p:cNvPicPr/>
          <p:nvPr/>
        </p:nvPicPr>
        <p:blipFill>
          <a:blip r:embed="rId1"/>
          <a:srcRect l="0" t="0" r="0" b="12493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2"/>
          <p:cNvSpPr/>
          <p:nvPr/>
        </p:nvSpPr>
        <p:spPr>
          <a:xfrm>
            <a:off x="0" y="260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a VIDA sempre continuaria com ou sem mim e que o mundo  em pouco tempo me esquec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4" descr="get-attachment (5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Eu me rendi e aceitei que eu tinha que ac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Aceitei para deixar de sofrer, para lançar fora o meu orgul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a minha prepotência e para voltar à simplicidade da Naturez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que trata a todos da mesma maneira, sem favori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3" descr="get-attachment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2"/>
          <p:cNvSpPr/>
          <p:nvPr/>
        </p:nvSpPr>
        <p:spPr>
          <a:xfrm>
            <a:off x="0" y="263700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Humildemente, eu te confesso que foi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fazer cessar umas guerras dentro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1000image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!VOANDO.GIF"/>
          <p:cNvPicPr/>
          <p:nvPr/>
        </p:nvPicPr>
        <p:blipFill>
          <a:blip r:embed="rId2"/>
          <a:stretch/>
        </p:blipFill>
        <p:spPr>
          <a:xfrm>
            <a:off x="1042920" y="404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73" name="Imagem 3" descr="!VOANDO.GIF"/>
          <p:cNvPicPr/>
          <p:nvPr/>
        </p:nvPicPr>
        <p:blipFill>
          <a:blip r:embed="rId3"/>
          <a:stretch/>
        </p:blipFill>
        <p:spPr>
          <a:xfrm>
            <a:off x="3059280" y="1557360"/>
            <a:ext cx="3238200" cy="851040"/>
          </a:xfrm>
          <a:prstGeom prst="rect">
            <a:avLst/>
          </a:prstGeom>
          <a:ln w="0">
            <a:noFill/>
          </a:ln>
        </p:spPr>
      </p:pic>
      <p:pic>
        <p:nvPicPr>
          <p:cNvPr id="74" name="Imagem 3" descr="!VOANDO.GIF"/>
          <p:cNvPicPr/>
          <p:nvPr/>
        </p:nvPicPr>
        <p:blipFill>
          <a:blip r:embed="rId4"/>
          <a:stretch/>
        </p:blipFill>
        <p:spPr>
          <a:xfrm>
            <a:off x="3635280" y="549360"/>
            <a:ext cx="3238560" cy="8506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2"/>
          <p:cNvSpPr/>
          <p:nvPr/>
        </p:nvSpPr>
        <p:spPr>
          <a:xfrm>
            <a:off x="0" y="69228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Eu tive que me desarmar e abrir os meus braç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para receber e aceitar a minha tão sonhada Pa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2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m11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27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4" descr="0104071024f.jpg"/>
          <p:cNvPicPr/>
          <p:nvPr/>
        </p:nvPicPr>
        <p:blipFill>
          <a:blip r:embed="rId1"/>
          <a:srcRect l="0" t="0" r="0" b="13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!VOANDO.GIF"/>
          <p:cNvPicPr/>
          <p:nvPr/>
        </p:nvPicPr>
        <p:blipFill>
          <a:blip r:embed="rId2"/>
          <a:stretch/>
        </p:blipFill>
        <p:spPr>
          <a:xfrm>
            <a:off x="3492360" y="112536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79" name="Imagem 3" descr="!VOANDO.GIF"/>
          <p:cNvPicPr/>
          <p:nvPr/>
        </p:nvPicPr>
        <p:blipFill>
          <a:blip r:embed="rId3"/>
          <a:stretch/>
        </p:blipFill>
        <p:spPr>
          <a:xfrm>
            <a:off x="1042920" y="404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80" name="Imagem 3" descr="!VOANDO.GIF"/>
          <p:cNvPicPr/>
          <p:nvPr/>
        </p:nvPicPr>
        <p:blipFill>
          <a:blip r:embed="rId4"/>
          <a:stretch/>
        </p:blipFill>
        <p:spPr>
          <a:xfrm>
            <a:off x="900000" y="620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!VOANDO.GIF"/>
          <p:cNvPicPr/>
          <p:nvPr/>
        </p:nvPicPr>
        <p:blipFill>
          <a:blip r:embed="rId5"/>
          <a:stretch/>
        </p:blipFill>
        <p:spPr>
          <a:xfrm>
            <a:off x="2771640" y="549360"/>
            <a:ext cx="3238560" cy="850680"/>
          </a:xfrm>
          <a:prstGeom prst="rect">
            <a:avLst/>
          </a:prstGeom>
          <a:ln w="0">
            <a:noFill/>
          </a:ln>
        </p:spPr>
      </p:pic>
      <p:pic>
        <p:nvPicPr>
          <p:cNvPr id="82" name="Imagem 3" descr="!VOANDO.GIF"/>
          <p:cNvPicPr/>
          <p:nvPr/>
        </p:nvPicPr>
        <p:blipFill>
          <a:blip r:embed="rId6"/>
          <a:stretch/>
        </p:blipFill>
        <p:spPr>
          <a:xfrm>
            <a:off x="1474920" y="836640"/>
            <a:ext cx="3238200" cy="851040"/>
          </a:xfrm>
          <a:prstGeom prst="rect">
            <a:avLst/>
          </a:prstGeom>
          <a:ln w="0">
            <a:noFill/>
          </a:ln>
        </p:spPr>
      </p:pic>
      <p:pic>
        <p:nvPicPr>
          <p:cNvPr id="83" name="Imagem 3" descr="!VOANDO.GIF"/>
          <p:cNvPicPr/>
          <p:nvPr/>
        </p:nvPicPr>
        <p:blipFill>
          <a:blip r:embed="rId7"/>
          <a:stretch/>
        </p:blipFill>
        <p:spPr>
          <a:xfrm>
            <a:off x="1763640" y="1413000"/>
            <a:ext cx="3238560" cy="850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539317_381688038520080_311491168873101_1238304_174172289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547957_381290125226538_311491168873101_1237294_178826639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2"/>
          <p:cNvSpPr/>
          <p:nvPr/>
        </p:nvSpPr>
        <p:spPr>
          <a:xfrm>
            <a:off x="1042920" y="4005360"/>
            <a:ext cx="55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Texto- Silvia Schm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Imagens: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Música: Ave-Maria do Mo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Interpretaçã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Andrea Bocelli  / Luciano  Pavaro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2" descr="543087_387707534584797_311491168873101_1257475_9723044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CaixaDeTexto 2"/>
          <p:cNvSpPr/>
          <p:nvPr/>
        </p:nvSpPr>
        <p:spPr>
          <a:xfrm>
            <a:off x="5828760" y="189000"/>
            <a:ext cx="201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c00000"/>
                </a:solidFill>
                <a:latin typeface="Baskerville Old Face"/>
              </a:rPr>
              <a:t>F I 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_Segunda Partição\Gifs\Flor do Lis2.gif"/>
          <p:cNvPicPr/>
          <p:nvPr/>
        </p:nvPicPr>
        <p:blipFill>
          <a:blip r:embed="rId2"/>
          <a:stretch/>
        </p:blipFill>
        <p:spPr>
          <a:xfrm>
            <a:off x="7093080" y="5732640"/>
            <a:ext cx="971280" cy="971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2" descr="580764_387811507907733_311491168873101_1257839_1206312018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577207_386815364674014_311491168873101_1255139_108202581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7" descr="get-attachment (7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ol%20HQ%20nature%20wallpapers%20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agem104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, que eu viera ao mundo, para fazer algo por e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para tentar dar-lhe o melhor de mim, deixar rastos posi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de minha passagem e, em dado momento, partir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4" descr="get-attachment (5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4643280" y="5229360"/>
            <a:ext cx="45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Eu tive que aceitar, que o meu corpo nunca fora imortal, que ele envelhecerá e, um dia, se acab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rest%20mountain%20and%20lake-454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os meus pais não durariam para sempre e que meus filhos, pouco a pouco, escolheriam os seus caminhos e prosseguiriam a sua caminhada     sem mim. Eu tive que aceitar que eles não eram meus, como eu supunh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 que a liberdade de ir e vir é um direito deles também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18:06Z</dcterms:created>
  <dc:creator>Marilia</dc:creator>
  <dc:description/>
  <dc:language>en-US</dc:language>
  <cp:lastModifiedBy>Lenovo User</cp:lastModifiedBy>
  <dcterms:modified xsi:type="dcterms:W3CDTF">2013-05-12T16:35:09Z</dcterms:modified>
  <cp:revision>20</cp:revision>
  <dc:subject/>
  <dc:title>Slide 1</dc:title>
</cp:coreProperties>
</file>