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Enia%20hope_has_a_place%201.23.wav" ContentType="audio/x-wav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7E37-1BAA-4C78-9BAA-16EF119D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DF33-E5EF-44BD-9EAB-67B957E2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1C79-D665-4E09-A8F0-89520E9E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52FE-5249-4068-B1BF-37428127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D37A-C59F-4252-9664-5750D9BE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A14E-4791-4F76-BE2A-7F3D68CA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71A8-CECB-4B13-9425-1C89D931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F12E-0762-4323-A959-73F976CB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A2B1-F435-4667-AC44-1E300341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3EC5-834E-4C9C-AE88-B086B0B0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BDA6-0750-4BA9-A073-4CBADD1B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04A7-A33E-4432-B09B-D83DA767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9D02-D9C7-4BDF-A0B1-C3A67CB9619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nia%20hope_has_a_place%201.23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hyperlink" Target="http://www.leticiathompson.net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81080" y="228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Copperplate Gothic Light"/>
                <a:ea typeface="Times New Roman"/>
              </a:rPr>
              <a:t>Uma canção pela p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905120"/>
            <a:ext cx="7772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Copperplate Gothic Light"/>
                <a:ea typeface="Times New Roman"/>
              </a:rPr>
              <a:t>Paz, paz pra que a vida possa ser vivida                  A todo momento em paz Paz, sem guerra, sem fronteira, e uma só bandeira Que conduz sempre à paz.                                    Paz, pra que a natureza retrate a beleza De seus reinos juntos comungando a pa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2000">
    <p:randomBar dir="vert"/>
    <p:sndAc>
      <p:stSnd>
        <p:snd r:embed="rId2" name="Enia%20hope_has_a_place%201.23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2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66680" y="990720"/>
            <a:ext cx="7239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Copperplate Gothic Light"/>
                <a:ea typeface="Times New Roman"/>
              </a:rPr>
              <a:t>Paz, paz pra que a criança cresça na esperança de um mundo amigo da paz                                  Paz, paz, pra que o mundo guarde lá no fundo seu lado criança e mais                                         paz, pra que o ser humano, ao subir o pano Represente o amor nos palcos da pa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randomBa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8380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Copperplate Gothic Light"/>
                <a:ea typeface="Times New Roman"/>
              </a:rPr>
              <a:t>Paz, pra que o universo cante o mesmo verso numa só canção celebrando a paz. Paz, na presença divina, na luz que ilumina. Os passos de quem é capaz de viver em paz...</a:t>
            </a:r>
            <a:r>
              <a:rPr b="1" lang="en-US" sz="2800" spc="-1" strike="noStrike">
                <a:solidFill>
                  <a:srgbClr val="00cc99"/>
                </a:solidFill>
                <a:latin typeface="Copperplate Gothic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41911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Copperplate Gothic Light"/>
                <a:ea typeface="Times New Roman"/>
              </a:rPr>
              <a:t>Edson Aquino</a:t>
            </a:r>
            <a:r>
              <a:rPr b="1" i="1" lang="en-US" sz="2800" spc="-1" strike="noStrike">
                <a:solidFill>
                  <a:srgbClr val="424262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cc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828800" y="22860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00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00"/>
                </a:solidFill>
                <a:latin typeface="Times New Roman"/>
              </a:rPr>
              <a:t>Enia – Hope Has a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137160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2666880"/>
            <a:ext cx="723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cccc00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4419720"/>
            <a:ext cx="72388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cc00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eticiathompson.net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400"/>
                            </p:stCondLst>
                            <p:childTnLst>
                              <p:par>
                                <p:cTn id="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75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425"/>
                            </p:stCondLst>
                            <p:childTnLst>
                              <p:par>
                                <p:cTn id="4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725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20:44:34Z</dcterms:created>
  <dc:creator>ssoliver@terra.com.br </dc:creator>
  <dc:description/>
  <dc:language>en-US</dc:language>
  <cp:lastModifiedBy>Leticia Thompson</cp:lastModifiedBy>
  <dcterms:modified xsi:type="dcterms:W3CDTF">2004-11-02T19:34:26Z</dcterms:modified>
  <cp:revision>4</cp:revision>
  <dc:subject/>
  <dc:title>Uma canção pela paz</dc:title>
</cp:coreProperties>
</file>