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Andr%C3%A9%20Rieu%20-%20M%C3%A9ditation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21D-496C-4968-84DD-5C2239B3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742-D4E7-47EB-8B0E-660EFC36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347-9156-4527-85D0-22170F83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429-A3BC-4BD9-B25E-D756F440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EFD18-3B86-4B2A-930B-49FDA3BE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D9F90-F64F-4C3D-A820-800D4D6E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E49BD-F6FF-46E5-A43A-C931E18A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7E609-000F-40FE-8C01-25CB124F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154B6-48FF-4E5F-B15C-8EC8DAC6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D62D8-D9F8-4BCB-A9BB-810E7FF6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0596D-1CA3-4464-B61D-403CBC1A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5AC-9AD6-4570-9ADE-22E2BEE5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54CCF-3AEA-4538-ACCA-4BA3AE59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61FAD-8CF1-45AC-8C4F-078CEADC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693CC-240A-4B12-AAED-74EAC50B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DE26B-DCC0-4417-B096-4824A4FB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7D37B-A660-4A3D-B078-E60959B5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A8AC1-72EE-4F76-875F-94E564FA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5BC8-94AD-4949-A822-AA65BAC6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5BF1-07CF-4336-ADD0-08ED3FF8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3062-AC9F-4F3D-A80A-2010B173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00414-8B00-49A1-A03C-3DD8DECE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021-B10A-4F43-879F-25E2DED2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2897F-393B-43D5-AF13-FCF4D5D2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2121-F4CA-4316-9DAA-AC173B82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E7797-9C5A-4059-8C66-D51E7202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E5B1-A684-44D2-BE75-99A7939F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DDE35-21FE-4D13-AEA8-1BF4733E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6B71E-3232-4035-B2EC-FDCCE21C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F8635-B57B-45ED-A73D-51C17B09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C84AD0-7AED-469C-8BDA-BF2AE0A2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F757D9-9D6A-4092-9F5E-D51B03AD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3E6183-A456-4254-82C4-D0C83342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04D-0EF9-4283-A944-F3242259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B650A8-703B-43B6-93CB-B21F0FF6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551E1-A09D-4AAD-B32F-C4164E5B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5C298A-743C-465F-B666-5C78CCD6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2A6369-EE88-4322-AE6C-03E6B0AC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522A69-8DCC-42F5-8774-3F2AF22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CB78BC-C9C9-45CF-9888-D5E0CACA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6B8FF-AF34-4FC3-8192-51361923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99E17-D1AF-4001-A381-7F597ABA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03CD6C-58E0-4579-96CE-8B8CF333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2AB-E8D0-461C-8D73-A881A885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A91-049A-477D-8CB1-1531E446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7053-89CF-4F15-8717-92C7B168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8DB-20A9-424C-AB1F-ACB95F97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020C-846E-4A43-9998-FC55BDAC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33AB-26BD-442D-80AD-6EB3ECE8B5D3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FC4D-1507-4264-A532-D53156286252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6431-D7E2-4629-A0BB-58D88720BDD4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85BF-8BCC-4002-A64E-96662846D380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ndr&#233;%20Rieu%20-%20M&#233;ditatio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sibaltimore.com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Rectángulo"/>
          <p:cNvSpPr/>
          <p:nvPr/>
        </p:nvSpPr>
        <p:spPr>
          <a:xfrm>
            <a:off x="0" y="4133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nstantia"/>
              </a:rPr>
              <a:t>Este fruto chama-se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onstantia"/>
              </a:rPr>
              <a:t>Anona ou Chirimoia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5 Imagen" descr="guanabana.jpg"/>
          <p:cNvPicPr/>
          <p:nvPr/>
        </p:nvPicPr>
        <p:blipFill>
          <a:blip r:embed="rId2"/>
          <a:stretch/>
        </p:blipFill>
        <p:spPr>
          <a:xfrm>
            <a:off x="2714760" y="285840"/>
            <a:ext cx="3786120" cy="3857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26920" y="604044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Tem som e o avanço é automá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random/>
    <p:sndAc>
      <p:stSnd>
        <p:snd r:embed="rId3" name="Andr%C3%A9%20Rieu%20-%20M%C3%A9ditatio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Rectángulo"/>
          <p:cNvSpPr/>
          <p:nvPr/>
        </p:nvSpPr>
        <p:spPr>
          <a:xfrm>
            <a:off x="214200" y="214200"/>
            <a:ext cx="85726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 fonte desta informação é fascinante: procede de um dos maiores fabricantes de remédios do mundo, afirmando que depois de mais de 200 provas de laboratório, realizadas a partir de 1970, as conclusões revelaram que: 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destrói as células malignas em </a:t>
            </a: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12</a:t>
            </a: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 tipos de câncer, incluindo as do cólon, do peito, da próstata, dos pulmões e do pâncrea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http://2.bp.blogspot.com/_A7uge5LtAnY/RxjGjM1fc-I/AAAAAAAACdQ/XoAHFSuIngs/s400/cancer-imagen.jpg"/>
          <p:cNvPicPr/>
          <p:nvPr/>
        </p:nvPicPr>
        <p:blipFill>
          <a:blip r:embed="rId2"/>
          <a:stretch/>
        </p:blipFill>
        <p:spPr>
          <a:xfrm>
            <a:off x="3071880" y="4786200"/>
            <a:ext cx="2714400" cy="1833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Rectángulo"/>
          <p:cNvSpPr/>
          <p:nvPr/>
        </p:nvSpPr>
        <p:spPr>
          <a:xfrm>
            <a:off x="214200" y="285840"/>
            <a:ext cx="86439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Instituto de Ciências da Saúde,                      L.L.C. 819 N. Charles Street Baltimore, MD  1201</a:t>
            </a:r>
            <a:br>
              <a:rPr sz="3200"/>
            </a:br>
            <a:r>
              <a:rPr b="0" lang="es-ES" sz="32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http://www.hsibaltimor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4 Rectángulo"/>
          <p:cNvSpPr/>
          <p:nvPr/>
        </p:nvSpPr>
        <p:spPr>
          <a:xfrm>
            <a:off x="214200" y="5357880"/>
            <a:ext cx="871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¡¡¡¡POR FAVOR REENVIE PARA TODOS OS SEUS CONTACTOS...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http://toxiccrow.net/home/wp-content/uploads/2010/03/cancer-child.jpg"/>
          <p:cNvPicPr/>
          <p:nvPr/>
        </p:nvPicPr>
        <p:blipFill>
          <a:blip r:embed="rId3"/>
          <a:stretch/>
        </p:blipFill>
        <p:spPr>
          <a:xfrm>
            <a:off x="4071960" y="2500200"/>
            <a:ext cx="4062240" cy="2900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2.bp.blogspot.com/_A7uge5LtAnY/RxjGjM1fc-I/AAAAAAAACdQ/XoAHFSuIngs/s400/cancer-imagen.jpg"/>
          <p:cNvPicPr/>
          <p:nvPr/>
        </p:nvPicPr>
        <p:blipFill>
          <a:blip r:embed="rId4"/>
          <a:srcRect l="18424" t="0" r="18424" b="0"/>
          <a:stretch/>
        </p:blipFill>
        <p:spPr>
          <a:xfrm>
            <a:off x="928800" y="2643120"/>
            <a:ext cx="2428920" cy="2597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6308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Traduzido do Castelhano por Luís Pi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Rectángulo"/>
          <p:cNvSpPr/>
          <p:nvPr/>
        </p:nvSpPr>
        <p:spPr>
          <a:xfrm>
            <a:off x="2786040" y="428760"/>
            <a:ext cx="61437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 Anona, ou seja o fruto da árvore Graviola é um produto milagroso para matar as células cancerosas. É 10,000 vezes mais potente do que a quimioterapia. ¿Porque não estamos inteirados disto? Porque há organizações  interessadas em encontrar uma versão sintética, que lhes permitam obter fabulosos lucr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" descr="http://www.inglesparatodos.webs.com/img/fruitspicsvocabulary/custardapple.jpg"/>
          <p:cNvPicPr/>
          <p:nvPr/>
        </p:nvPicPr>
        <p:blipFill>
          <a:blip r:embed="rId2"/>
          <a:stretch/>
        </p:blipFill>
        <p:spPr>
          <a:xfrm>
            <a:off x="214200" y="1643040"/>
            <a:ext cx="264348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Rectángulo"/>
          <p:cNvSpPr/>
          <p:nvPr/>
        </p:nvSpPr>
        <p:spPr>
          <a:xfrm>
            <a:off x="357120" y="692280"/>
            <a:ext cx="5072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sssim, de agora em diante, você poderá  ajudar um amigo que  necessite, fazendo-lhe saber que convém  beber sumo de anona, para  curar a enfermidade.                 O seu sabor é  agradáve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e não produz os efeitos horríveis da  quimioterap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" descr="http://static.consumer.es/frutas/imgs/fotografias/chirimoya/recetatiff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643720" y="135720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Rectángulo"/>
          <p:cNvSpPr/>
          <p:nvPr/>
        </p:nvSpPr>
        <p:spPr>
          <a:xfrm>
            <a:off x="214200" y="35712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nstantia"/>
              </a:rPr>
              <a:t>¿Quantas pessoas morrem enquanto este segredo permanece guardado a sete chaves, para não pôr em risco os lucros multimilionários de gran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nstantia"/>
              </a:rPr>
              <a:t>empres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http://peynado1.com/blog/wp-content/uploads/2010/06/Se-abre-la-primera-unidad-de-terapia-molecular-para-el-c%C3%A1ncer-en-Espa%C3%B1a.jpg"/>
          <p:cNvPicPr/>
          <p:nvPr/>
        </p:nvPicPr>
        <p:blipFill>
          <a:blip r:embed="rId2"/>
          <a:stretch/>
        </p:blipFill>
        <p:spPr>
          <a:xfrm>
            <a:off x="1571760" y="2286000"/>
            <a:ext cx="6215040" cy="41432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Rectángulo"/>
          <p:cNvSpPr/>
          <p:nvPr/>
        </p:nvSpPr>
        <p:spPr>
          <a:xfrm>
            <a:off x="285840" y="571680"/>
            <a:ext cx="85723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Convém saber que a árvore das anonas é de pequeno porte. Não ocupa muito  espaço. Conhece-se pelo nome de   “</a:t>
            </a:r>
            <a:r>
              <a:rPr b="1" lang="es-ES" sz="3600" spc="-1" strike="noStrike">
                <a:solidFill>
                  <a:srgbClr val="ff0000"/>
                </a:solidFill>
                <a:latin typeface="Constantia"/>
              </a:rPr>
              <a:t>GRAVIOLA</a:t>
            </a: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” no Brasil, por “</a:t>
            </a:r>
            <a:r>
              <a:rPr b="1" lang="es-ES" sz="3600" spc="-1" strike="noStrike">
                <a:solidFill>
                  <a:srgbClr val="ff0000"/>
                </a:solidFill>
                <a:latin typeface="Constantia"/>
              </a:rPr>
              <a:t>GUANÁBANA</a:t>
            </a: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” nos países  hispano-americanos, e por “</a:t>
            </a:r>
            <a:r>
              <a:rPr b="1" lang="es-ES" sz="3600" spc="-1" strike="noStrike">
                <a:solidFill>
                  <a:srgbClr val="ff0000"/>
                </a:solidFill>
                <a:latin typeface="Constantia"/>
              </a:rPr>
              <a:t>SOURSOP</a:t>
            </a: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” nos países de expressão inglesa.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onstantia"/>
              </a:rPr>
              <a:t>O fruto é grande e a sua polpa branca, doce, come-se directamente, ou é utilizado normalmente, para fazer  bebidas, sorvetes, doces, etc.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Rectángulo"/>
          <p:cNvSpPr/>
          <p:nvPr/>
        </p:nvSpPr>
        <p:spPr>
          <a:xfrm>
            <a:off x="214200" y="285840"/>
            <a:ext cx="871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E se tiver a possibilidade de o fazer, plante uma árvore de anonas no pátio traseiro da sua casa. Todas as suas partes são úteis. 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A próxima vez que quiser beber um sumo, peça um de anonas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http://t1.gstatic.com/images?q=tbn:ANd9GcQzbFD9ap1b1CJ19xSgJrH7_wkAa4bsE0h44spBbqrmCtvtH1A&amp;t=1&amp;usg=__8KgpSK2TLleOu5G1xInd2aIc_VQ="/>
          <p:cNvPicPr/>
          <p:nvPr/>
        </p:nvPicPr>
        <p:blipFill>
          <a:blip r:embed="rId2"/>
          <a:stretch/>
        </p:blipFill>
        <p:spPr>
          <a:xfrm>
            <a:off x="1571760" y="2786040"/>
            <a:ext cx="5913360" cy="37861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Rectángulo"/>
          <p:cNvSpPr/>
          <p:nvPr/>
        </p:nvSpPr>
        <p:spPr>
          <a:xfrm>
            <a:off x="214200" y="357120"/>
            <a:ext cx="850104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onstantia"/>
              </a:rPr>
              <a:t>O interesse nesta planta deve-se aos seus fortes efeitos anti-cancerígenos. E ainda se lhe atribuem muitas mais propriedades, sendo a mais interessante o efeito que produz sobre os tumores. Está provado que esta planta é um remédio contra todos os tipos de câncer. Há mesmo quem afirme ser de grande utilidade no combate para todos os tipos de cânc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http://t1.gstatic.com/images?q=tbn:bLE5PRYgflA8_M:http://www.laverdad.es/murcia/interactivo/imagenes_del_dia/imagenes/chirimoya230906.jpg&amp;t=1"/>
          <p:cNvPicPr/>
          <p:nvPr/>
        </p:nvPicPr>
        <p:blipFill>
          <a:blip r:embed="rId2"/>
          <a:stretch/>
        </p:blipFill>
        <p:spPr>
          <a:xfrm>
            <a:off x="480960" y="4214880"/>
            <a:ext cx="2876760" cy="2193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4.bp.blogspot.com/_peArSKMd5Lc/S5ezGuQm9oI/AAAAAAAAAv0/PN4fAsK70R4/s320/chirimoya3.jpg"/>
          <p:cNvPicPr/>
          <p:nvPr/>
        </p:nvPicPr>
        <p:blipFill>
          <a:blip r:embed="rId3"/>
          <a:stretch/>
        </p:blipFill>
        <p:spPr>
          <a:xfrm>
            <a:off x="5572080" y="4214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Rectángulo"/>
          <p:cNvSpPr/>
          <p:nvPr/>
        </p:nvSpPr>
        <p:spPr>
          <a:xfrm>
            <a:off x="285840" y="765000"/>
            <a:ext cx="5072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Considera-se que é um  agente anti-micróbios, de largo espectro, contra as infecções bacterianas e por fungos. É eficaz contra os parasitas internos  e vermes, baixa a tensão arterial e é um  anti-depressivo, combatendo a tensão e as desordens nervo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http://estaticos.elmundo.es/elmundosalud/especiales/2008/09/dermocosmetica/img/fotos/grandes/5_9.jpg"/>
          <p:cNvPicPr/>
          <p:nvPr/>
        </p:nvPicPr>
        <p:blipFill>
          <a:blip r:embed="rId2"/>
          <a:stretch/>
        </p:blipFill>
        <p:spPr>
          <a:xfrm>
            <a:off x="5429160" y="69696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www.labgeminis.com/ver_imagen.php?id_imagen=189"/>
          <p:cNvPicPr/>
          <p:nvPr/>
        </p:nvPicPr>
        <p:blipFill>
          <a:blip r:embed="rId3"/>
          <a:stretch/>
        </p:blipFill>
        <p:spPr>
          <a:xfrm>
            <a:off x="5357880" y="3929040"/>
            <a:ext cx="3390840" cy="20700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3 Rectángulo"/>
          <p:cNvSpPr/>
          <p:nvPr/>
        </p:nvSpPr>
        <p:spPr>
          <a:xfrm>
            <a:off x="2928960" y="376200"/>
            <a:ext cx="60008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nstantia"/>
              </a:rPr>
              <a:t>Os  componente desta árvore  demonstraram actuar 10,000 vezes melhor, retardando o crescimento das células do câncer do que o produto  Adriamycin, uma droga quimioterapêutica, normalmente utilizada no mundo.  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nstantia"/>
              </a:rPr>
              <a:t>E o que é </a:t>
            </a:r>
            <a:r>
              <a:rPr b="1" i="1" lang="es-ES" sz="2800" spc="-1" strike="noStrike">
                <a:solidFill>
                  <a:srgbClr val="ffffff"/>
                </a:solidFill>
                <a:latin typeface="Constantia"/>
              </a:rPr>
              <a:t>todavia mais assombro-so: este tipo de terapia, com o extracto  de Graviola, ou Guanábana, destrói  somente as células malignas do câncer 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nstantia"/>
              </a:rPr>
              <a:t>não afecta as células sã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2" descr="http://www.vitaminac.com.pe/images/cancer.jpg"/>
          <p:cNvPicPr/>
          <p:nvPr/>
        </p:nvPicPr>
        <p:blipFill>
          <a:blip r:embed="rId2"/>
          <a:srcRect l="7012" t="1797" r="4203" b="4903"/>
          <a:stretch/>
        </p:blipFill>
        <p:spPr>
          <a:xfrm>
            <a:off x="214200" y="928800"/>
            <a:ext cx="2714760" cy="50004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01:40:42Z</dcterms:created>
  <dc:creator>USUARIO</dc:creator>
  <dc:description/>
  <dc:language>en-US</dc:language>
  <cp:lastModifiedBy>joão</cp:lastModifiedBy>
  <dcterms:modified xsi:type="dcterms:W3CDTF">2010-12-14T04:56:10Z</dcterms:modified>
  <cp:revision>13</cp:revision>
  <dc:subject/>
  <dc:title>Diapositiva 1</dc:title>
</cp:coreProperties>
</file>