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Andr%C3%A9%20Rieu%20-%20M%C3%A9ditat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247-AECF-4FBE-92BB-97DF6D50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C59-0452-4106-88A3-667F127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511-24A7-4F63-9112-159B3B8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D8F-74C0-4D67-A181-2F3E6165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A6860-206B-4DEB-82A8-F44FDA9D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EEFA-CE09-404F-AAC6-8910B1E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87DF5-A1F1-42E8-BD2A-C1CCD28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3DEE3-CC42-4CC7-8419-07E63334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4592E-FDE9-4F0E-A5A1-3A39929F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6521D-E249-4562-A32D-293FBF61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682C3-06DF-45D8-AC67-6EDE7F95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3CA-2DE8-4065-9379-C0592A4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4C43-52FD-41A6-B5C9-2E38111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F8FBE-BCC9-44B9-B547-1723DED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87D7-048B-490E-B0BD-3956C54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CBD82-5BCD-477A-BEBE-059E9AB4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90343-813C-4693-A324-8C903C0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8963-A932-4E8C-B83B-F2D7FAF4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2338-08A6-44C8-89BD-C0FF9BD4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7524-35BA-4A78-82F0-9180C95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E59B-0729-4FBB-8A1C-D6B623D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D612-2B0D-4CA3-AE28-B5D9D211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698-42A5-4EAD-96C1-B24CF76D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776E-4F25-4444-82A5-42D8946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320D-4333-44BF-99B5-6076E55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CAFC-09E5-4A02-BB1C-F14B167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2689-75C1-4B7A-B956-057C730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11AA-2121-4D31-B189-3385BE68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C9DC-8394-47F7-AD8F-B0DC5B9B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EFC5-A736-4F32-AB3D-7C061E4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33C0A-4DC2-4863-AF39-801A0CE6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B20BB-E822-45E8-8E81-8F044C6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E33BD-A98C-4D58-A189-AEDE191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79D-E77F-4C90-8901-E22B6E51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E1A65-3685-4938-8416-9CD1FDE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BC4B0-DAA3-4A90-9419-1DA4F9BD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9A534-A323-4B1E-BD62-89232A1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84B7D-7408-46C5-8501-CDFD82A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C60DB-860C-439F-AE3E-EE5FB2E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9A162-EDFD-4B2C-8AB3-7CBFD27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2E6FF-7CCB-46A5-A6CC-472ADFE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DE5F4-AB8C-44AB-8C58-18BB4A2D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6BD58-637F-4CD2-9154-6B0E1FB8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316-1669-4F11-A2B6-17A9183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3DE-6504-4D31-9A88-E0FED92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2C7-660D-479F-98AC-863F85B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880-99B2-4C7D-99FD-D0C6020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E0A-108C-4FD4-AF7B-8B5F4C6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6F3-859C-42FA-BE5D-22A2A0C275C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6903-7404-4B63-B22B-04DE4806658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768-1C69-4E4A-A0FE-0FB1618E0AB7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B09-67B6-45BD-9179-BD4D18C1517F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dr&#233;%20Rieu%20-%20M&#233;ditati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sibaltimore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Rectángulo"/>
          <p:cNvSpPr/>
          <p:nvPr/>
        </p:nvSpPr>
        <p:spPr>
          <a:xfrm>
            <a:off x="0" y="4133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Este fruto chama-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Anona ou Chirimoi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5 Imagen" descr="guanabana.jpg"/>
          <p:cNvPicPr/>
          <p:nvPr/>
        </p:nvPicPr>
        <p:blipFill>
          <a:blip r:embed="rId2"/>
          <a:stretch/>
        </p:blipFill>
        <p:spPr>
          <a:xfrm>
            <a:off x="2714760" y="285840"/>
            <a:ext cx="3786120" cy="3857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60404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em som e o avanço é autom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Andr%C3%A9%20Rieu%20-%20M%C3%A9dita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Rectángulo"/>
          <p:cNvSpPr/>
          <p:nvPr/>
        </p:nvSpPr>
        <p:spPr>
          <a:xfrm>
            <a:off x="214200" y="21420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fonte desta informação é fascinante: procede de um dos maiores fabricantes de remédios do mundo, afirmando que depois de mais de 200 provas de laboratório, realizadas a partir de 1970, as conclusões revelaram que: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destrói as células malignas em 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12</a:t>
            </a: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 tipos de câncer, incluindo as do cólon, do peito, da próstata, dos pulmões e do pâncre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2.bp.blogspot.com/_A7uge5LtAnY/RxjGjM1fc-I/AAAAAAAACdQ/XoAHFSuIngs/s400/cancer-imagen.jpg"/>
          <p:cNvPicPr/>
          <p:nvPr/>
        </p:nvPicPr>
        <p:blipFill>
          <a:blip r:embed="rId2"/>
          <a:stretch/>
        </p:blipFill>
        <p:spPr>
          <a:xfrm>
            <a:off x="3071880" y="4786200"/>
            <a:ext cx="2714400" cy="183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Rectángulo"/>
          <p:cNvSpPr/>
          <p:nvPr/>
        </p:nvSpPr>
        <p:spPr>
          <a:xfrm>
            <a:off x="214200" y="285840"/>
            <a:ext cx="8643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Instituto de Ciências da Saúde,                      L.L.C. 819 N. Charles Street Baltimore, MD  1201</a:t>
            </a:r>
            <a:br>
              <a:rPr sz="3200"/>
            </a:br>
            <a:r>
              <a:rPr b="0" lang="es-ES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hsibaltimo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4 Rectángulo"/>
          <p:cNvSpPr/>
          <p:nvPr/>
        </p:nvSpPr>
        <p:spPr>
          <a:xfrm>
            <a:off x="214200" y="535788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¡¡¡¡POR FAVOR REENVIE PARA TODOS OS SEUS CONTACTOS...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http://toxiccrow.net/home/wp-content/uploads/2010/03/cancer-child.jpg"/>
          <p:cNvPicPr/>
          <p:nvPr/>
        </p:nvPicPr>
        <p:blipFill>
          <a:blip r:embed="rId3"/>
          <a:stretch/>
        </p:blipFill>
        <p:spPr>
          <a:xfrm>
            <a:off x="4071960" y="2500200"/>
            <a:ext cx="4062240" cy="290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2.bp.blogspot.com/_A7uge5LtAnY/RxjGjM1fc-I/AAAAAAAACdQ/XoAHFSuIngs/s400/cancer-imagen.jpg"/>
          <p:cNvPicPr/>
          <p:nvPr/>
        </p:nvPicPr>
        <p:blipFill>
          <a:blip r:embed="rId4"/>
          <a:srcRect l="18424" t="0" r="18424" b="0"/>
          <a:stretch/>
        </p:blipFill>
        <p:spPr>
          <a:xfrm>
            <a:off x="928800" y="2643120"/>
            <a:ext cx="2428920" cy="2597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raduzido do Castelhano por Luís Pi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Rectángulo"/>
          <p:cNvSpPr/>
          <p:nvPr/>
        </p:nvSpPr>
        <p:spPr>
          <a:xfrm>
            <a:off x="2786040" y="428760"/>
            <a:ext cx="6143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Anona, ou seja o fruto da árvore Graviola é um produto milagroso para matar as células cancerosas. É 10,000 vezes mais potente do que a quimioterapia. ¿Porque não estamos inteirados disto? Porque há organizações  interessadas em encontrar uma versão sintética, que lhes permitam obter fabulosos luc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inglesparatodos.webs.com/img/fruitspicsvocabulary/custardapple.jpg"/>
          <p:cNvPicPr/>
          <p:nvPr/>
        </p:nvPicPr>
        <p:blipFill>
          <a:blip r:embed="rId2"/>
          <a:stretch/>
        </p:blipFill>
        <p:spPr>
          <a:xfrm>
            <a:off x="214200" y="1643040"/>
            <a:ext cx="2643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Rectángulo"/>
          <p:cNvSpPr/>
          <p:nvPr/>
        </p:nvSpPr>
        <p:spPr>
          <a:xfrm>
            <a:off x="357120" y="69228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sssim, de agora em diante, você poderá  ajudar um amigo que  necessite, fazendo-lhe saber que convém  beber sumo de anona, para  curar a enfermidade.                 O seu sabor é  agradáv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não produz os efeitos horríveis da  quimi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http://static.consumer.es/frutas/imgs/fotografias/chirimoya/recetatif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643720" y="135720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Rectángulo"/>
          <p:cNvSpPr/>
          <p:nvPr/>
        </p:nvSpPr>
        <p:spPr>
          <a:xfrm>
            <a:off x="214200" y="357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¿Quantas pessoas morrem enquanto este segredo permanece guardado a sete chaves, para não pôr em risco os lucros multimilionários de gran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mpres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peynado1.com/blog/wp-content/uploads/2010/06/Se-abre-la-primera-unidad-de-terapia-molecular-para-el-c%C3%A1ncer-en-Espa%C3%B1a.jpg"/>
          <p:cNvPicPr/>
          <p:nvPr/>
        </p:nvPicPr>
        <p:blipFill>
          <a:blip r:embed="rId2"/>
          <a:stretch/>
        </p:blipFill>
        <p:spPr>
          <a:xfrm>
            <a:off x="1571760" y="228600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Rectángulo"/>
          <p:cNvSpPr/>
          <p:nvPr/>
        </p:nvSpPr>
        <p:spPr>
          <a:xfrm>
            <a:off x="285840" y="571680"/>
            <a:ext cx="8572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Convém saber que a árvore das anonas é de pequeno porte. Não ocupa muito  espaço. Conhece-se pelo nome de  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RAVIOL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 Brasil,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UANÁBAN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 hispano-americanos, e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SOURSOP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de expressão ingles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O fruto é grande e a sua polpa branca, doce, come-se directamente, ou é utilizado normalmente, para fazer  bebidas, sorvetes, doces, etc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Rectángulo"/>
          <p:cNvSpPr/>
          <p:nvPr/>
        </p:nvSpPr>
        <p:spPr>
          <a:xfrm>
            <a:off x="214200" y="28584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se tiver a possibilidade de o fazer, plante uma árvore de anonas no pátio traseiro da sua casa. Todas as suas partes são úteis.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próxima vez que quiser beber um sumo, peça um de anonas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http://t1.gstatic.com/images?q=tbn:ANd9GcQzbFD9ap1b1CJ19xSgJrH7_wkAa4bsE0h44spBbqrmCtvtH1A&amp;t=1&amp;usg=__8KgpSK2TLleOu5G1xInd2aIc_VQ="/>
          <p:cNvPicPr/>
          <p:nvPr/>
        </p:nvPicPr>
        <p:blipFill>
          <a:blip r:embed="rId2"/>
          <a:stretch/>
        </p:blipFill>
        <p:spPr>
          <a:xfrm>
            <a:off x="1571760" y="2786040"/>
            <a:ext cx="591336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Rectángulo"/>
          <p:cNvSpPr/>
          <p:nvPr/>
        </p:nvSpPr>
        <p:spPr>
          <a:xfrm>
            <a:off x="214200" y="357120"/>
            <a:ext cx="85010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nstantia"/>
              </a:rPr>
              <a:t>O interesse nesta planta deve-se aos seus fortes efeitos anti-cancerígenos. E ainda se lhe atribuem muitas mais propriedades, sendo a mais interessante o efeito que produz sobre os tumores. Está provado que esta planta é um remédio contra todos os tipos de câncer. Há mesmo quem afirme ser de grande utilidade no combate para todos os tipos de cânc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http://t1.gstatic.com/images?q=tbn:bLE5PRYgflA8_M:http://www.laverdad.es/murcia/interactivo/imagenes_del_dia/imagenes/chirimoya230906.jpg&amp;t=1"/>
          <p:cNvPicPr/>
          <p:nvPr/>
        </p:nvPicPr>
        <p:blipFill>
          <a:blip r:embed="rId2"/>
          <a:stretch/>
        </p:blipFill>
        <p:spPr>
          <a:xfrm>
            <a:off x="480960" y="4214880"/>
            <a:ext cx="2876760" cy="2193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4.bp.blogspot.com/_peArSKMd5Lc/S5ezGuQm9oI/AAAAAAAAAv0/PN4fAsK70R4/s320/chirimoya3.jpg"/>
          <p:cNvPicPr/>
          <p:nvPr/>
        </p:nvPicPr>
        <p:blipFill>
          <a:blip r:embed="rId3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Rectángulo"/>
          <p:cNvSpPr/>
          <p:nvPr/>
        </p:nvSpPr>
        <p:spPr>
          <a:xfrm>
            <a:off x="285840" y="76500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Considera-se que é um  agente anti-micróbios, de largo espectro, contra as infecções bacterianas e por fungos. É eficaz contra os parasitas internos  e vermes, baixa a tensão arterial e é um  anti-depressivo, combatendo a tensão e as desordens nerv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http://estaticos.elmundo.es/elmundosalud/especiales/2008/09/dermocosmetica/img/fotos/grandes/5_9.jpg"/>
          <p:cNvPicPr/>
          <p:nvPr/>
        </p:nvPicPr>
        <p:blipFill>
          <a:blip r:embed="rId2"/>
          <a:stretch/>
        </p:blipFill>
        <p:spPr>
          <a:xfrm>
            <a:off x="5429160" y="69696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labgeminis.com/ver_imagen.php?id_imagen=189"/>
          <p:cNvPicPr/>
          <p:nvPr/>
        </p:nvPicPr>
        <p:blipFill>
          <a:blip r:embed="rId3"/>
          <a:stretch/>
        </p:blipFill>
        <p:spPr>
          <a:xfrm>
            <a:off x="5357880" y="3929040"/>
            <a:ext cx="3390840" cy="2070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Rectángulo"/>
          <p:cNvSpPr/>
          <p:nvPr/>
        </p:nvSpPr>
        <p:spPr>
          <a:xfrm>
            <a:off x="2928960" y="376200"/>
            <a:ext cx="6000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Os  componente desta árvore  demonstraram actuar 10,000 vezes melhor, retardando o crescimento das células do câncer do que o produto  Adriamycin, uma droga quimioterapêutica, normalmente utilizada no mundo. 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 o que é </a:t>
            </a: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todavia mais assombro-so: este tipo de terapia, com o extracto  de Graviola, ou Guanábana, destrói  somente as células malignas do câncer 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não afecta as células sã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http://www.vitaminac.com.pe/images/cancer.jpg"/>
          <p:cNvPicPr/>
          <p:nvPr/>
        </p:nvPicPr>
        <p:blipFill>
          <a:blip r:embed="rId2"/>
          <a:srcRect l="7012" t="1797" r="4203" b="4903"/>
          <a:stretch/>
        </p:blipFill>
        <p:spPr>
          <a:xfrm>
            <a:off x="214200" y="928800"/>
            <a:ext cx="271476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1:40:42Z</dcterms:created>
  <dc:creator>USUARIO</dc:creator>
  <dc:description/>
  <dc:language>en-US</dc:language>
  <cp:lastModifiedBy>joão</cp:lastModifiedBy>
  <dcterms:modified xsi:type="dcterms:W3CDTF">2010-12-14T04:56:10Z</dcterms:modified>
  <cp:revision>13</cp:revision>
  <dc:subject/>
  <dc:title>Diapositiva 1</dc:title>
</cp:coreProperties>
</file>