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jpeg" ContentType="image/jpeg"/>
  <Override PartName="/ppt/media/The_angel_(vocal)_Andre_Rieu.wav" ContentType="audio/x-wav"/>
  <Override PartName="/ppt/media/image2.jpeg" ContentType="image/jpeg"/>
  <Override PartName="/ppt/media/image1.jpeg" ContentType="image/jpeg"/>
  <Override PartName="/ppt/media/image7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430-A645-48C8-8209-01E2F6DE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1C3-0071-491C-9C15-980FE6A6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D3E-2564-49D0-862F-AA0677D6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A6E-D432-45F9-9868-7AE5BC44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247-D7AD-4E43-84E3-4516DE76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22D-8F77-466A-87F3-E8356885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ED7-B568-4EC2-B408-DCBEF8EA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05B-07B5-4D3F-9F8C-6D1ED18A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43B-E64B-4D53-A348-35D35570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E19-2DFD-442C-991C-C8143F06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6E3-0D6A-4223-9F5F-CA71FC5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620-1705-4A9D-9808-4795FB2C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CFDB-1153-4FBF-A8B9-CD39D0616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4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audio" Target="../media/The_angel_(vocal)_Andre_Rieu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9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0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1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2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3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14.jpe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hyperlink" Target="http://www.leticiathompson.net/" TargetMode="External"/><Relationship Id="rId19" Type="http://schemas.openxmlformats.org/officeDocument/2006/relationships/hyperlink" Target="mailto:bethnorling@globo.com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211640" y="2349360"/>
            <a:ext cx="28861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ASSA DE MIM</a:t>
            </a:r>
            <a:endParaRPr b="0" i="1" lang="en-US" sz="2800" spc="1" strike="noStrike">
              <a:ln w="0">
                <a:noFill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ESSE CÁLICE</a:t>
            </a:r>
            <a:endParaRPr b="0" i="1" lang="en-US" sz="2800" spc="1" strike="noStrike">
              <a:ln w="0">
                <a:noFill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640" y="378936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684360" y="4508640"/>
            <a:ext cx="1590480" cy="1590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03280" y="1844640"/>
            <a:ext cx="302436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nho medo pelas pessoas que dizem nada temer. Não pode haver tamanho orgulho e por detrás desses corajosos há uma alma que precisa de aj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58920" y="2349360"/>
            <a:ext cx="669780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m foi mais perfeito que Jes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que grande lição de humildade quando, em  meio à angústia, Ele disse: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“Pai, se possível, passa de mim esse cálice.”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não me lembro em algum momento em que Ele tenha dito que não tinha medo de nada, que era forte, corajoso e valente, mesmo se possuía todos esses atributos e ainda muito m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 sabia quem era e do que era capa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m palav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11120" y="3500280"/>
            <a:ext cx="657396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Jesus, além de Santo, era humano e provou ao preço das próprias lág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O temor do Senhor é o princípio da sabedoria. Os loucos desprezam a sabedoria e a instrução”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iz a Bíb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3068640"/>
            <a:ext cx="69120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medo é esse sentimento estranho que se agarra às nossas entranhas e deixa a vida assim como que se estivesse pendurada por um fio. Ele nos deixa frágeis, abertos e acessíveis ao que teme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s paradoxalmente, a nossa consciência dele é o que nos alerta para a porta de saí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m não teme, não se prep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66760" y="3933720"/>
            <a:ext cx="67899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É a consciência de nossa fragilidade e exposição ao perigo que nos leva a procurar ajuda. Uma pessoa com problemas mentais não se reconhece do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s sãos sabem-se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6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7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8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58920" y="1916280"/>
            <a:ext cx="42498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ria muito bom ev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os os cálices amarg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s se a vontade do Pai deve ser feita, que o bebamos sim, porque não há vitória sem luta e muito doce é o sabor da conqu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500360" y="-4167000"/>
            <a:ext cx="142920" cy="914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500360" y="1807920"/>
            <a:ext cx="14292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4500360" y="1376280"/>
            <a:ext cx="14292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250560" y="0"/>
            <a:ext cx="14292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8675280" y="0"/>
            <a:ext cx="14292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243640" y="0"/>
            <a:ext cx="142920" cy="685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84360" y="0"/>
            <a:ext cx="142560" cy="685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0" y="548640"/>
            <a:ext cx="9144000" cy="142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0" y="6093000"/>
            <a:ext cx="9144000" cy="142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-2889360" y="3357360"/>
            <a:ext cx="6858000" cy="1429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5101920" y="3357360"/>
            <a:ext cx="6858000" cy="142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981000"/>
            <a:ext cx="7272360" cy="482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4"/>
          <a:stretch/>
        </p:blipFill>
        <p:spPr>
          <a:xfrm>
            <a:off x="684360" y="69228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5"/>
          <a:stretch/>
        </p:blipFill>
        <p:spPr>
          <a:xfrm>
            <a:off x="6804000" y="692280"/>
            <a:ext cx="1590840" cy="1590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6"/>
          <a:stretch/>
        </p:blipFill>
        <p:spPr>
          <a:xfrm>
            <a:off x="6877080" y="4508640"/>
            <a:ext cx="1590480" cy="1590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7"/>
          <a:stretch/>
        </p:blipFill>
        <p:spPr>
          <a:xfrm>
            <a:off x="684360" y="4437000"/>
            <a:ext cx="1590480" cy="159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43120" y="1690560"/>
            <a:ext cx="56372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8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André Rieu – The ang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9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9:56:02Z</dcterms:created>
  <dc:creator>Beth Norling</dc:creator>
  <dc:description/>
  <dc:language>en-US</dc:language>
  <cp:lastModifiedBy>Beth Norling</cp:lastModifiedBy>
  <dcterms:modified xsi:type="dcterms:W3CDTF">2007-07-09T21:42:21Z</dcterms:modified>
  <cp:revision>8</cp:revision>
  <dc:subject/>
  <dc:title>Passa_de_mim_esse_calice</dc:title>
</cp:coreProperties>
</file>