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jpeg" ContentType="image/jpeg"/>
  <Override PartName="/ppt/media/The_angel_(vocal)_Andre_Rieu.wav" ContentType="audio/x-wav"/>
  <Override PartName="/ppt/media/image2.jpeg" ContentType="image/jpeg"/>
  <Override PartName="/ppt/media/image1.jpeg" ContentType="image/jpeg"/>
  <Override PartName="/ppt/media/image7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BE3-A356-4BED-9FB4-C2EA98A5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1DF-8A8B-456A-8C3F-580D7306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054-C8F3-4795-81A8-68159352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035-A0DC-4B1C-AD08-B87CFF89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5DD-42BD-45A0-B015-29680576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BD5-1E8C-4407-895D-5532E979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6EC-7E64-4293-84CC-4BE84B42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54A-5958-435C-849B-C3B16338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DA5-94E3-4FB6-BD72-A4CFC32C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6E5-2043-452B-AA3F-6CD9884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475-71A1-44FA-B7E1-C0D9663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84A-5061-41F0-8394-C062CF7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A546-3AA5-4519-A64C-F54524D84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4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audio" Target="../media/The_angel_(vocal)_Andre_Rieu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9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0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1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2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3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4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211640" y="2349360"/>
            <a:ext cx="28861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ASSA DE MIM</a:t>
            </a:r>
            <a:endParaRPr b="0" i="1" lang="en-US" sz="2800" spc="1" strike="noStrike">
              <a:ln w="0">
                <a:noFill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ESSE CÁLICE</a:t>
            </a:r>
            <a:endParaRPr b="0" i="1" lang="en-US" sz="2800" spc="1" strike="noStrike">
              <a:ln w="0">
                <a:noFill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640" y="378936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684360" y="4508640"/>
            <a:ext cx="1590480" cy="1590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03280" y="1844640"/>
            <a:ext cx="302436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nho medo pelas pessoas que dizem nada temer. Não pode haver tamanho orgulho e por detrás desses corajosos há uma alma que precisa de aj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58920" y="2349360"/>
            <a:ext cx="669780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m foi mais perfeito que Jes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que grande lição de humildade quando, em  meio à angústia, Ele disse: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“Pai, se possível, passa de mim esse cálice.”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não me lembro em algum momento em que Ele tenha dito que não tinha medo de nada, que era forte, corajoso e valente, mesmo se possuía todos esses atributos e ainda muito m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 sabia quem era e do que era capa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m palav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11120" y="3500280"/>
            <a:ext cx="65739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Jesus, além de Santo, era humano e provou ao preço das próprias lág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O temor do Senhor é o princípio da sabedoria. Os loucos desprezam a sabedoria e a instrução”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iz a Bíb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3068640"/>
            <a:ext cx="69120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medo é esse sentimento estranho que se agarra às nossas entranhas e deixa a vida assim como que se estivesse pendurada por um fio. Ele nos deixa frágeis, abertos e acessíveis ao que teme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s paradoxalmente, a nossa consciência dele é o que nos alerta para a porta de saí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m não teme, não se prep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66760" y="3933720"/>
            <a:ext cx="67899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É a consciência de nossa fragilidade e exposição ao perigo que nos leva a procurar ajuda. Uma pessoa com problemas mentais não se reconhece do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s sãos sabem-se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58920" y="1916280"/>
            <a:ext cx="42498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ria muito bom ev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os os cálices amarg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s se a vontade do Pai deve ser feita, que o bebamos sim, porque não há vitória sem luta e muito doce é o sabor da conqu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4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5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6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7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43120" y="1690560"/>
            <a:ext cx="56372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8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André Rieu – The ang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9:56:02Z</dcterms:created>
  <dc:creator>Beth Norling</dc:creator>
  <dc:description/>
  <dc:language>en-US</dc:language>
  <cp:lastModifiedBy>Beth Norling</cp:lastModifiedBy>
  <dcterms:modified xsi:type="dcterms:W3CDTF">2007-07-09T21:42:21Z</dcterms:modified>
  <cp:revision>8</cp:revision>
  <dc:subject/>
  <dc:title>Passa_de_mim_esse_calice</dc:title>
</cp:coreProperties>
</file>