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Valdir%20Azevedo%20-%20As%20Rosas%20Nao%20falam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2C0-9E2E-4BA6-942F-F1390AD7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365-C14C-4CA9-82E1-A9E0E431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A7E-F21A-4336-AE28-73FFED5C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EFC-00A9-4589-851A-EABEF54C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55E-866E-4477-A72B-DA0E8CFC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254-E179-46F6-A1EB-83739DD6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56D-73B3-4317-999B-861E2EC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941-CFA8-4E49-877E-4334F9BD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E02-17A6-41F7-8B2D-B010BF8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45A-6382-4522-94B2-CEFAF02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16A-6015-497A-956D-CF093BAE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DC9-F3BA-48CC-8438-D93CF21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9FA-E84F-4EFA-98BA-DDA2EFB8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audio" Target="../media/Valdir%20Azevedo%20-%20As%20Rosas%20Nao%20falam.wav"/><Relationship Id="rId2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hyperlink" Target="mailto:contact@leticiathompson.net" TargetMode="External"/><Relationship Id="rId23" Type="http://schemas.openxmlformats.org/officeDocument/2006/relationships/hyperlink" Target="http://www.leticiathompson.net/" TargetMode="External"/><Relationship Id="rId24" Type="http://schemas.openxmlformats.org/officeDocument/2006/relationships/hyperlink" Target="mailto:marlick@ig.com.br" TargetMode="External"/><Relationship Id="rId2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03280" y="1557360"/>
            <a:ext cx="62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latin typeface="comic"/>
              </a:rPr>
              <a:t>O amor não mor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stretch/>
              </a:blipFill>
              <a:latin typeface="comic"/>
              <a:ea typeface="com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700360" y="3860640"/>
            <a:ext cx="371484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stretch/>
                </a:blipFill>
                <a:latin typeface="Eras Medium ITC"/>
              </a:rPr>
              <a:t>Letícia Thompso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stretch/>
              </a:blipFill>
              <a:latin typeface="Eras Medium ITC"/>
              <a:ea typeface="Eras Medium IT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88000" y="5084640"/>
            <a:ext cx="9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stretch/>
                </a:blipFill>
                <a:latin typeface="comic"/>
              </a:rPr>
              <a:t>S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stretch/>
              </a:blipFill>
              <a:latin typeface="comic"/>
              <a:ea typeface="comic"/>
            </a:endParaRPr>
          </a:p>
        </p:txBody>
      </p:sp>
    </p:spTree>
  </p:cSld>
  <p:transition spd="slow">
    <p:comb dir="horz"/>
    <p:sndAc>
      <p:stSnd>
        <p:snd r:embed="rId28" name="Valdir%20Azevedo%20-%20As%20Rosas%20Nao%20fal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276640"/>
            <a:ext cx="69976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não morre. Ele se cansa mu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ezes. Ele se refugia em algum recanto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lma tentando se esconder do tédio que m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s relacion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1413000"/>
            <a:ext cx="661032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reciso confundir fadiga com desam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ama. Quem ama, ama sempre.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saparece é a musicalidade do sen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 causa? O cotidiano, o fazer as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isas, o fato de não haver mais mistéri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 não haver mais como surpreender o ou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ão mesmices: mesmos carinhos,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alavras, mesmas horas... o outro já sab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alta magia. Falta o inesp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197000"/>
            <a:ext cx="71852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fato de não se ter mais nada a conquis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ostra o fim do caminho. Nada mais a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pessoas se acomodam e tentam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ncentrar em outras coisas, atividades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vezes não têm nada a ver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lacionamentos. Outras procuram aventu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las querem, a todo custo, se redescobr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ivas; querem reencontrar o que julg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: o prazer da paixão, o susto do c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batendo apressado diante de alguém,o s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 em sonhos intermináveis e dese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infin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39840" y="1773360"/>
            <a:ext cx="6375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ossível uma vida sem amor. Ou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mor adormec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e você ama alguém, desperte o amo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rme! Vez ou outra, faça al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xtraordinário. Faça loucuras, com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lores, ofereça um jantar, ponha um no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fu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1120" y="1916280"/>
            <a:ext cx="65185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permita que o amor durma enqu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ocê está acordado sem saber o que fa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a vida. Reconquiste! Acred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conquistar é uma tarefa muito mais ár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 que conquistar, pois vai exigir 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sforço muito maior. 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abe de uma cois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ale a pena! Vale muito a pen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1040" y="1216080"/>
            <a:ext cx="5269320" cy="60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-mail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contact@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it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úsica: As rosas não f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aldir Azev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matação: </a:t>
            </a: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Marli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marlick@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speite os créd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23:04Z</dcterms:created>
  <dc:creator>Marli                marlick@ig.com.br</dc:creator>
  <dc:description>Autora: Letícia thompson - não retirar e nem modificar os créditos.</dc:description>
  <dc:language>en-US</dc:language>
  <cp:lastModifiedBy>One</cp:lastModifiedBy>
  <dcterms:modified xsi:type="dcterms:W3CDTF">2007-03-14T19:53:06Z</dcterms:modified>
  <cp:revision>3</cp:revision>
  <dc:subject/>
  <dc:title>O amor não morre.pps.marli</dc:title>
</cp:coreProperties>
</file>