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Valdir%20Azevedo%20-%20As%20Rosas%20Nao%20falam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7B9-1387-459B-81DC-F5BBA585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E56-06D5-4D2A-9A55-C792CF25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E93-058E-4D05-B8FD-6B6BD677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273-73AC-4953-8F4E-689816B4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9B7-DAFF-4C4A-92F6-A965C99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CF3-F93D-496C-ABED-5EE943B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349-ADF6-474E-9A9F-6156D68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E56-658F-4D58-A5C6-BC181FA0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483-7D8E-4FE4-A9E7-A5F6B3A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25E-3718-4499-9267-732C662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716-D16D-436C-BAE4-5D2B5D2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A1A-4A3F-4F2F-9FB1-BEB257D4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815E-8918-4B0D-B70A-5034E949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audio" Target="../media/Valdir%20Azevedo%20-%20As%20Rosas%20Nao%20falam.wav"/><Relationship Id="rId2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hyperlink" Target="mailto:contact@leticiathompson.net" TargetMode="External"/><Relationship Id="rId23" Type="http://schemas.openxmlformats.org/officeDocument/2006/relationships/hyperlink" Target="http://www.leticiathompson.net/" TargetMode="External"/><Relationship Id="rId24" Type="http://schemas.openxmlformats.org/officeDocument/2006/relationships/hyperlink" Target="mailto:marlick@ig.com.br" TargetMode="External"/><Relationship Id="rId2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03280" y="1557360"/>
            <a:ext cx="62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latin typeface="comic"/>
              </a:rPr>
              <a:t>O amor não mor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stretch/>
              </a:blip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00360" y="3860640"/>
            <a:ext cx="37148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stretch/>
                </a:blipFill>
                <a:latin typeface="Eras Medium ITC"/>
              </a:rPr>
              <a:t>Letícia Thompso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stretch/>
              </a:blipFill>
              <a:latin typeface="Eras Medium ITC"/>
              <a:ea typeface="Eras Medium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88000" y="5084640"/>
            <a:ext cx="9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comic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comic"/>
              <a:ea typeface="comic"/>
            </a:endParaRPr>
          </a:p>
        </p:txBody>
      </p:sp>
    </p:spTree>
  </p:cSld>
  <p:transition spd="slow">
    <p:comb dir="horz"/>
    <p:sndAc>
      <p:stSnd>
        <p:snd r:embed="rId28" name="Valdir%20Azevedo%20-%20As%20Rosas%20Nao%20fal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276640"/>
            <a:ext cx="69976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não morre. Ele se cansa mu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ezes. Ele se refugia em algum recan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lma tentando se esconder do tédio que 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s relacion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1413000"/>
            <a:ext cx="661032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reciso confundir fadiga com des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ama. Quem ama, ama sempre.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saparece é a musicalidade do sen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 causa? O cotidiano, o fazer as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isas, o fato de não haver mais mistéri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 não haver mais como surpreender o ou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ão mesmices: mesmos carinhos,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alavras, mesmas horas... o outro já sab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alta magia. Falta o inesp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197000"/>
            <a:ext cx="71852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fato de não se ter mais nada a conqui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ostra o fim do caminho. Nada mais a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pessoas se acomodam e tentam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ncentrar em outras coisas, atividades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vezes não têm nada a ver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lacionamentos. Outras procuram avent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las querem, a todo custo, se redescob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ivas; querem reencontrar o que julg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: o prazer da paixão, o susto do c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batendo apressado diante de alguém,o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 em sonhos intermináveis e dese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infi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9840" y="1773360"/>
            <a:ext cx="6375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ossível uma vida sem amor. Ou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mor adormec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e você ama alguém, desperte o amo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rme! Vez ou outra, faça al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xtraordinário. Faça loucuras, com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lores, ofereça um jantar, ponha um no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fu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1120" y="1916280"/>
            <a:ext cx="65185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permita que o amor durma enqu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ocê está acordado sem saber o que fa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a vida. Reconquiste! Acred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conquistar é uma tarefa muito mais ár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 que conquistar, pois vai exigir 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sforço muito maior. 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abe de uma cois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ale a pena! Vale muito a pen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1040" y="1216080"/>
            <a:ext cx="5269320" cy="60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-mail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contact@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t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úsica: As rosas não f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aldir Azev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matação: </a:t>
            </a: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Marli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marlick@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speite os créd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23:04Z</dcterms:created>
  <dc:creator>Marli  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3-14T19:53:06Z</dcterms:modified>
  <cp:revision>3</cp:revision>
  <dc:subject/>
  <dc:title>O amor não morre.pps.marli</dc:title>
</cp:coreProperties>
</file>