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Lionel%20Richie%20&amp;%20Diana%20Ross-Endless%20lov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48A-7E82-4BBC-A003-FB2BB6F1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37C-2025-4FAC-B385-226574F4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188A-A736-49E8-9F2E-59800E12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1B5-5B40-482A-AE77-ED7C647C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20FF-A314-400F-BF0C-7CD4F816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B865-0CCE-44F6-807E-42EC7BD2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20BC-793D-434D-BB4A-54C4333C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06E-9E0B-4461-8114-2B8D61AF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B555-0990-47BF-9EC9-3D2F9245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0FE-1E5A-41E2-AE44-0538EAC8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19BC-47CA-46B3-B0A8-1ECE6B3D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E17E-4246-4FE4-BE83-E954CF2E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EE6F-70D8-4568-9F60-EEECCB885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Lionel%20Richie%20&amp;%20Diana%20Ross-Endless%20lov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contact@leticiathompson.net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mailto:marlick@ig.com.br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4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28600"/>
            <a:ext cx="3352680" cy="2362320"/>
          </a:xfrm>
          <a:prstGeom prst="rect">
            <a:avLst/>
          </a:prstGeom>
          <a:blipFill rotWithShape="0">
            <a:blip r:embed="rId2"/>
            <a:srcRect/>
            <a:stretch/>
          </a:blip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838080"/>
            <a:ext cx="3353040" cy="2362320"/>
          </a:xfrm>
          <a:prstGeom prst="rect">
            <a:avLst/>
          </a:prstGeom>
          <a:blipFill rotWithShape="0">
            <a:blip r:embed="rId3"/>
            <a:srcRect/>
            <a:stretch/>
          </a:blip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48320" y="1371600"/>
            <a:ext cx="3352680" cy="2362320"/>
          </a:xfrm>
          <a:prstGeom prst="rect">
            <a:avLst/>
          </a:prstGeom>
          <a:blipFill rotWithShape="0">
            <a:blip r:embed="rId4"/>
            <a:srcRect/>
            <a:stretch/>
          </a:blip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3809880"/>
            <a:ext cx="7848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Amor de corpo inteiro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705720" y="6095880"/>
            <a:ext cx="876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S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00200" y="5410080"/>
            <a:ext cx="402912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Letícia Thompson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eijo-casa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27160" y="1447920"/>
            <a:ext cx="732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Amor não é só coisa de coração. Amor é coi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de corpo  inteiro. De perna bamba. De suor f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De mãos que tremem. De cabeça nas nuve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De câimbra no estôm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Todo amor no início é muito bom. Depois també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mas de maneira difer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A descoberta do amor é o renascimento. É coi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de adolescente, mesmo que se tenha 70 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E  é tão bom qua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Lionel%20Richie%20&amp;%20Diana%20Ross-Endless%20lov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Beijo-casa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55760" y="1752480"/>
            <a:ext cx="6357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Você perdeu o sentido da vid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Apaixone-se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Todo o sentido dessa vai entrar de novo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Coraçõesinhos não vão circular em volta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sua cabeça, mas seu coração vai pulsar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tal forma que tudo vai ficar mais intens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As cores, as flores, o sol, tudo o que lemb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vida. Você vai cantar até música que n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gosta. É a felicidade fazendo bonitas to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as cois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Beijo-casa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14400" y="644400"/>
            <a:ext cx="7554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Claro que amor não se encomen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Nem se improvisa. Nem se finge. Mas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vezes dando um pouco de oportunidade e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pode chegar. E chega. Para alguns de surpres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cai do céu, mas para outros fruto de gran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espera e perseveranç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O amor é a coroa da existência. O cimo. Não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carregamos, é ele que nos carrega, 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transporta. Vivê-lo é viver. E ele nos faz chor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também. Traz ansiedade e freqüente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decep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Ai!... mas ainda assim vale a pena! E como vale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eijo-casa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33200" y="644400"/>
            <a:ext cx="7055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E quando toda magia se acalma, resta do am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a paz dele. Resta navegar, tranqüilamen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nessas águas que nos levam a esse dest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desconhecido, mas seguramente belo, me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se um dia tudo pode tornar-se passado, po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nostalgia do vivido compensa tu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Quando alguém se aproximar de você e voc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sentir que as emoções ultrapassam os limi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do seu coração... você vai estar amando 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todo seu corpo... vai ter alcançado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plenitude do am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4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3760" y="898560"/>
            <a:ext cx="6348240" cy="59313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"/>
              </a:rPr>
              <a:t>Crédi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"/>
              </a:rPr>
              <a:t>E-mail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"/>
                <a:hlinkClick r:id="rId1"/>
              </a:rPr>
              <a:t>contact@leticiathompson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"/>
                <a:hlinkClick r:id="rId2"/>
              </a:rPr>
              <a:t>www.leticiathompson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"/>
              </a:rPr>
              <a:t>Não retirar créd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"/>
              </a:rPr>
              <a:t>Música: Endless Lo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"/>
              </a:rPr>
              <a:t>Lionel Ritchie &amp; Diana Ro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"/>
              </a:rPr>
              <a:t>Formatação: </a:t>
            </a:r>
            <a:r>
              <a:rPr b="1" i="1" lang="en-US" sz="4000" spc="-1" strike="noStrike">
                <a:solidFill>
                  <a:srgbClr val="0000ff"/>
                </a:solidFill>
                <a:latin typeface="Monotype Corsiva"/>
              </a:rPr>
              <a:t>Marl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"/>
              </a:rPr>
              <a:t>Curitiba-Paraná-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"/>
                <a:hlinkClick r:id="rId3"/>
              </a:rPr>
              <a:t>marlick@ig.com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21:08:59Z</dcterms:created>
  <dc:creator>Marli                marlick@ig.com.br</dc:creator>
  <dc:description>Autora: Letícia Thompson
Não retirar e nem modificar créditos</dc:description>
  <dc:language>en-US</dc:language>
  <cp:lastModifiedBy>One</cp:lastModifiedBy>
  <dcterms:modified xsi:type="dcterms:W3CDTF">2007-01-30T11:16:08Z</dcterms:modified>
  <cp:revision>2</cp:revision>
  <dc:subject/>
  <dc:title>Amor_ de_ corpo_ inteiro.pps.marli</dc:title>
</cp:coreProperties>
</file>