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3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7.gif" ContentType="image/gif"/>
  <Override PartName="/ppt/media/image4.jpeg" ContentType="image/jpeg"/>
  <Override PartName="/ppt/media/image2.png" ContentType="image/png"/>
  <Override PartName="/ppt/media/image24.gif" ContentType="image/gif"/>
  <Override PartName="/ppt/media/image21.jpeg" ContentType="image/jpeg"/>
  <Override PartName="/ppt/media/image16.jpeg" ContentType="image/jpeg"/>
  <Override PartName="/ppt/media/Eduardo%20Lages-Voc%C3%AA.wav" ContentType="audio/x-wav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ECD-FDB5-4CEF-80B0-9ED5E27C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473-7AF7-4370-860C-F72AA3B4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07E99-9DAB-421F-8345-9B6BB6BA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F7726-0132-4253-9B8F-C5527B05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F738A-33E3-410A-8204-4BDFAE57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2CE98-7475-460B-A875-CFC2459F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AADB9-E5B7-4F79-8107-5AC0C223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F9300-B790-4E8F-AD6A-FB47A2C3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69713-D826-417C-B04F-A28CE0AA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57432-1BCE-430F-B399-B4396B49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C0FD8-B624-42CA-B637-85180EFD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658CD-D248-44C1-BE2E-587008E3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B95-602C-438C-AAFF-7FE4468B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1A2DA-4D9E-4A39-B042-5EDAD983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159B0-CA03-4998-8957-3E0FC847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EF40E-A35E-41FD-A82B-5CCB3D05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A630C-00D2-444D-84EC-AE91802A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FEB20-6BA9-47D8-9D15-3A98B8E5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2D629-D045-481A-9166-B243BF9B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1AE7F-5BBB-489E-B265-ABD6DFF3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6FF51-0351-4C39-83F4-6624B704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82201-BFC9-4A4C-A7FB-F4BA86D3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518CC-7E34-4030-A6C9-6371FD95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D90-AEA0-465A-99D7-130A560A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629DC-66AB-4857-ABE5-ACB74CB2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9F400-5876-46D6-A19A-B8D63B39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FD954-00FD-4BDE-8286-8878BBED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67A29-79D8-44DA-B1D8-3470DCE6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D175C-7D22-493F-ADFE-911E6CA6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D91DF-C232-4BC5-BA8B-5CEA3A1F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1AFEB-731A-4AD9-B4F6-A2C3C823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CF6BE-45EA-4B8B-B546-DC9C6766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AEE0F-AC5E-4969-B15D-4668A243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538F0-B2B6-40B1-97BA-6E80FAA3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FED2-1CB7-449F-85A6-20536130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B482A-DF01-424B-90BB-8257692C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224FB-24BE-462F-8B0C-67790A4D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E4C90-7B50-4FCA-9C42-58F23D8D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DC158-0527-4FD5-957E-CEC7016A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4AC8E-EA74-47FB-A1C1-E36D7B0E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8BE29-7614-4C22-86AE-F90FF7D9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CDFE8-09C2-4B06-8A34-6E6CC1C7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A76E0-B31D-493D-A520-F1E14937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90DB1-215F-4257-A211-3DA1BFB7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7A54E-98B6-40A8-84BC-A933F2EA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4DA2-51CB-46FF-93E5-C931E92B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D6003-7216-4313-8311-F1715EB8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86997-1720-420A-AACF-5EDE0E69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4F696-10EF-499E-9419-327B7D2C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A85ED-9B14-4685-8BCA-AA32794B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29067-CA3D-4A07-B23D-A1830CD0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8787-6504-42C9-B256-5487FC71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F298-97F5-41EB-B42B-0E9C1C9A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319D-E63C-4C2E-B658-62E08EAE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0ADC-4930-4D16-B437-51FD9116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A9AC-E28E-4C98-B5D7-0EB9954A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467-EDAE-4938-AA54-F3B22AC1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6709-8C33-46B5-9DA1-4885842B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BD7E-3407-432D-8F97-15B49A91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AD46-9EB2-4F1E-BFBE-879B4F40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6C59-D66F-4A2C-B15B-372E4322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6A31-54D0-4E13-8546-706F0D71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08C5C-C84B-4695-B90B-A9FC2951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FC193-4E0E-4D5B-B847-09D62BEF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A7F64-F938-4DEE-906E-69AC046A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06E27-CBAF-4842-ACE3-BE6A35FE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3FB9-AA55-4C8A-B6A7-3DC9ECFB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A8C4-2E89-4D01-A59E-37A4A703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AAA0B-B904-4DE1-BA22-FC40F39C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C3AFA-891A-4AA4-BD56-AAD77B63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646F3-A2A2-4F25-9DE5-52ED8EAB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175FD-FE7B-47F9-874E-D9A01184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A7B9E-26A0-487A-90C9-5710051D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51BE-F558-4B59-BED8-3420E957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798E6-1A88-4868-B17C-DF701A83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B6368-41C6-41D0-B809-64C5B5CA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46156-F32F-484F-BC07-DF292F8B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90EBA-6374-4407-BE3E-85761334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32B-1735-4984-B19E-85F12980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40591-B5C5-40D7-81BE-69C21B8B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59A4D-FBC2-42B2-823B-91FB8A07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A986A-543D-483A-8D1B-8F73F6E7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2906E-016C-46FC-8358-666B789B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BE041-6F7A-4F54-BA4C-8D3230A3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C5B3D-E6A5-4435-A3D1-27F92D4A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DB9C3-ED7A-40E0-85B4-A9066093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EEADF-BC23-46FC-BB6E-9A9A0CEC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2D3A3-EDF1-4910-9385-1A924B2A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F76ED-1F7A-49A2-B2F8-EE1470AC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890-0837-420F-9BCC-63F861E4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E8A43-6A6F-47A0-9E4A-8CD300F9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972BF-8316-4FD1-BC10-456B184D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0E592-85E9-481B-B662-C5551081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130ED-5466-4BED-B4E8-8E8D5A69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26D1A-7A97-4628-8F8C-C8A29318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BA7F3-E1BA-48C2-A309-A41AB454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37435-990A-4052-9A38-029CCF4C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A04EC-576A-451B-8F11-C416646B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B5C8C-03E0-4B40-951D-BD6C8B7E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AE909-D404-484B-A41F-1C6A6040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292-2ED1-4A6F-B10E-84C35DCC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F3F29-9C59-41A8-83A0-E0922792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65774-B507-4F94-A6F0-6818A288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BFE65-6686-4814-832B-640B0F50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0A0F2-9C16-4798-88C1-777D54C6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BA7D2-86C3-4448-95AA-7710405A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F303F-85CB-41CD-9585-45F6785F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319E1-7191-4DC5-88DF-8E24CC56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71AC9-6997-4E38-9972-AEF1E2BD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16C60-2D60-403C-9CB8-2A904238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03830-7A19-4862-B55E-FCB4442C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6C52-BD62-4307-A3C8-8DB4C8F8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E50AA-2AE3-42CC-BF04-7CA21F42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42973-F035-44C2-895A-E3576CA8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DC713-568F-49B0-9DE1-7410A780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F813B-F6DB-45C0-866F-16DA7045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AACFF-269C-46B4-B693-866652DB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961F9-7497-4972-B572-7FC4595E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667F2-C933-4AE3-A4DF-2CA67E53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ADFC9-9A07-4461-9E48-53CAFEF9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65A06-7DE4-4870-B73F-D862ECF8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648A4-AC10-46A5-B5FC-BDEBA643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0E0-E99E-4572-9549-9C4D3AFA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839FF-BFED-4D57-8A5A-E116D18D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E58A1-284C-41A5-ACDC-30E98254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B9004-3765-4581-815D-2FBDC85A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CB949-EE15-4A85-BFDD-72154688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61FFC-2A3D-42DB-9E8D-704BEE85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8DB58-2293-436A-B82C-29C91CBC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C52CB-75B7-4776-B17F-0A1883BD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17665-2375-49AC-BE1F-1D19544E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6D30F-5AE9-47FA-8BD4-43977105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31FA0-C658-49A3-8BA9-48753D5D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1E0-B0FF-44FB-8AEA-B1CC229E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51A6B-A209-4860-A6FA-D9B01FD7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40857-4680-4846-BC10-E84A701C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DA65D-E515-4DED-9572-4423C8A9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37CCE-1A9F-4891-9B28-D52AD145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C88B3-216C-4A8E-AA18-92AC76BD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BE57F-FBAD-4E4C-9159-7B83FC17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C8128-1A34-40B3-8716-D8515184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1E6A5-4779-4E4F-8A3F-ECB74443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8294D-4014-43BE-B312-765184C0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6F382-E2D0-4017-805D-158AB2BA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C172-E964-42A7-98CD-FEB33C749E38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B36D-8763-4516-A2A7-74DD9EBDE8E7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2FF6-53FE-4085-B3BF-52DFDE0D3650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AB28-7A29-456C-8257-D2C6E27884D7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BD33-AC9E-4C2E-9A6A-D55149AF7059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273E-05D3-4D67-8056-5E74363C89AE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1796-A95A-4486-BF02-EF5F6801EEEC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287C-9716-4F79-82B9-DC55CFFFB9F6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E548-BA7C-4DA2-81D3-8C0A5146C0BD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522F-E792-4375-80C8-D593C063D85C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4C6A-5FA8-4C9F-B230-9B4079345AFF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043C-982E-40A7-9C58-621B0A400E36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Eduardo%20Lages-Voc&#234;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Espaço Reservado para Conteúdo 3" descr="1235736508eqffzt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6"/>
          <p:cNvSpPr/>
          <p:nvPr/>
        </p:nvSpPr>
        <p:spPr>
          <a:xfrm>
            <a:off x="359640" y="4734000"/>
            <a:ext cx="84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600" spc="-1" strike="noStrike">
                <a:solidFill>
                  <a:srgbClr val="ffffff"/>
                </a:solidFill>
                <a:latin typeface="Comic Sans MS"/>
              </a:rPr>
              <a:t>A ARTE DE ARRUMA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600" spc="-1" strike="noStrike">
                <a:solidFill>
                  <a:srgbClr val="ffffff"/>
                </a:solidFill>
                <a:latin typeface="Comic Sans MS"/>
              </a:rPr>
              <a:t>LENHA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4" descr="C:\_Segunda Partição\Gifs\Com movimento\Buttefly.gif"/>
          <p:cNvPicPr/>
          <p:nvPr/>
        </p:nvPicPr>
        <p:blipFill>
          <a:blip r:embed="rId2"/>
          <a:stretch/>
        </p:blipFill>
        <p:spPr>
          <a:xfrm>
            <a:off x="3614760" y="2238480"/>
            <a:ext cx="784080" cy="97452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4"/>
          <p:cNvSpPr/>
          <p:nvPr/>
        </p:nvSpPr>
        <p:spPr>
          <a:xfrm>
            <a:off x="7284960" y="6597720"/>
            <a:ext cx="157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Comic Sans MS"/>
              </a:rPr>
              <a:t>AUTOMÁ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3" name="Eduardo%20Lages-Voc%C3%A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7" descr="http://br.f1223.mail.yahoo.com/ya/download?mid=2%5f0%5f0%5f1%5f2727303%5fALDSimIAADl3UUsrXAMkGmhmTKU&amp;pid=3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496800" y="0"/>
            <a:ext cx="10266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7" descr="http://br.f1223.mail.yahoo.com/ya/download?mid=2%5f0%5f0%5f1%5f2727303%5fALDSimIAADl3UUsrXAMkGmhmTKU&amp;pid=7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0" y="0"/>
            <a:ext cx="102250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8" descr="http://br.f1223.mail.yahoo.com/ya/download?mid=2%5f0%5f0%5f1%5f2727303%5fALDSimIAADl3UUsrXAMkGmhmTKU&amp;pid=8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2124000" y="-477720"/>
            <a:ext cx="4896000" cy="7335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7" descr="http://br.f1223.mail.yahoo.com/ya/download?mid=2%5f0%5f0%5f1%5f2727303%5fALDSimIAADl3UUsrXAMkGmhmTKU&amp;pid=17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122400" y="0"/>
            <a:ext cx="9266400" cy="7091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8" descr="http://br.f1223.mail.yahoo.com/ya/download?mid=2%5f0%5f0%5f1%5f2727303%5fALDSimIAADl3UUsrXAMkGmhmTKU&amp;pid=16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627120" y="-47520"/>
            <a:ext cx="9771120" cy="69055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7" descr="http://br.f1223.mail.yahoo.com/ya/download?mid=2%5f0%5f0%5f1%5f2727303%5fALDSimIAADl3UUsrXAMkGmhmTKU&amp;pid=2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776160" y="0"/>
            <a:ext cx="10247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http://br.f1223.mail.yahoo.com/ya/download?mid=2%5f0%5f0%5f1%5f2727303%5fALDSimIAADl3UUsrXAMkGmhmTKU&amp;pid=9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928800" y="0"/>
            <a:ext cx="10396800" cy="69454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3" descr="C:\_Segunda Partição\Gifs\Com movimento\piupiu.gif"/>
          <p:cNvPicPr/>
          <p:nvPr/>
        </p:nvPicPr>
        <p:blipFill>
          <a:blip r:embed="rId2"/>
          <a:stretch/>
        </p:blipFill>
        <p:spPr>
          <a:xfrm>
            <a:off x="2411280" y="0"/>
            <a:ext cx="576360" cy="74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http://br.f1223.mail.yahoo.com/ya/download?mid=2%5f0%5f0%5f1%5f2727303%5fALDSimIAADl3UUsrXAMkGmhmTKU&amp;pid=13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504720" y="0"/>
            <a:ext cx="103075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0" name="Espaço Reservado para Conteúdo 3" descr="12511427762sWJJl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CaixaDeTexto 3"/>
          <p:cNvSpPr/>
          <p:nvPr/>
        </p:nvSpPr>
        <p:spPr>
          <a:xfrm>
            <a:off x="1833480" y="76500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Comic Sans MS"/>
              </a:rPr>
              <a:t>E… “AS ÀRVORES MORREM DE PÉ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6" descr="C:\_Segunda Partição\Gifs\Com movimento\Cão.gif"/>
          <p:cNvPicPr/>
          <p:nvPr/>
        </p:nvPicPr>
        <p:blipFill>
          <a:blip r:embed="rId2"/>
          <a:stretch/>
        </p:blipFill>
        <p:spPr>
          <a:xfrm>
            <a:off x="8077320" y="5952960"/>
            <a:ext cx="1066680" cy="9050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Ba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CaixaDeTexto 15"/>
          <p:cNvSpPr/>
          <p:nvPr/>
        </p:nvSpPr>
        <p:spPr>
          <a:xfrm>
            <a:off x="275760" y="5300640"/>
            <a:ext cx="351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Música: Você 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Eduardo L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Imagens: Recebidas por e-mail 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Francisca Graç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Formatação: Lin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CaixaDeTexto 4"/>
          <p:cNvSpPr/>
          <p:nvPr/>
        </p:nvSpPr>
        <p:spPr>
          <a:xfrm>
            <a:off x="3567960" y="1916280"/>
            <a:ext cx="219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600" spc="-1" strike="noStrike">
                <a:solidFill>
                  <a:srgbClr val="ffffff"/>
                </a:solidFill>
                <a:latin typeface="Comic Sans MS"/>
              </a:rPr>
              <a:t>F I 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http://br.f1223.mail.yahoo.com/ya/download?mid=2%5f0%5f0%5f1%5f2727303%5fALDSimIAADl3UUsrXAMkGmhmTKU&amp;pid=5&amp;fid=Inbox&amp;inline=1&amp;appid=YahooMailNeoCL"/>
          <p:cNvPicPr/>
          <p:nvPr/>
        </p:nvPicPr>
        <p:blipFill>
          <a:blip r:embed="rId2"/>
          <a:stretch/>
        </p:blipFill>
        <p:spPr>
          <a:xfrm>
            <a:off x="0" y="-19080"/>
            <a:ext cx="9145440" cy="6877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http://br.f1223.mail.yahoo.com/ya/download?mid=2%5f0%5f0%5f1%5f2727303%5fALDSimIAADl3UUsrXAMkGmhmTKU&amp;pid=12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64440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http://br.f1223.mail.yahoo.com/ya/download?mid=2%5f0%5f0%5f1%5f2727303%5fALDSimIAADl3UUsrXAMkGmhmTKU&amp;pid=14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92160" y="0"/>
            <a:ext cx="976968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" descr="C:\_Segunda Partição\Gifs\Com movimento\Pombos.gif"/>
          <p:cNvPicPr/>
          <p:nvPr/>
        </p:nvPicPr>
        <p:blipFill>
          <a:blip r:embed="rId2"/>
          <a:stretch/>
        </p:blipFill>
        <p:spPr>
          <a:xfrm>
            <a:off x="5724360" y="6021360"/>
            <a:ext cx="1600200" cy="638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http://br.f1223.mail.yahoo.com/ya/download?mid=2%5f0%5f0%5f1%5f2727303%5fALDSimIAADl3UUsrXAMkGmhmTKU&amp;pid=6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7" descr="http://br.f1223.mail.yahoo.com/ya/download?mid=2%5f0%5f0%5f1%5f2727303%5fALDSimIAADl3UUsrXAMkGmhmTKU&amp;pid=10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1440" y="-6480"/>
            <a:ext cx="9145440" cy="68644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C:\_Segunda Partição\Gifs\Com movimento\piupiu.gif"/>
          <p:cNvPicPr/>
          <p:nvPr/>
        </p:nvPicPr>
        <p:blipFill>
          <a:blip r:embed="rId2"/>
          <a:stretch/>
        </p:blipFill>
        <p:spPr>
          <a:xfrm>
            <a:off x="2340000" y="1341360"/>
            <a:ext cx="660240" cy="852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http://br.f1223.mail.yahoo.com/ya/download?mid=2%5f0%5f0%5f1%5f2727303%5fALDSimIAADl3UUsrXAMkGmhmTKU&amp;pid=15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0" y="0"/>
            <a:ext cx="9253440" cy="6858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C:\_Segunda Partição\Gifs\Com movimento\piupiu.gif"/>
          <p:cNvPicPr/>
          <p:nvPr/>
        </p:nvPicPr>
        <p:blipFill>
          <a:blip r:embed="rId2"/>
          <a:stretch/>
        </p:blipFill>
        <p:spPr>
          <a:xfrm>
            <a:off x="1476360" y="836640"/>
            <a:ext cx="457200" cy="5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7" descr="http://br.f1223.mail.yahoo.com/ya/download?mid=2%5f0%5f0%5f1%5f2727303%5fALDSimIAADl3UUsrXAMkGmhmTKU&amp;pid=11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" descr="C:\_Segunda Partição\Gifs\Com movimento\Cao deitado.gif"/>
          <p:cNvPicPr/>
          <p:nvPr/>
        </p:nvPicPr>
        <p:blipFill>
          <a:blip r:embed="rId2"/>
          <a:stretch/>
        </p:blipFill>
        <p:spPr>
          <a:xfrm>
            <a:off x="1332000" y="5589720"/>
            <a:ext cx="761760" cy="561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7" descr="http://br.f1223.mail.yahoo.com/ya/download?mid=2%5f0%5f0%5f1%5f2727303%5fALDSimIAADl3UUsrXAMkGmhmTKU&amp;pid=4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1122480" y="0"/>
            <a:ext cx="10266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01:41:05Z</dcterms:created>
  <dc:creator>Linito</dc:creator>
  <dc:description/>
  <dc:language>en-US</dc:language>
  <cp:lastModifiedBy>Lenovo User</cp:lastModifiedBy>
  <dcterms:modified xsi:type="dcterms:W3CDTF">2013-03-22T10:00:20Z</dcterms:modified>
  <cp:revision>37</cp:revision>
  <dc:subject/>
  <dc:title>Diapositivo 1</dc:title>
</cp:coreProperties>
</file>