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4.jpeg" ContentType="image/jpeg"/>
  <Override PartName="/ppt/media/image2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Eduardo%20Lages-Voc%C3%AA.wav" ContentType="audio/x-wav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FE8-48D7-4BBF-B0A7-D7734B29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477-CE80-49CB-BCDC-3A6FE478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099F-5922-407D-9AF8-6717CCE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15CC-0F8F-435B-8202-CA8E09F9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0A72-5797-425B-8461-2DE7BB5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8788B-ECA5-4788-910C-366DECCE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5E817-1301-4936-BCB5-DFC2CDE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9934E-35F6-4A37-8F4A-1D401C5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535D7-BD59-44FA-8134-4F3BB61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72B99-0F42-4494-9844-61C71C66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3C309-B87B-4E28-B55B-D67FFE31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8DBE4-5D08-45CA-B3C7-6F80CC2C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578-CFD0-4200-9F84-E2F9DC04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68C34-B93C-4FEF-984C-6F6B3A3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E2543-95AA-428B-B162-D478725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46CB-A874-4274-A560-0AB37A5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918A1-58F5-4B3B-AA35-7CA570F1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30E3-ED35-46F9-966D-C4F4C2B6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4868B-CB4E-4EED-8398-393CD96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68E1E-FAA3-4B9D-A1DF-2E1D148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D80E8-26DD-4A58-8B0A-10BC5A77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8C1D6-855E-496C-A62E-173CCBC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5388D-DC77-47C1-B5D1-7275E104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4FF-83EA-4B10-8FC7-21BE848E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DF54F-F306-4EE4-AE83-2A52B582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855CA-6009-4FE7-8CE3-2E33962C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D45AD-93DA-4D5D-A17E-7BC5622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A15C-3CBB-430A-BA4F-D237A79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EAF2-6F4A-4C69-B622-68A50415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31952-CD61-43A4-939D-AE35BB25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50A7B-1877-4A50-A925-5B7AA63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3048-9C9C-419B-8F73-12F0D7B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53572-55DB-4738-BCD1-751BE68A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CF14C-1FAE-40E0-8880-A601BFE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A5A8-513B-42C4-9B7B-775FF716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44F9-EEC5-4C06-8DA2-67BE518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657D0-C9AC-47B1-96ED-FD32BE61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E0C4-E4BD-48AE-8901-116F700F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1856A-3C39-4094-9386-C243F6C0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AD237-5725-470F-8F49-F6F4EDA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9D65B-0064-4E4E-848A-4D9321C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DCA9C-ABA4-4764-8EDC-7F62B604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3799A-231B-4667-B15A-C5BC6E4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EE2AB-FA81-4C18-94BC-34C8EED9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3C031-F68B-40AB-AAE6-4D39F38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520-77A0-4A7D-AB00-7E7530BC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EA84-30FA-45FD-B599-B0CE500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D7330-2ECD-45AB-A5E7-B8F24CC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64278-7F8B-4F93-93F6-46FBE0B2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E8D56-5DD1-444E-9B3C-B71BAE89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04A55-87B6-49F2-8376-25F1488B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9CA-C2A3-4D5E-80C5-E7BF8F26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14F-4C3F-4781-A104-0B36BF6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CB74-C393-4734-9AA6-E0630398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0528-24F6-464A-BDE6-476D4949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7428-7B9C-4D6D-A940-5C18BBE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C3F-56DE-451B-AA8E-D7CEDC9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822-DE88-4F9E-87F7-5556986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54D-6741-431E-BAE6-D905D20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FB74-8634-4ED6-B320-052172F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152-9867-4F81-812C-977B8E8F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FCA-4DE6-4BAF-8C80-1BC41094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03CE-2F66-48A8-9DBB-E1CBEC81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5F7C-84AB-4F91-A28B-ED882E4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917D-F18A-45F7-BCE2-23DA0DA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4F16-ABA0-4205-A8CA-0340D187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4619-5FBB-4447-94CF-D507D521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227-CCF4-49CE-89D5-08B0E27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FF47-73FC-43DC-BB4D-09F35B6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C38D-76FB-4FCC-B6DF-9D9CDD5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7461-0A64-4474-B762-7568D15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6967-7383-46B3-A2D3-5C3DA82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FE88-58DA-473C-BBC2-69AF0ADF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8C4B-D773-423B-8EB7-A06C0992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B030-CE3B-4AD5-BAB0-7A234713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7891E-5E27-4247-947E-CF0DEEF1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28E3-77BA-4E6B-BE43-0D9801A1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25F8-0F05-4E66-9D97-8C0BCE1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96D-4BD1-43EB-96F2-182B4D3B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DDA0-F061-41E1-B084-E7F85DE5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9E2F-BBBE-434A-91FF-FAECD3A4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8C9B-095E-41C4-A8E3-527A028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83D3-A122-4E4E-A8EF-5E403D5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207A-7450-4F9D-A371-DF0657CB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480B-703F-44E5-8A7D-4C5F4D5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FE93-D6AE-46FB-8BCF-D0F99FAC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1285-CDC0-47C8-A642-8DA818D9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2E2F-2033-4C60-B759-694DBFC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1F7FD-515E-48BA-B7FC-7871EE6D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AFB-224A-47C8-9F9D-86A86AF7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F9106-79EB-4431-835B-7DFF59F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1A65-3AED-4822-B26F-23ECCF0E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3B91-0761-4362-92AF-2810E60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0201-C87D-49E8-947F-FA57013B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C432-35F6-402C-8B95-33522F1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1199-466C-4E36-8624-6707342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963C-8DFB-472F-95CB-6F89D67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49AD-55E2-454B-8730-7B881DC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1447-5EE7-42B3-894B-0FDD492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E77C-45F8-4AD7-A93E-9B823FBF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584-8E0A-4B5A-B825-FA00CA7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A17E-D23E-4CFC-9F31-E838C48F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4E40-7639-4578-B14B-EA1D7BA7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89C3-670E-45B7-A24D-F5819646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88B2-3DC6-49DC-B3BE-9712F3A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F614-140E-4180-A629-18DDD0B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86DD-20AB-4706-A472-85917E0E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58AC-04CD-46B1-8745-B0A22DB4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F904-283C-4FA1-8BD8-2657BDAB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D9C4-359F-4AB8-A60B-8198A6A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F4CEE-CD9A-4A4A-94FB-D0F38D1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99E-06B6-4D6F-A2E0-D79A897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B616-D5AD-46CC-BB69-30BB4745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A4A8-D579-4065-9941-215175A8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B70C-74EC-4881-BB19-E92699A2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E582-DF55-4489-B65E-699F9E02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1F075-90D0-4D87-8551-556D6C27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A0239-2A65-47D4-BA92-0B9762E8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53910-C869-4DB4-A41A-AE77A21B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AC08-F43A-4158-AFFB-F1719FA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4597-1CC4-441F-8E30-132B03E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D9CD-0961-445D-B6E4-185D62F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1D9-A4C4-4832-8E8D-72E9891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D64ED-578A-4431-B1B3-3627E39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12AC-3318-431A-834C-1E8D553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A352-D5FC-4F32-8A47-F5E42B63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10A8F-461A-4B1C-933D-22028918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EEB9-9728-4CD1-95E3-606289D3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C59E-58E3-4AA7-BBC7-F756F3E7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0D8F4-AD68-4FF2-85BC-A1F731F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4105-6D64-414C-A7CF-B9C59D29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3C31-5B99-420C-A4B0-A6AFDCDC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00506-61D9-41AF-91D3-0A0E102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6D2-ECA2-426E-B10A-9A72A0C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7BC9-EBCF-42B8-9AC3-D7B4EBB2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88C0-E54F-4E7B-B457-4C8A474F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3FA4-22F3-428A-9F82-D73C6BC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1A0F-A091-4AC7-BC47-5C381AD7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68DAF-3A21-424C-8379-F02D8EF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0799-7CB4-4416-B905-0748CC29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4CC1D-C6F1-42B8-80E6-19E93B2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64405-B59B-441B-9EEB-7269BC5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CF9A-DE15-4E15-9B8D-64286D60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000E2-C056-4570-A428-B605A87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EED3-6943-4157-9C1B-4063B3028AF8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961-D8DD-4F94-B21F-BC401E1FE21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E72-3249-4623-945D-953362CEF998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8F1-F277-4B1D-A628-68D37C0C44D1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F1A7-7E85-44E1-9984-E26A689EA9AC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D07D-FE7A-4E5F-9C3F-776037C78271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945F-EAC4-48A3-8265-E2F662A7E7F5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0FD3-6412-4DFA-837A-9DA9F56B4251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C9A-30E2-4717-85F2-8484807143AB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4DA-D32C-43C1-9B21-431BC2FABC47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FAC9-ED3C-4520-869C-D147849A6E59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B6C7-8128-4C80-A01B-1D3CAF2A70B3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duardo%20Lages-Voc&#234;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Espaço Reservado para Conteúdo 3" descr="1235736508eqffzt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6"/>
          <p:cNvSpPr/>
          <p:nvPr/>
        </p:nvSpPr>
        <p:spPr>
          <a:xfrm>
            <a:off x="359640" y="4734000"/>
            <a:ext cx="84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ffffff"/>
                </a:solidFill>
                <a:latin typeface="Comic Sans MS"/>
              </a:rPr>
              <a:t>A ARTE DE ARRUMA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ffffff"/>
                </a:solidFill>
                <a:latin typeface="Comic Sans MS"/>
              </a:rPr>
              <a:t>LENHA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C:\_Segunda Partição\Gifs\Com movimento\Buttefly.gif"/>
          <p:cNvPicPr/>
          <p:nvPr/>
        </p:nvPicPr>
        <p:blipFill>
          <a:blip r:embed="rId2"/>
          <a:stretch/>
        </p:blipFill>
        <p:spPr>
          <a:xfrm>
            <a:off x="3614760" y="2238480"/>
            <a:ext cx="784080" cy="97452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4"/>
          <p:cNvSpPr/>
          <p:nvPr/>
        </p:nvSpPr>
        <p:spPr>
          <a:xfrm>
            <a:off x="7284960" y="659772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Comic Sans MS"/>
              </a:rPr>
              <a:t>AUTOM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  <p:sndAc>
      <p:stSnd>
        <p:snd r:embed="rId3" name="Eduardo%20Lages-Voc%C3%A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7" descr="http://br.f1223.mail.yahoo.com/ya/download?mid=2%5f0%5f0%5f1%5f2727303%5fALDSimIAADl3UUsrXAMkGmhmTKU&amp;pid=3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496800" y="0"/>
            <a:ext cx="1026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http://br.f1223.mail.yahoo.com/ya/download?mid=2%5f0%5f0%5f1%5f2727303%5fALDSimIAADl3UUsrXAMkGmhmTKU&amp;pid=7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10225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8" descr="http://br.f1223.mail.yahoo.com/ya/download?mid=2%5f0%5f0%5f1%5f2727303%5fALDSimIAADl3UUsrXAMkGmhmTKU&amp;pid=8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2124000" y="-477720"/>
            <a:ext cx="4896000" cy="7335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7" descr="http://br.f1223.mail.yahoo.com/ya/download?mid=2%5f0%5f0%5f1%5f2727303%5fALDSimIAADl3UUsrXAMkGmhmTKU&amp;pid=17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22400" y="0"/>
            <a:ext cx="9266400" cy="709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http://br.f1223.mail.yahoo.com/ya/download?mid=2%5f0%5f0%5f1%5f2727303%5fALDSimIAADl3UUsrXAMkGmhmTKU&amp;pid=16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627120" y="-47520"/>
            <a:ext cx="977112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7" descr="http://br.f1223.mail.yahoo.com/ya/download?mid=2%5f0%5f0%5f1%5f2727303%5fALDSimIAADl3UUsrXAMkGmhmTKU&amp;pid=2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776160" y="0"/>
            <a:ext cx="10247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br.f1223.mail.yahoo.com/ya/download?mid=2%5f0%5f0%5f1%5f2727303%5fALDSimIAADl3UUsrXAMkGmhmTKU&amp;pid=9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928800" y="0"/>
            <a:ext cx="10396800" cy="6945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2411280" y="0"/>
            <a:ext cx="576360" cy="744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br.f1223.mail.yahoo.com/ya/download?mid=2%5f0%5f0%5f1%5f2727303%5fALDSimIAADl3UUsrXAMkGmhmTKU&amp;pid=13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504720" y="0"/>
            <a:ext cx="1030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Espaço Reservado para Conteúdo 3" descr="12511427762sWJJl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CaixaDeTexto 3"/>
          <p:cNvSpPr/>
          <p:nvPr/>
        </p:nvSpPr>
        <p:spPr>
          <a:xfrm>
            <a:off x="1833480" y="765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omic Sans MS"/>
              </a:rPr>
              <a:t>E… “AS ÀRVORES MORREM DE PÉ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6" descr="C:\_Segunda Partição\Gifs\Com movimento\Cão.gif"/>
          <p:cNvPicPr/>
          <p:nvPr/>
        </p:nvPicPr>
        <p:blipFill>
          <a:blip r:embed="rId2"/>
          <a:stretch/>
        </p:blipFill>
        <p:spPr>
          <a:xfrm>
            <a:off x="8077320" y="5952960"/>
            <a:ext cx="1066680" cy="905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CaixaDeTexto 15"/>
          <p:cNvSpPr/>
          <p:nvPr/>
        </p:nvSpPr>
        <p:spPr>
          <a:xfrm>
            <a:off x="275760" y="5300640"/>
            <a:ext cx="3512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Música: Você 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Eduardo L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Imagens: Recebidas por e-mail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rancisca Graç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Formatação: Lin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CaixaDeTexto 4"/>
          <p:cNvSpPr/>
          <p:nvPr/>
        </p:nvSpPr>
        <p:spPr>
          <a:xfrm>
            <a:off x="3567960" y="1916280"/>
            <a:ext cx="219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ffffff"/>
                </a:solidFill>
                <a:latin typeface="Comic Sans MS"/>
              </a:rPr>
              <a:t>F I 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http://br.f1223.mail.yahoo.com/ya/download?mid=2%5f0%5f0%5f1%5f2727303%5fALDSimIAADl3UUsrXAMkGmhmTKU&amp;pid=5&amp;fid=Inbox&amp;inline=1&amp;appid=YahooMailNeoCL"/>
          <p:cNvPicPr/>
          <p:nvPr/>
        </p:nvPicPr>
        <p:blipFill>
          <a:blip r:embed="rId2"/>
          <a:stretch/>
        </p:blipFill>
        <p:spPr>
          <a:xfrm>
            <a:off x="0" y="-19080"/>
            <a:ext cx="9145440" cy="687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br.f1223.mail.yahoo.com/ya/download?mid=2%5f0%5f0%5f1%5f2727303%5fALDSimIAADl3UUsrXAMkGmhmTKU&amp;pid=12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644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http://br.f1223.mail.yahoo.com/ya/download?mid=2%5f0%5f0%5f1%5f2727303%5fALDSimIAADl3UUsrXAMkGmhmTKU&amp;pid=14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92160" y="0"/>
            <a:ext cx="976968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C:\_Segunda Partição\Gifs\Com movimento\Pombos.gif"/>
          <p:cNvPicPr/>
          <p:nvPr/>
        </p:nvPicPr>
        <p:blipFill>
          <a:blip r:embed="rId2"/>
          <a:stretch/>
        </p:blipFill>
        <p:spPr>
          <a:xfrm>
            <a:off x="5724360" y="6021360"/>
            <a:ext cx="16002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http://br.f1223.mail.yahoo.com/ya/download?mid=2%5f0%5f0%5f1%5f2727303%5fALDSimIAADl3UUsrXAMkGmhmTKU&amp;pid=6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http://br.f1223.mail.yahoo.com/ya/download?mid=2%5f0%5f0%5f1%5f2727303%5fALDSimIAADl3UUsrXAMkGmhmTKU&amp;pid=10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440" y="-6480"/>
            <a:ext cx="9145440" cy="6864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2340000" y="1341360"/>
            <a:ext cx="660240" cy="852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http://br.f1223.mail.yahoo.com/ya/download?mid=2%5f0%5f0%5f1%5f2727303%5fALDSimIAADl3UUsrXAMkGmhmTKU&amp;pid=15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_Segunda Partição\Gifs\Com movimento\piupiu.gif"/>
          <p:cNvPicPr/>
          <p:nvPr/>
        </p:nvPicPr>
        <p:blipFill>
          <a:blip r:embed="rId2"/>
          <a:stretch/>
        </p:blipFill>
        <p:spPr>
          <a:xfrm>
            <a:off x="1476360" y="836640"/>
            <a:ext cx="457200" cy="59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http://br.f1223.mail.yahoo.com/ya/download?mid=2%5f0%5f0%5f1%5f2727303%5fALDSimIAADl3UUsrXAMkGmhmTKU&amp;pid=11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C:\_Segunda Partição\Gifs\Com movimento\Cao deitado.gif"/>
          <p:cNvPicPr/>
          <p:nvPr/>
        </p:nvPicPr>
        <p:blipFill>
          <a:blip r:embed="rId2"/>
          <a:stretch/>
        </p:blipFill>
        <p:spPr>
          <a:xfrm>
            <a:off x="1332000" y="5589720"/>
            <a:ext cx="761760" cy="561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7" descr="http://br.f1223.mail.yahoo.com/ya/download?mid=2%5f0%5f0%5f1%5f2727303%5fALDSimIAADl3UUsrXAMkGmhmTKU&amp;pid=4&amp;fid=Inbox&amp;inline=1&amp;appid=YahooMailNeoCL"/>
          <p:cNvPicPr/>
          <p:nvPr/>
        </p:nvPicPr>
        <p:blipFill>
          <a:blip r:embed="rId1"/>
          <a:stretch/>
        </p:blipFill>
        <p:spPr>
          <a:xfrm>
            <a:off x="-1122480" y="0"/>
            <a:ext cx="10266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01:41:05Z</dcterms:created>
  <dc:creator>Linito</dc:creator>
  <dc:description/>
  <dc:language>en-US</dc:language>
  <cp:lastModifiedBy>Lenovo User</cp:lastModifiedBy>
  <dcterms:modified xsi:type="dcterms:W3CDTF">2013-03-22T10:00:20Z</dcterms:modified>
  <cp:revision>37</cp:revision>
  <dc:subject/>
  <dc:title>Diapositivo 1</dc:title>
</cp:coreProperties>
</file>