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sound001.wav" ContentType="audio/x-wav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4CB-AA9C-4502-BBB3-0C85F813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148-AF8A-4104-9A9B-2FA91B0E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D2B-263B-4503-BAFD-30FC3BAF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D90-E59C-4985-824A-00BFE2A9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4C0-7D3E-46BC-B2D4-D1DFB5C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79B-977B-4059-A665-790192A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10E-D9A8-4132-98C1-F975A3C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727-C193-4C9D-A637-8C6C6347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55E-85F6-49C2-AF57-7F05401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B0F-AAE4-45ED-BA0C-34EAD7D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DAD-B0CD-4A66-8837-4E38A28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ED6-A149-43D2-A866-A03FCFCF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3AC4-57CE-476A-9CEB-3247F1DD22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.%20Zotte%20hon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914400"/>
            <a:ext cx="304776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Dieren</a:t>
            </a:r>
            <a:endParaRPr b="0" lang="en-US" sz="7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3000240"/>
            <a:ext cx="198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EL 3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1640" y="537228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ac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ogstrelend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t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292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eluid aan s.v.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9000">
    <p:random/>
    <p:sndAc>
      <p:stSnd>
        <p:snd r:embed="rId2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0.%20Hij%20zit%20in%20de%20paddestoel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Hij zit in de paddesto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1.%20Visadelaar%20met%20prooi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Visarend met pro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2.%20Leeuwi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Kroonpri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3.%20Acrobatiek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Acrob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4.%20Gelukkig%20Nieuwjaar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Al vroeg op 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5.%20Panter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Wild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6.%20White%20Christma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White Christ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7.%20Als%20blikken%20konden%20dod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Blijf van m’n eten a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8.%20Gymnasten%201%20(Small)" descr=""/>
          <p:cNvPicPr/>
          <p:nvPr/>
        </p:nvPicPr>
        <p:blipFill>
          <a:blip r:embed="rId1"/>
          <a:stretch/>
        </p:blipFill>
        <p:spPr>
          <a:xfrm>
            <a:off x="228600" y="169920"/>
            <a:ext cx="8686800" cy="6535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Gymn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9.%20Hert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Waakzaam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2.%20Ingepak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15228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Brush Script MT"/>
              </a:rPr>
              <a:t>Klik met linker muisknop voor volgende 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Brush Script MT"/>
              </a:rPr>
              <a:t>Ingep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0.%20Pelikan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Verga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1.%20Merel%201%20(Small)" descr=""/>
          <p:cNvPicPr/>
          <p:nvPr/>
        </p:nvPicPr>
        <p:blipFill>
          <a:blip r:embed="rId1"/>
          <a:stretch/>
        </p:blipFill>
        <p:spPr>
          <a:xfrm>
            <a:off x="228600" y="169920"/>
            <a:ext cx="8686800" cy="653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Het eten is kl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2.%20De%20kleine%20zweefvlieg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De kleine zweefvli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3.%20Boeing%20747%202%20(Small)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Boeing 7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4.%20Vlinder%201%20(Small)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Laven aan de nectar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5.%20Roodborstje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Brush Script MT"/>
              </a:rPr>
              <a:t>Roodbors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6.%20Moeder%20en%20kin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Rustuur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7.%20Aanvalluh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Aanvallu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8.%20Momfer%20de%20Mol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Brush Script MT"/>
              </a:rPr>
              <a:t>Momfer de 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9.%20Libelle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Li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3.%20Liefde%20is%20...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Liefde is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30.%20Zeevrucht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Zeevr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31.%20Gnoe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Grazen in de ochtend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2.%20Luipaar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Prooi in 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33.%20Hallo%201%20(Small)" descr=""/>
          <p:cNvPicPr/>
          <p:nvPr/>
        </p:nvPicPr>
        <p:blipFill>
          <a:blip r:embed="rId1"/>
          <a:stretch/>
        </p:blipFill>
        <p:spPr>
          <a:xfrm>
            <a:off x="228600" y="169920"/>
            <a:ext cx="8686800" cy="653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Brush Script MT"/>
              </a:rPr>
              <a:t>Zeg maar dag met je handj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34.%20Pak%20me%20als%20je%20kun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Heerlijk ko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35.%20Boo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Spinnij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36.%20Kat%20en%20muis%201%20(Small)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Kat en m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7.%20De%20laatste%20hand%20aan%20het%20nes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De laatste hand aan het nest le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8.%20Samen%20de%20wereld%20verkenn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Brush Script MT"/>
              </a:rPr>
              <a:t>Samen de wereld v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9.%20Nieuwsgierig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Nieuwsgierig Aag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4.%20Behaard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Beh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40.%20Onder%20moeder's%20paraplu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Onder moeder’s paraplu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41.%20Dat%20gaat%20de%20mist%20in%202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Dat gaat de mis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42.%20Daar%20moet%20je%20lef%20voor%20hebben%201%20(Small)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99"/>
                </a:solidFill>
                <a:latin typeface="Brush Script MT"/>
              </a:rPr>
              <a:t>Daar moet je lef voor heb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43.%20Paardenkracht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Brush Script MT"/>
              </a:rPr>
              <a:t>Paardenkr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09720" y="1000080"/>
            <a:ext cx="373392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 I N D E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81640" y="537228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ac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ogstrelend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ot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5.%20Hier%20ben%20ik%20de%20baas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Brush Script MT"/>
              </a:rPr>
              <a:t>Hier ben ik de b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6.%20Babyrog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Baby 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7.%20Even%20poseren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9720" y="62532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Brush Script MT"/>
              </a:rPr>
              <a:t>Ik wil alleen maar in de Playb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8.%20Winterdip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Winterd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9.%20Plek%20delict%201%20(Small)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3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09720" y="625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“</a:t>
            </a:r>
            <a:r>
              <a:rPr b="0" lang="nl-NL" sz="2400" spc="-1" strike="noStrike">
                <a:solidFill>
                  <a:srgbClr val="ffcc00"/>
                </a:solidFill>
                <a:latin typeface="Brush Script MT"/>
              </a:rPr>
              <a:t>Plaats delic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15:50:03Z</dcterms:created>
  <dc:creator>Paco</dc:creator>
  <dc:description/>
  <dc:language>en-US</dc:language>
  <cp:lastModifiedBy>BMS</cp:lastModifiedBy>
  <dcterms:modified xsi:type="dcterms:W3CDTF">2007-01-13T10:52:09Z</dcterms:modified>
  <cp:revision>15</cp:revision>
  <dc:subject/>
  <dc:title>Dieren deel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lpwstr>13-1-2007</vt:lpwstr>
  </property>
  <property fmtid="{D5CDD505-2E9C-101B-9397-08002B2CF9AE}" pid="3" name="Editor">
    <vt:lpwstr>Paco</vt:lpwstr>
  </property>
</Properties>
</file>