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i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6C3-E8E4-4ACD-9330-2634031A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73D-93EC-4D0C-8259-3D8CEC8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B34-3BC6-4B92-A774-30E5F15F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B48-8AFC-4985-87A3-5EE7D20C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1CB7-B69E-46F8-A6E6-DCF59DCB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445A-3789-4BFC-82A0-B65334F2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1AD-452C-4BDD-862A-542E1646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CCDA-3B4F-4CCB-9FE6-62E8534F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74B-634E-4AE4-A713-07F11838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06E1-A2BD-4D99-B0B4-F73116FA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F8B5-EE08-441B-BCF3-33946F9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C03-1AD1-46AB-AC18-B39D3D6E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4D94-CD42-45E6-9AD8-527B38E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621-A5B7-4A1D-9230-3D64A61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F85E-0918-4689-AF62-DE4A0402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FC1-8361-4A0B-B618-1F8C53B3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A9D5-DC1A-471E-8F2E-65BD1579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61E-14FE-4E87-B761-25F20AE4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A1E-6CE3-4279-A772-360966C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4E6-BF57-4750-9C7C-B142472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284-6514-4073-AC96-C671BE8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01C-49A4-49BC-A2E8-B4F318B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955-1E6F-4590-8539-44855C7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852-A9B7-43E0-B79B-694CB39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6B98-5CA0-4646-BAB7-B0A194CE4AF6}" type="slidenum">
              <a:rPr b="0" lang="pt-B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5B8-0CE7-4EFE-BC48-6A16A9DD46D0}" type="slidenum"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magin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37880"/>
            <a:ext cx="914400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RESTE ATENÇÃ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AO QUE VOCÊ VAI LER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ahoma"/>
              </a:rPr>
              <a:t>DEPOIS DE LER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ahoma"/>
              </a:rPr>
              <a:t>VOCÊ VAI SAB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ahoma"/>
              </a:rPr>
              <a:t>A RAZÃO PELA QUAL ISTO FOI ENVIADO A VOCÊ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6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83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 QUE DEVEMOS ENTENDER É QUE NOSSAS NECESSIDADES FORAM ATENDIDAS, NOSSOS DESEJOS PREENCHIDOS E OS TRABALHOS DELAS FEITO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309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AS SUAS ORAÇÕES FORAM ATENDIDA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 AGORA, É TEMPO DE I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23624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NDO PESSOAS ENTRAM EM NOSSAS VIDAS 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TAÇ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... É PORQUE CHEGOU SUA VEZ DE DIVIDIR, CRESCER E APRENDE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309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TRAZEM PARA VOCÊ A EXPERIÊNCIA DA PAZ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U FAZEM VOCÊ RI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7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7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PODERÃO ENSINAR ALGO QUE VOCÊ NUNCA FEZ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4536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, GERALMENTE, DÃO UMA QUANTIDADE ENORME DE PRAZE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ACREDITE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É REAL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9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MAS, SOMENTE, 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TAÇ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31320"/>
            <a:ext cx="9144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RELACIONAMENTOS DE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VIDA INTEIRA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... ENSINAM LIÇÕES PARA A VIDA INTEIRA. COISAS QUE VOCÊ DEVE CONSTRUIR PARA TER UMA FORMAÇÃO EMOCIONAL SÓLID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3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537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SUA TAREFA É ACEITAR A LIÇÃO, AMAR A PESSOA E COLOCAR O QUE VOCÊ APRENDEU EM USO, EM TODOS OS OUTROS RELACIONAMENTOS E ÁREAS DE SUA VID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4080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É DITO QUE O AMOR É CEGO, MAS A AMIZADE É CLARIVIDENT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OBRIGADO, POR SER PARTE DE MINHA VIDA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3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23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ESSOAS ENTRAM NA SUA VIDA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RAZ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TAÇÃ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U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VIDA INTEIRA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9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2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60720"/>
            <a:ext cx="9144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ARE AQUI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.. E SIMPLESMENT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3300"/>
                </a:solidFill>
                <a:latin typeface="Tahoma"/>
              </a:rPr>
              <a:t>SORRIA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3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9192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ESTA ÚLTIMA PARTE É PARA MOSTRAR ÀS PESSOAS QUE VOCÊ AS AMA E PARA VER QUANTAS PESSOAS AMAM VOCÊ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ENVIE ESSE ARQUIVO PARA SEUS AMIGOS, INCLUINDO A PESSOA QUE TE ENVIOU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NENHUMA RESPOSTA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PRECISA TRABALHAR SUA TÉCNICA PESSO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DUAS RESPOSTA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É LEGAL, MAS PRECISA SER MAIS EXTROVERTI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QUATRO RESPOSTA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CATIVOU BEM SEUS AMIG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SEIS RESPOSTA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É FRANCAMENTE POPULA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OITO RESPOSTAS OU MAI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É TOTALMENTE IMPORTANTE 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(PROVAVELMENTE, ESTA SEJA A RAZÃO DE VOCÊ ESTAR EM MINHA LISTA)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2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3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3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9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3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39920"/>
            <a:ext cx="914400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Tahoma"/>
              </a:rPr>
              <a:t>TRABALHE COMO SE VOCÊ NÃO PRECISASSE DO DINHEIR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Tahoma"/>
              </a:rPr>
              <a:t>AME COMO SE VOCÊ NUNCA TIVESSE SIDO MAGOAD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Tahoma"/>
              </a:rPr>
              <a:t>DANCE COMO SE NINGUÉM ESTIVESSE OBSERVAND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O MAIOR RISCO DA VIDA É NÃO FAZER NAD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Tahoma"/>
              </a:rPr>
              <a:t>ESPERO QUE VOCÊ RECEBA, NO MÍNIMO, OITO RESPOSTAS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7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3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4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3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3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3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23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NDO PERCEB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L MOTIVO É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VOCÊ VAI SAB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 QUE FAZ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COM CADA PESSO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6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3624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NDO ALGUÉM ESTÁ EM SUA VIDA 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RAZ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... É, GERALMENTE, PARA SUPRIR UMA NECESSIDADE QUE VOCÊ DEMONSTROU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162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VÊM PARA AUXILIAR EM UMA DIFICULDADE, FORNECER APOIO E ORIENTAÇÃO, AJUDAR FÍSICA, EMOCIAL OU ESPIRITUALMENT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309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PODERÃO PARECER DÁDIVA DE DEUS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E SÃO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77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ESTÃO LÁ PEL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RAZ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QUE VOCÊ PRECISA QUE ESTEJAM LÁ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9500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NTÃO, SEM NENHUMA ATITUDE ERRADA DE SUA PARTE OU EM UMA HORA INCONVENIENTE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STA PESSOA VAI DIZER OU FAZER ALGUMA COISA PARA LEVAR ESSA RELAÇÃO A UM FIM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4080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ÀS VEZES,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SAS PESSOAS MORREM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ÀS VEZES,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LAS SIMPLESMENTE SE V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ÀS VEZES,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LAS AGEM E TE FORÇAM A TOMAR UMA POSIÇ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2:36:57Z</dcterms:created>
  <dc:creator>hedery</dc:creator>
  <dc:description/>
  <dc:language>en-US</dc:language>
  <cp:lastModifiedBy>alessandra</cp:lastModifiedBy>
  <dcterms:modified xsi:type="dcterms:W3CDTF">2006-04-12T11:20:44Z</dcterms:modified>
  <cp:revision>4</cp:revision>
  <dc:subject/>
  <dc:title>Apresentação do PowerPoint</dc:title>
</cp:coreProperties>
</file>