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in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DC4-B33C-4491-A8F8-1DAB1832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ABE-3572-4A98-8998-536FF76F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1A9-0191-4D5F-823B-4E55134F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512-1CFB-4FCA-A25F-68D1596D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7DC1-D85B-4D89-B042-F6622639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9F47-E4D2-4B69-AE8C-D71E7DE7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37EA-FA6E-4A27-80BB-29D7F755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6E28-384E-4265-BAB4-B5E2686B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39DA-D924-4693-B5E9-60A9852C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3437-E5DF-4512-BBA1-0FF53079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3BDA-009A-45A7-9FB4-784BF650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687-21CA-4BB9-9AF2-C4A69CA8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E63B-47A6-475F-BE0A-F9CF55F3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5E26-AD02-473E-B16E-15F2D0A6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409A-D2DD-4693-880C-5076AE54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39B9-7573-4C0D-AFDE-95672022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1568-FCE4-459A-A006-F449F91B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DD5-D890-454B-BA80-693BEF39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4903-0860-4C2D-AE2B-6D7A33D5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17B-04ED-4177-8CA1-7CCE30D7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4EB-2CE3-4000-AF62-FA6F91A0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826-B4E0-48CB-BD49-9C6E1CD9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FB6-786D-40D4-92A0-E3CB5075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F4E-41E9-4A66-8D17-68E3BDA2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7328-B632-4EAC-909B-22A1484AF137}" type="slidenum">
              <a:rPr b="0" lang="pt-BR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5F96-0C3F-463E-8978-05E9859ABB1A}" type="slidenum">
              <a:rPr b="0" lang="pt-BR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Imagin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37880"/>
            <a:ext cx="914400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PRESTE ATENÇÃO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AO QUE VOCÊ VAI LER!!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ahoma"/>
              </a:rPr>
              <a:t>DEPOIS DE LER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ahoma"/>
              </a:rPr>
              <a:t>VOCÊ VAI SAB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ahoma"/>
              </a:rPr>
              <a:t>A RAZÃO PELA QUAL ISTO FOI ENVIADO A VOCÊ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6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4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3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6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3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3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832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O QUE DEVEMOS ENTENDER É QUE NOSSAS NECESSIDADES FORAM ATENDIDAS, NOSSOS DESEJOS PREENCHIDOS E OS TRABALHOS DELAS FEITO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3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30904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AS SUAS ORAÇÕES FORAM ATENDIDA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 AGORA, É TEMPO DE IR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3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8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3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236240"/>
            <a:ext cx="91440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QUANDO PESSOAS ENTRAM EM NOSSAS VIDAS POR UMA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ESTAÇÃO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 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5b5249"/>
                </a:solidFill>
                <a:latin typeface="Tahoma"/>
              </a:rPr>
              <a:t>... É PORQUE CHEGOU SUA VEZ DE DIVIDIR, CRESCER E APRENDER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3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3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30904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LAS TRAZEM PARA VOCÊ A EXPERIÊNCIA DA PAZ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OU FAZEM VOCÊ RIR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7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3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772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LAS PODERÃO ENSINAR ALGO QUE VOCÊ NUNCA FEZ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3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4536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LAS, GERALMENTE, DÃO UMA QUANTIDADE ENORME DE PRAZER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ACREDITE!!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É REAL!!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3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3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3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9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3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2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MAS, SOMENTE, POR UMA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ESTAÇÃO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31320"/>
            <a:ext cx="91440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RELACIONAMENTOS DE UMA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VIDA INTEIRA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 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5b5249"/>
                </a:solidFill>
                <a:latin typeface="Tahoma"/>
              </a:rPr>
              <a:t>... ENSINAM LIÇÕES PARA A VIDA INTEIRA. COISAS QUE VOCÊ DEVE CONSTRUIR PARA TER UMA FORMAÇÃO EMOCIONAL SÓLIDA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3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8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3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55376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SUA TAREFA É ACEITAR A LIÇÃO, AMAR A PESSOA E COLOCAR O QUE VOCÊ APRENDEU EM USO, EM TODOS OS OUTROS RELACIONAMENTOS E ÁREAS DE SUA VIDA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3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40800"/>
            <a:ext cx="9144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É DITO QUE O AMOR É CEGO, MAS A AMIZADE É CLARIVIDENTE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OBRIGADO, POR SER PARTE DE MINHA VIDA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3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2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3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22328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PESSOAS ENTRAM NA SUA VIDA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POR UMA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RAZÃO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POR UMA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ESTAÇÃO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OU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POR UMA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VIDA INTEIRA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8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3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9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2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260720"/>
            <a:ext cx="91440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PARE AQUI 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... E SIMPLESMENT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ff3300"/>
                </a:solidFill>
                <a:latin typeface="Tahoma"/>
              </a:rPr>
              <a:t>SORRIA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3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3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3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91920"/>
            <a:ext cx="914400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ff"/>
                </a:solidFill>
                <a:latin typeface="Tahoma"/>
              </a:rPr>
              <a:t>ESTA ÚLTIMA PARTE É PARA MOSTRAR ÀS PESSOAS QUE VOCÊ AS AMA E PARA VER QUANTAS PESSOAS AMAM VOCÊ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ff"/>
                </a:solidFill>
                <a:latin typeface="Tahoma"/>
              </a:rPr>
              <a:t>ENVIE ESSE ARQUIVO PARA SEUS AMIGOS, INCLUINDO A PESSOA QUE TE ENVIOU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Tahoma"/>
              </a:rPr>
              <a:t>NENHUMA RESPOSTA:</a:t>
            </a:r>
            <a:r>
              <a:rPr b="1" lang="pt-BR" sz="20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VOCÊ PRECISA TRABALHAR SUA TÉCNICA PESSO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Tahoma"/>
              </a:rPr>
              <a:t>DUAS RESPOSTAS:</a:t>
            </a:r>
            <a:r>
              <a:rPr b="1" lang="pt-BR" sz="20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VOCÊ É LEGAL, MAS PRECISA SER MAIS EXTROVERTID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Tahoma"/>
              </a:rPr>
              <a:t>QUATRO RESPOSTAS:</a:t>
            </a:r>
            <a:r>
              <a:rPr b="1" lang="pt-BR" sz="20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VOCÊ CATIVOU BEM SEUS AMIGO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Tahoma"/>
              </a:rPr>
              <a:t>SEIS RESPOSTAS:</a:t>
            </a:r>
            <a:r>
              <a:rPr b="1" lang="pt-BR" sz="20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VOCÊ É FRANCAMENTE POPULA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Tahoma"/>
              </a:rPr>
              <a:t>OITO RESPOSTAS OU MAIS:</a:t>
            </a:r>
            <a:r>
              <a:rPr b="1" lang="pt-BR" sz="20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VOCÊ É TOTALMENTE IMPORTANTE </a:t>
            </a:r>
            <a:r>
              <a:rPr b="1" lang="pt-BR" sz="2000" spc="-1" strike="noStrike">
                <a:solidFill>
                  <a:srgbClr val="0066ff"/>
                </a:solidFill>
                <a:latin typeface="Tahoma"/>
              </a:rPr>
              <a:t>(PROVAVELMENTE, ESTA SEJA A RAZÃO DE VOCÊ ESTAR EM MINHA LISTA)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3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3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2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3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9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3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3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89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3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3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39920"/>
            <a:ext cx="9144000" cy="59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ff"/>
                </a:solidFill>
                <a:latin typeface="Tahoma"/>
              </a:rPr>
              <a:t>TRABALHE COMO SE VOCÊ NÃO PRECISASSE DO DINHEIR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ff"/>
                </a:solidFill>
                <a:latin typeface="Tahoma"/>
              </a:rPr>
              <a:t>AME COMO SE VOCÊ NUNCA TIVESSE SIDO MAGOAD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ff"/>
                </a:solidFill>
                <a:latin typeface="Tahoma"/>
              </a:rPr>
              <a:t>DANCE COMO SE NINGUÉM ESTIVESSE OBSERVAND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5b5249"/>
                </a:solidFill>
                <a:latin typeface="Tahoma"/>
              </a:rPr>
              <a:t>O MAIOR RISCO DA VIDA É NÃO FAZER NADA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Tahoma"/>
              </a:rPr>
              <a:t>ESPERO QUE VOCÊ RECEBA, NO MÍNIMO, OITO RESPOSTAS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3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7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3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4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3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3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3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22328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QUANDO PERCEBE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QUAL MOTIVO É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VOCÊ VAI SABE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O QUE FAZE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COM CADA PESSOA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3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3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7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3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6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3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36240"/>
            <a:ext cx="91440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QUANDO ALGUÉM ESTÁ EM SUA VIDA POR UMA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RAZÃO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 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5b5249"/>
                </a:solidFill>
                <a:latin typeface="Tahoma"/>
              </a:rPr>
              <a:t>... É, GERALMENTE, PARA SUPRIR UMA NECESSIDADE QUE VOCÊ DEMONSTROU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3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3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1628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LAS VÊM PARA AUXILIAR EM UMA DIFICULDADE, FORNECER APOIO E ORIENTAÇÃO, AJUDAR FÍSICA, EMOCIAL OU ESPIRITUALMENTE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3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30904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LAS PODERÃO PARECER DÁDIVA DE DEUS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5b5249"/>
                </a:solidFill>
                <a:latin typeface="Tahoma"/>
              </a:rPr>
              <a:t>E SÃO!!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3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1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772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LAS ESTÃO LÁ PELA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RAZÃO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 QUE VOCÊ PRECISA QUE ESTEJAM LÁ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3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395000"/>
            <a:ext cx="9144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NTÃO, SEM NENHUMA ATITUDE ERRADA DE SUA PARTE OU EM UMA HORA INCONVENIENTE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ESTA PESSOA VAI DIZER OU FAZER ALGUMA COISA PARA LEVAR ESSA RELAÇÃO A UM FIM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3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3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40800"/>
            <a:ext cx="9144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ÀS VEZES,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ESSAS PESSOAS MORREM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ÀS VEZES,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ELAS SIMPLESMENTE SE VÃO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ÀS VEZES, </a:t>
            </a:r>
            <a:r>
              <a:rPr b="1" lang="pt-BR" sz="4000" spc="-1" strike="noStrike">
                <a:solidFill>
                  <a:srgbClr val="ff3300"/>
                </a:solidFill>
                <a:latin typeface="Tahoma"/>
              </a:rPr>
              <a:t>ELAS AGEM E TE FORÇAM A TOMAR UMA POSIÇÃO</a:t>
            </a:r>
            <a:r>
              <a:rPr b="1" lang="pt-BR" sz="4000" spc="-1" strike="noStrike">
                <a:solidFill>
                  <a:srgbClr val="0066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1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3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3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2:36:57Z</dcterms:created>
  <dc:creator>hedery</dc:creator>
  <dc:description/>
  <dc:language>en-US</dc:language>
  <cp:lastModifiedBy>alessandra</cp:lastModifiedBy>
  <dcterms:modified xsi:type="dcterms:W3CDTF">2006-04-12T11:20:44Z</dcterms:modified>
  <cp:revision>4</cp:revision>
  <dc:subject/>
  <dc:title>Apresentação do PowerPoint</dc:title>
</cp:coreProperties>
</file>